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A3F-0548-484C-BBCE-B8CEF6A2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C69-8B15-43AA-B2D9-E0759A83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180-083D-47A7-81A7-BE4293FB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381-F229-4FAC-AC0A-DB97B4B3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EDD9-87BB-4684-8AEC-F0F0B996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526D-3EF0-4CAA-BDBF-FD217740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376F-E98E-404E-B452-C63BED22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FEF3-FB5F-449C-A6BF-3320D5B0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A3D7-EE8E-4258-867B-8346EC95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914-3AA7-4EC0-93D5-A3B547AB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9075-84FA-4099-8058-5693E4F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204-1AC5-4C6E-A70B-70CA9A5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67B3-A014-4FB8-8558-68C813C8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1C3F-E701-4C5F-88F1-FD802F73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7E98-C062-47CC-B3E0-9F7856A4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68AD-CF57-412B-9168-8EBCF4C7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EF67-C974-41F7-B01D-450F53A1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8B1-DFA3-477F-AA7F-A84D8793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0D6-05E7-4414-BCE8-737E8CD3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93E-0ADD-4822-ACCB-A160AC78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017-0740-4FBE-8FF3-1C4E0F32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D36-E399-41D0-BDD7-1DD1249B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0DD-8A47-4290-99D5-E75E168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E79-1327-4EF5-9FA8-4A6561C5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47600"/>
            <a:ext cx="0" cy="512604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161040"/>
            <a:ext cx="86652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f8c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  <a:ea typeface="굴림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-101880" y="6482880"/>
            <a:ext cx="5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1D41-0026-4928-A495-ED416124C2BB}" type="slidenum">
              <a: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78120" y="-9360"/>
            <a:ext cx="7269120" cy="688644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2b81a6"/>
              </a:gs>
              <a:gs pos="100000">
                <a:srgbClr val="37a3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E957-7B04-4C1D-93DA-5F1E8C9993BE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6e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6e6e6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6e6e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11160" y="1455840"/>
            <a:ext cx="0" cy="312876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1440" y="-4680"/>
            <a:ext cx="1552680" cy="1585800"/>
            <a:chOff x="271440" y="-4680"/>
            <a:chExt cx="1552680" cy="1585800"/>
          </a:xfrm>
        </p:grpSpPr>
        <p:sp>
          <p:nvSpPr>
            <p:cNvPr id="94" name=""/>
            <p:cNvSpPr/>
            <p:nvPr/>
          </p:nvSpPr>
          <p:spPr>
            <a:xfrm>
              <a:off x="1036800" y="-4680"/>
              <a:ext cx="787320" cy="158580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1440" y="0"/>
              <a:ext cx="895320" cy="29700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71640" y="-9360"/>
            <a:ext cx="1895400" cy="151920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1640" y="-14400"/>
            <a:ext cx="2138400" cy="158112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-14400"/>
            <a:ext cx="2338560" cy="162720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  <a:ea typeface="굴림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  <a:ea typeface="굴림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76320" y="1552680"/>
            <a:ext cx="0" cy="2957400"/>
          </a:xfrm>
          <a:prstGeom prst="line">
            <a:avLst/>
          </a:prstGeom>
          <a:ln w="9360">
            <a:solidFill>
              <a:srgbClr val="37a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esign Template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808280" y="-9360"/>
            <a:ext cx="7332480" cy="6946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68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68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3760" y="198432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557856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1" y="0"/>
                </a:moveTo>
                <a:arcTo wR="2521" hR="2521" stAng="16200000" swAng="-5400000"/>
                <a:lnTo>
                  <a:pt x="0" y="35172"/>
                </a:lnTo>
                <a:arcTo wR="2521" hR="2521" stAng="10800000" swAng="-5400000"/>
                <a:lnTo>
                  <a:pt x="19079" y="37693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5620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26920" y="2101680"/>
          <a:ext cx="230508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1680"/>
                    <a:ext cx="23050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365640" y="2184480"/>
          <a:ext cx="246852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18448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058080" y="2044800"/>
          <a:ext cx="2468520" cy="323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8080" y="204480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36D-69E0-4C63-B12F-69C0C30296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3040" y="1353960"/>
            <a:ext cx="4353120" cy="507960"/>
            <a:chOff x="473040" y="1353960"/>
            <a:chExt cx="4353120" cy="507960"/>
          </a:xfrm>
        </p:grpSpPr>
        <p:sp>
          <p:nvSpPr>
            <p:cNvPr id="257" name=""/>
            <p:cNvSpPr/>
            <p:nvPr/>
          </p:nvSpPr>
          <p:spPr>
            <a:xfrm>
              <a:off x="709560" y="1369800"/>
              <a:ext cx="411660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61600" y="145692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0" name=""/>
          <p:cNvGraphicFramePr/>
          <p:nvPr/>
        </p:nvGraphicFramePr>
        <p:xfrm>
          <a:off x="330120" y="843120"/>
          <a:ext cx="79232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843120"/>
                    <a:ext cx="79232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2F0-E67D-474D-B70F-72EE8BE7B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57240" y="1735200"/>
            <a:ext cx="6029640" cy="709560"/>
            <a:chOff x="1857240" y="1735200"/>
            <a:chExt cx="6029640" cy="709560"/>
          </a:xfrm>
        </p:grpSpPr>
        <p:sp>
          <p:nvSpPr>
            <p:cNvPr id="110" name=""/>
            <p:cNvSpPr/>
            <p:nvPr/>
          </p:nvSpPr>
          <p:spPr>
            <a:xfrm>
              <a:off x="2185920" y="1763640"/>
              <a:ext cx="5700960" cy="6746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57240" y="1741320"/>
              <a:ext cx="1301760" cy="70344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57240" y="2712960"/>
            <a:ext cx="6029640" cy="709560"/>
            <a:chOff x="1857240" y="2712960"/>
            <a:chExt cx="6029640" cy="709560"/>
          </a:xfrm>
        </p:grpSpPr>
        <p:sp>
          <p:nvSpPr>
            <p:cNvPr id="115" name=""/>
            <p:cNvSpPr/>
            <p:nvPr/>
          </p:nvSpPr>
          <p:spPr>
            <a:xfrm>
              <a:off x="2185920" y="2741760"/>
              <a:ext cx="5700960" cy="6746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81760" y="283860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57240" y="3691080"/>
            <a:ext cx="6029640" cy="709560"/>
            <a:chOff x="1857240" y="3691080"/>
            <a:chExt cx="6029640" cy="709560"/>
          </a:xfrm>
        </p:grpSpPr>
        <p:sp>
          <p:nvSpPr>
            <p:cNvPr id="120" name=""/>
            <p:cNvSpPr/>
            <p:nvPr/>
          </p:nvSpPr>
          <p:spPr>
            <a:xfrm>
              <a:off x="2185920" y="3719520"/>
              <a:ext cx="5700960" cy="6746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57240" y="3697200"/>
              <a:ext cx="1301760" cy="70344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857240" y="4668840"/>
            <a:ext cx="6029640" cy="709560"/>
            <a:chOff x="1857240" y="4668840"/>
            <a:chExt cx="6029640" cy="709560"/>
          </a:xfrm>
        </p:grpSpPr>
        <p:sp>
          <p:nvSpPr>
            <p:cNvPr id="125" name=""/>
            <p:cNvSpPr/>
            <p:nvPr/>
          </p:nvSpPr>
          <p:spPr>
            <a:xfrm>
              <a:off x="2185920" y="4697280"/>
              <a:ext cx="570096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DB9-6DB5-43DC-AE13-7DCD6240E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204-59B5-4A65-9302-C098D7972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89cfe8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37a3d1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73040" y="1353960"/>
            <a:ext cx="4353120" cy="507960"/>
            <a:chOff x="473040" y="1353960"/>
            <a:chExt cx="4353120" cy="507960"/>
          </a:xfrm>
        </p:grpSpPr>
        <p:sp>
          <p:nvSpPr>
            <p:cNvPr id="149" name=""/>
            <p:cNvSpPr/>
            <p:nvPr/>
          </p:nvSpPr>
          <p:spPr>
            <a:xfrm>
              <a:off x="709560" y="1369800"/>
              <a:ext cx="411660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61600" y="145692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958-1391-479E-A15B-54F6FC457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B1E-3973-485D-A3F3-A4D2ADDF4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175" name="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CC7-7662-4483-924E-5C276A5F86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182" name="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360" y="1143000"/>
              <a:ext cx="391428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185" name="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08520" y="1143000"/>
              <a:ext cx="391428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>
              <a:gd name="textAreaLeft" fmla="*/ 0 w 4327560"/>
              <a:gd name="textAreaRight" fmla="*/ 4327920 w 4327560"/>
              <a:gd name="textAreaTop" fmla="*/ 0 h 4327560"/>
              <a:gd name="textAreaBottom" fmla="*/ 4327920 h 432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2DA-3B54-449F-B383-230F56991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4" y="0"/>
                </a:moveTo>
                <a:arcTo wR="3134" hR="3134" stAng="16200000" swAng="-5400000"/>
                <a:lnTo>
                  <a:pt x="0" y="27306"/>
                </a:lnTo>
                <a:arcTo wR="3134" hR="3134" stAng="10800000" swAng="-5400000"/>
                <a:lnTo>
                  <a:pt x="18466" y="30440"/>
                </a:lnTo>
                <a:arcTo wR="3134" hR="3134" stAng="5400000" swAng="-5400000"/>
                <a:lnTo>
                  <a:pt x="21600" y="3134"/>
                </a:lnTo>
                <a:arcTo wR="3134" hR="3134" stAng="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7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4280" y="191772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4280" y="596916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437-BBD9-4F59-8EF1-DFDC091C40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29B-A88B-4EB2-ACDD-DAD59BAB80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44:04Z</dcterms:created>
  <dc:creator>SungHa,Park</dc:creator>
  <dc:description/>
  <dc:language>en-US</dc:language>
  <cp:lastModifiedBy>SungHa,Park</cp:lastModifiedBy>
  <dcterms:modified xsi:type="dcterms:W3CDTF">2004-03-26T04:51:28Z</dcterms:modified>
  <cp:revision>1</cp:revision>
  <dc:subject/>
  <dc:title>PowerPoint Design Templat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8095602</vt:r8>
  </property>
  <property fmtid="{D5CDD505-2E9C-101B-9397-08002B2CF9AE}" pid="3" name="_AuthorEmail">
    <vt:lpwstr>shpark@guilddesign.com</vt:lpwstr>
  </property>
  <property fmtid="{D5CDD505-2E9C-101B-9397-08002B2CF9AE}" pid="4" name="_AuthorEmailDisplayName">
    <vt:lpwstr>Sung Ha, Park</vt:lpwstr>
  </property>
  <property fmtid="{D5CDD505-2E9C-101B-9397-08002B2CF9AE}" pid="5" name="_EmailSubject">
    <vt:lpwstr>영문 파워포인트 마스타 페이지 </vt:lpwstr>
  </property>
  <property fmtid="{D5CDD505-2E9C-101B-9397-08002B2CF9AE}" pid="6" name="_ReviewingToolsShownOnce">
    <vt:lpwstr/>
  </property>
</Properties>
</file>