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7B8-7037-4CC2-9A54-1D99109B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8765-A753-465F-8EF1-B1A64139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DEED-5DAA-4D29-89CE-CEF29DAA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9576-7B5B-4277-AB59-8980DA355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E08B-6C5A-492F-A6F6-73937F11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E2BC-B61C-4AEE-9AFF-BB0276FA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9B68-5C2C-4FEA-B7CC-E88DDCBB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5659-8576-4FEE-A5CC-4290C4B5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3B8D-A542-441D-A142-64A433A8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2CF7-62FB-4783-AAF0-244D66DD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5029-3F6B-476D-8BFB-A297EB6A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8616-31AB-4E3E-A7DA-5A518862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9B33-568E-4360-9A52-710B7C10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12BE-7B64-4846-A738-8EDAA94F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FDA1-C060-486F-B571-CBCBDE26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0E74-3784-478B-B5B1-2DA37E01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83FB-8350-4274-8134-B0617DCD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C5DB-2783-45B6-A5F2-F4D1D73A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7403-7B4C-460D-AF34-301A8992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C9EA-EBCE-48B8-9DF9-9DFDCA71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C43-E43B-4A5C-9202-8E23AD1A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4133-4E5E-4902-B596-FACDCF76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C341-2441-432F-AA97-448CA93C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FD8E-5A22-427E-8385-821E2DFA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46AD-D693-4F08-880F-C192B0579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7274-E241-46F4-9BD2-A74DF9A09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342880"/>
            <a:ext cx="723888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</a:rPr>
              <a:t>中国风</a:t>
            </a:r>
            <a:r>
              <a:rPr b="1" lang="en-US" sz="4000" spc="-1" strike="noStrike">
                <a:solidFill>
                  <a:srgbClr val="000000"/>
                </a:solidFill>
                <a:latin typeface="华文行楷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内页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首页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3198960" y="2457360"/>
            <a:ext cx="32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观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PPT模板 </cp:keywords>
  <dc:language>en-US</dc:language>
  <cp:lastModifiedBy>微软中国</cp:lastModifiedBy>
  <dcterms:modified xsi:type="dcterms:W3CDTF">2010-10-15T16:50:08Z</dcterms:modified>
  <cp:revision>13</cp:revision>
  <dc:subject/>
  <dc:title>中国风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