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4.jpeg" ContentType="image/jpeg"/>
  <Override PartName="/ppt/media/image25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11.png" ContentType="image/png"/>
  <Override PartName="/ppt/media/image9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DE4-A9AD-4910-87B0-5EF47BAC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4520" y="474012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56E-D251-495F-B6F6-4E9C97E7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1517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77A-CCFC-4554-88CC-4FD6E14E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62900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4348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61452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162900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264348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762-E462-46A7-AAFC-8A24A6B2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F77B-04D7-4CC7-9B2F-0CA0060C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E623-2072-47CB-8F5B-3BD28F95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5E41-5068-4FAB-A4C4-FDC55B00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B4DC-41A1-4927-889C-37D6F991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8359-C6CE-41DB-A2BF-47B8DD90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99600" y="1157040"/>
            <a:ext cx="348156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102C-44F5-4C0F-BE3E-EEECC804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56B2-D57F-44E2-B36F-B462F777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B58-1924-47E0-87D7-7357D24B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517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4BF8-1FF5-4832-9DA9-2DF7A3D2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A3DC-ABE7-4EBB-91FE-AA280F70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14520" y="474012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2847-1B80-47EA-B9B0-BA1F7CB3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1517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4AA5-4948-41FF-A723-2F1CF060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2900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4348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1452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162900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264348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A22D-27EA-4F64-B5A9-1E6C5539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877-EFE8-45BD-9840-5097822C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F38-7DB0-4A49-B493-0021F811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2A9-0C3D-40F0-B7A5-D2AF0FAE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399600" y="1157040"/>
            <a:ext cx="348156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7F0-E346-44B1-B2D4-8F72DE2E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B46-5FB5-45B2-BD2A-0409463D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1517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F1D-9EC1-4B1B-9218-ABCC5BF0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155-7C40-4CC5-9E0C-A5AA2E7E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6280"/>
                <a:ext cx="157680" cy="2995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D3A6-CB65-48B9-B03E-B796CA9DF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872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872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836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AF5B-EEC2-4999-AD6C-3A9E871A5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c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</a:t>
            </a:r>
            <a:br>
              <a:rPr sz="28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Arial"/>
              </a:rPr>
              <a:t>作者：天青</a:t>
            </a:r>
            <a:br>
              <a:rPr sz="1600"/>
            </a:br>
            <a:r>
              <a:rPr b="0" lang="zh-CN" sz="1600" spc="-1" strike="noStrike">
                <a:solidFill>
                  <a:srgbClr val="808080"/>
                </a:solidFill>
                <a:latin typeface="Arial"/>
              </a:rPr>
              <a:t>QQ</a:t>
            </a:r>
            <a:r>
              <a:rPr b="0" lang="zh-CN" sz="1600" spc="-1" strike="noStrike">
                <a:solidFill>
                  <a:srgbClr val="808080"/>
                </a:solidFill>
                <a:latin typeface="Arial"/>
              </a:rPr>
              <a:t>交流群</a:t>
            </a:r>
            <a:r>
              <a:rPr b="0" lang="zh-CN" sz="1600" spc="-1" strike="noStrike">
                <a:solidFill>
                  <a:srgbClr val="808080"/>
                </a:solidFill>
                <a:latin typeface="Arial"/>
              </a:rPr>
              <a:t>:60340557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Arial"/>
              </a:rPr>
              <a:t>个人作品 转载请注明出处</a:t>
            </a:r>
            <a:br>
              <a:rPr sz="1600"/>
            </a:br>
            <a:r>
              <a:rPr b="0" lang="zh-CN" sz="1600" spc="-1" strike="noStrike">
                <a:solidFill>
                  <a:srgbClr val="808080"/>
                </a:solidFill>
                <a:latin typeface="Arial"/>
              </a:rPr>
              <a:t>www.378700000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65920" y="6643800"/>
            <a:ext cx="137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未知"/>
          <p:cNvSpPr/>
          <p:nvPr/>
        </p:nvSpPr>
        <p:spPr>
          <a:xfrm>
            <a:off x="393840" y="143496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未知"/>
          <p:cNvSpPr/>
          <p:nvPr/>
        </p:nvSpPr>
        <p:spPr>
          <a:xfrm flipH="1">
            <a:off x="4793400" y="143496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未知"/>
          <p:cNvSpPr/>
          <p:nvPr/>
        </p:nvSpPr>
        <p:spPr>
          <a:xfrm flipV="1">
            <a:off x="393840" y="37681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 flipH="1" flipV="1">
            <a:off x="4793400" y="37681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18" name=""/>
            <p:cNvGrpSpPr/>
            <p:nvPr/>
          </p:nvGrpSpPr>
          <p:grpSpPr>
            <a:xfrm>
              <a:off x="2404080" y="1677240"/>
              <a:ext cx="308520" cy="376920"/>
              <a:chOff x="2404080" y="1677240"/>
              <a:chExt cx="308520" cy="376920"/>
            </a:xfrm>
          </p:grpSpPr>
          <p:sp>
            <p:nvSpPr>
              <p:cNvPr id="419" name="未知"/>
              <p:cNvSpPr/>
              <p:nvPr/>
            </p:nvSpPr>
            <p:spPr>
              <a:xfrm rot="18580800">
                <a:off x="2454120" y="169668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未知"/>
              <p:cNvSpPr/>
              <p:nvPr/>
            </p:nvSpPr>
            <p:spPr>
              <a:xfrm rot="2400000">
                <a:off x="2575080" y="168912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59960" y="182952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24" name=""/>
            <p:cNvGrpSpPr/>
            <p:nvPr/>
          </p:nvGrpSpPr>
          <p:grpSpPr>
            <a:xfrm>
              <a:off x="2404080" y="2540880"/>
              <a:ext cx="308520" cy="376920"/>
              <a:chOff x="2404080" y="2540880"/>
              <a:chExt cx="308520" cy="376920"/>
            </a:xfrm>
          </p:grpSpPr>
          <p:sp>
            <p:nvSpPr>
              <p:cNvPr id="425" name="未知"/>
              <p:cNvSpPr/>
              <p:nvPr/>
            </p:nvSpPr>
            <p:spPr>
              <a:xfrm rot="18580800">
                <a:off x="2454120" y="256032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未知"/>
              <p:cNvSpPr/>
              <p:nvPr/>
            </p:nvSpPr>
            <p:spPr>
              <a:xfrm rot="2400000">
                <a:off x="2575080" y="255276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59960" y="26931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30" name="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31" name="未知"/>
              <p:cNvSpPr/>
              <p:nvPr/>
            </p:nvSpPr>
            <p:spPr>
              <a:xfrm rot="18580800">
                <a:off x="2454120" y="344916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未知"/>
              <p:cNvSpPr/>
              <p:nvPr/>
            </p:nvSpPr>
            <p:spPr>
              <a:xfrm rot="2400000">
                <a:off x="2575080" y="344160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36" name=""/>
            <p:cNvGrpSpPr/>
            <p:nvPr/>
          </p:nvGrpSpPr>
          <p:grpSpPr>
            <a:xfrm>
              <a:off x="2404080" y="4369680"/>
              <a:ext cx="308520" cy="376920"/>
              <a:chOff x="2404080" y="4369680"/>
              <a:chExt cx="308520" cy="376920"/>
            </a:xfrm>
          </p:grpSpPr>
          <p:sp>
            <p:nvSpPr>
              <p:cNvPr id="437" name="未知"/>
              <p:cNvSpPr/>
              <p:nvPr/>
            </p:nvSpPr>
            <p:spPr>
              <a:xfrm rot="18580800">
                <a:off x="2454120" y="438912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未知"/>
              <p:cNvSpPr/>
              <p:nvPr/>
            </p:nvSpPr>
            <p:spPr>
              <a:xfrm rot="2400000">
                <a:off x="2575080" y="438156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59960" y="45219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80640" y="682560"/>
            <a:ext cx="419760" cy="399960"/>
            <a:chOff x="980640" y="682560"/>
            <a:chExt cx="419760" cy="399960"/>
          </a:xfrm>
        </p:grpSpPr>
        <p:sp>
          <p:nvSpPr>
            <p:cNvPr id="447" name=""/>
            <p:cNvSpPr/>
            <p:nvPr/>
          </p:nvSpPr>
          <p:spPr>
            <a:xfrm>
              <a:off x="1117080" y="682560"/>
              <a:ext cx="146880" cy="196200"/>
            </a:xfrm>
            <a:custGeom>
              <a:avLst/>
              <a:gdLst>
                <a:gd name="textAreaLeft" fmla="*/ 34560 w 146880"/>
                <a:gd name="textAreaRight" fmla="*/ 112320 w 14688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4320000">
              <a:off x="1210680" y="752040"/>
              <a:ext cx="147240" cy="196200"/>
            </a:xfrm>
            <a:custGeom>
              <a:avLst/>
              <a:gdLst>
                <a:gd name="textAreaLeft" fmla="*/ 34560 w 147240"/>
                <a:gd name="textAreaRight" fmla="*/ 112680 w 14724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8640000">
              <a:off x="1173960" y="861480"/>
              <a:ext cx="146880" cy="196200"/>
            </a:xfrm>
            <a:custGeom>
              <a:avLst/>
              <a:gdLst>
                <a:gd name="textAreaLeft" fmla="*/ 34560 w 146880"/>
                <a:gd name="textAreaRight" fmla="*/ 112320 w 14688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7280000">
              <a:off x="1022760" y="751680"/>
              <a:ext cx="147240" cy="196200"/>
            </a:xfrm>
            <a:custGeom>
              <a:avLst/>
              <a:gdLst>
                <a:gd name="textAreaLeft" fmla="*/ 34560 w 147240"/>
                <a:gd name="textAreaRight" fmla="*/ 112680 w 14724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2960000">
              <a:off x="1059840" y="857880"/>
              <a:ext cx="146880" cy="196200"/>
            </a:xfrm>
            <a:custGeom>
              <a:avLst/>
              <a:gdLst>
                <a:gd name="textAreaLeft" fmla="*/ 34560 w 146880"/>
                <a:gd name="textAreaRight" fmla="*/ 112320 w 14688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0800000">
            <a:off x="2615760" y="-3618360"/>
            <a:ext cx="13062240" cy="934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72" y="446"/>
                </a:moveTo>
                <a:arcTo wR="10800" hR="10800" stAng="-4408455" swAng="3892486"/>
                <a:lnTo>
                  <a:pt x="10800" y="10800"/>
                </a:lnTo>
                <a:close/>
              </a:path>
              <a:path fill="none" w="21600" h="21600">
                <a:moveTo>
                  <a:pt x="13872" y="446"/>
                </a:moveTo>
                <a:arcTo wR="10800" hR="10800" stAng="-4408455" swAng="3892486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98600" y="487440"/>
            <a:ext cx="563040" cy="583920"/>
            <a:chOff x="498600" y="487440"/>
            <a:chExt cx="563040" cy="583920"/>
          </a:xfrm>
        </p:grpSpPr>
        <p:sp>
          <p:nvSpPr>
            <p:cNvPr id="464" name="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95600" y="50400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68" name="未知"/>
            <p:cNvSpPr/>
            <p:nvPr/>
          </p:nvSpPr>
          <p:spPr>
            <a:xfrm>
              <a:off x="8102520" y="4413240"/>
              <a:ext cx="122400" cy="17712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007480" y="4488120"/>
              <a:ext cx="16092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8007480" y="4581360"/>
              <a:ext cx="160920" cy="112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8100720" y="4590360"/>
              <a:ext cx="122400" cy="1785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8157240" y="4581360"/>
              <a:ext cx="16092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157240" y="4485960"/>
              <a:ext cx="16092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8109720" y="4544640"/>
              <a:ext cx="107640" cy="9288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76" name="未知"/>
            <p:cNvSpPr/>
            <p:nvPr/>
          </p:nvSpPr>
          <p:spPr>
            <a:xfrm>
              <a:off x="7086240" y="5784840"/>
              <a:ext cx="122760" cy="17712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6991200" y="5859720"/>
              <a:ext cx="16128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6991200" y="5952960"/>
              <a:ext cx="161280" cy="112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084440" y="5961960"/>
              <a:ext cx="122760" cy="1785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141320" y="5952960"/>
              <a:ext cx="16128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141320" y="5857560"/>
              <a:ext cx="16128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7093800" y="5916240"/>
              <a:ext cx="108000" cy="9288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 rot="9876600">
            <a:off x="1571760" y="-3269880"/>
            <a:ext cx="13061880" cy="934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72" y="446"/>
                </a:moveTo>
                <a:arcTo wR="10800" hR="10800" stAng="-4408455" swAng="4060051"/>
                <a:lnTo>
                  <a:pt x="10800" y="10800"/>
                </a:lnTo>
                <a:close/>
              </a:path>
              <a:path fill="none" w="21600" h="21600">
                <a:moveTo>
                  <a:pt x="13872" y="446"/>
                </a:moveTo>
                <a:arcTo wR="10800" hR="10800" stAng="-4408455" swAng="4060051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66">
                  <a:alpha val="50196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066680" y="1384200"/>
          <a:ext cx="7238880" cy="379872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512" name="" descr="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356560" y="2538000"/>
            <a:ext cx="1104480" cy="1200960"/>
            <a:chOff x="2356560" y="2538000"/>
            <a:chExt cx="1104480" cy="1200960"/>
          </a:xfrm>
        </p:grpSpPr>
        <p:grpSp>
          <p:nvGrpSpPr>
            <p:cNvPr id="519" name=""/>
            <p:cNvGrpSpPr/>
            <p:nvPr/>
          </p:nvGrpSpPr>
          <p:grpSpPr>
            <a:xfrm>
              <a:off x="2356560" y="2538000"/>
              <a:ext cx="1104480" cy="1200960"/>
              <a:chOff x="2356560" y="2538000"/>
              <a:chExt cx="1104480" cy="1200960"/>
            </a:xfrm>
          </p:grpSpPr>
          <p:sp>
            <p:nvSpPr>
              <p:cNvPr id="520" name=""/>
              <p:cNvSpPr/>
              <p:nvPr/>
            </p:nvSpPr>
            <p:spPr>
              <a:xfrm rot="1848000">
                <a:off x="2505600" y="26874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848000">
                <a:off x="2557800" y="27392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848000">
                <a:off x="2573640" y="33998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256500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197960" y="3299400"/>
            <a:ext cx="1104840" cy="1201320"/>
            <a:chOff x="4197960" y="3299400"/>
            <a:chExt cx="1104840" cy="1201320"/>
          </a:xfrm>
        </p:grpSpPr>
        <p:grpSp>
          <p:nvGrpSpPr>
            <p:cNvPr id="527" name=""/>
            <p:cNvGrpSpPr/>
            <p:nvPr/>
          </p:nvGrpSpPr>
          <p:grpSpPr>
            <a:xfrm>
              <a:off x="4197960" y="3299400"/>
              <a:ext cx="1104840" cy="1201320"/>
              <a:chOff x="4197960" y="3299400"/>
              <a:chExt cx="1104840" cy="1201320"/>
            </a:xfrm>
          </p:grpSpPr>
          <p:sp>
            <p:nvSpPr>
              <p:cNvPr id="528" name="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848000">
                <a:off x="4415040" y="416160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4406760" y="368280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014160" y="2575800"/>
            <a:ext cx="1104480" cy="1200960"/>
            <a:chOff x="6014160" y="2575800"/>
            <a:chExt cx="1104480" cy="1200960"/>
          </a:xfrm>
        </p:grpSpPr>
        <p:grpSp>
          <p:nvGrpSpPr>
            <p:cNvPr id="533" name=""/>
            <p:cNvGrpSpPr/>
            <p:nvPr/>
          </p:nvGrpSpPr>
          <p:grpSpPr>
            <a:xfrm>
              <a:off x="6014160" y="2575800"/>
              <a:ext cx="1104480" cy="1200960"/>
              <a:chOff x="6014160" y="2575800"/>
              <a:chExt cx="1104480" cy="1200960"/>
            </a:xfrm>
          </p:grpSpPr>
          <p:sp>
            <p:nvSpPr>
              <p:cNvPr id="534" name=""/>
              <p:cNvSpPr/>
              <p:nvPr/>
            </p:nvSpPr>
            <p:spPr>
              <a:xfrm rot="1848000">
                <a:off x="6163200" y="27252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848000">
                <a:off x="6215400" y="27770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848000">
                <a:off x="6231240" y="34376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622260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868160" y="3413880"/>
            <a:ext cx="1104840" cy="1201320"/>
            <a:chOff x="7868160" y="3413880"/>
            <a:chExt cx="1104840" cy="1201320"/>
          </a:xfrm>
        </p:grpSpPr>
        <p:grpSp>
          <p:nvGrpSpPr>
            <p:cNvPr id="539" name=""/>
            <p:cNvGrpSpPr/>
            <p:nvPr/>
          </p:nvGrpSpPr>
          <p:grpSpPr>
            <a:xfrm>
              <a:off x="7868160" y="3413880"/>
              <a:ext cx="1104840" cy="1201320"/>
              <a:chOff x="7868160" y="3413880"/>
              <a:chExt cx="1104840" cy="1201320"/>
            </a:xfrm>
          </p:grpSpPr>
          <p:sp>
            <p:nvSpPr>
              <p:cNvPr id="540" name="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848000">
                <a:off x="8085240" y="427608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8076960" y="379728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2068560" y="3914640"/>
            <a:ext cx="14666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075200" y="892080"/>
            <a:ext cx="14666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40280" y="3978360"/>
            <a:ext cx="1467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67560" y="790560"/>
            <a:ext cx="1467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51" name="" descr=""/>
            <p:cNvPicPr/>
            <p:nvPr/>
          </p:nvPicPr>
          <p:blipFill>
            <a:blip r:embed="rId1"/>
            <a:stretch/>
          </p:blipFill>
          <p:spPr>
            <a:xfrm>
              <a:off x="23832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55" name="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59040" y="125748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59" name="" descr=""/>
            <p:cNvPicPr/>
            <p:nvPr/>
          </p:nvPicPr>
          <p:blipFill>
            <a:blip r:embed="rId3"/>
            <a:stretch/>
          </p:blipFill>
          <p:spPr>
            <a:xfrm flipH="1">
              <a:off x="778572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64" name="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4040" y="298476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69" name="" descr=""/>
            <p:cNvPicPr/>
            <p:nvPr/>
          </p:nvPicPr>
          <p:blipFill>
            <a:blip r:embed="rId5"/>
            <a:stretch/>
          </p:blipFill>
          <p:spPr>
            <a:xfrm>
              <a:off x="26388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73" name="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84240" y="472464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86" name=""/>
            <p:cNvGrpSpPr/>
            <p:nvPr/>
          </p:nvGrpSpPr>
          <p:grpSpPr>
            <a:xfrm>
              <a:off x="1331640" y="2991240"/>
              <a:ext cx="532080" cy="418680"/>
              <a:chOff x="1331640" y="2991240"/>
              <a:chExt cx="532080" cy="418680"/>
            </a:xfrm>
          </p:grpSpPr>
          <p:sp>
            <p:nvSpPr>
              <p:cNvPr id="587" name=""/>
              <p:cNvSpPr/>
              <p:nvPr/>
            </p:nvSpPr>
            <p:spPr>
              <a:xfrm>
                <a:off x="1485000" y="321624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9159200">
                <a:off x="1365120" y="31374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20197200">
                <a:off x="1459800" y="300996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320000">
                <a:off x="1627560" y="300456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3740000">
                <a:off x="1721160" y="31302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94" name=""/>
            <p:cNvGrpSpPr/>
            <p:nvPr/>
          </p:nvGrpSpPr>
          <p:grpSpPr>
            <a:xfrm>
              <a:off x="1331640" y="3994560"/>
              <a:ext cx="532080" cy="418680"/>
              <a:chOff x="1331640" y="3994560"/>
              <a:chExt cx="532080" cy="418680"/>
            </a:xfrm>
          </p:grpSpPr>
          <p:sp>
            <p:nvSpPr>
              <p:cNvPr id="595" name=""/>
              <p:cNvSpPr/>
              <p:nvPr/>
            </p:nvSpPr>
            <p:spPr>
              <a:xfrm>
                <a:off x="1485000" y="421956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9159200">
                <a:off x="1365120" y="41407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20197200">
                <a:off x="1459800" y="401328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320000">
                <a:off x="1627560" y="400788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3740000">
                <a:off x="1721160" y="41335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602" name=""/>
            <p:cNvGrpSpPr/>
            <p:nvPr/>
          </p:nvGrpSpPr>
          <p:grpSpPr>
            <a:xfrm>
              <a:off x="1331640" y="4985280"/>
              <a:ext cx="532080" cy="418680"/>
              <a:chOff x="1331640" y="4985280"/>
              <a:chExt cx="532080" cy="418680"/>
            </a:xfrm>
          </p:grpSpPr>
          <p:sp>
            <p:nvSpPr>
              <p:cNvPr id="603" name=""/>
              <p:cNvSpPr/>
              <p:nvPr/>
            </p:nvSpPr>
            <p:spPr>
              <a:xfrm>
                <a:off x="1485000" y="521028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9159200">
                <a:off x="1365120" y="51314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20197200">
                <a:off x="1459800" y="50040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320000">
                <a:off x="1627560" y="499860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3740000">
                <a:off x="1721160" y="51242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 rot="10800000">
            <a:off x="7893360" y="3809880"/>
            <a:ext cx="2476080" cy="247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877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87732"/>
              </a:path>
            </a:pathLst>
          </a:custGeom>
          <a:gradFill rotWithShape="0">
            <a:gsLst>
              <a:gs pos="0">
                <a:srgbClr val="ff66ff">
                  <a:alpha val="17254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-1275840" y="952560"/>
            <a:ext cx="2551680" cy="255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877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87732"/>
              </a:path>
            </a:pathLst>
          </a:custGeom>
          <a:gradFill rotWithShape="0">
            <a:gsLst>
              <a:gs pos="0">
                <a:srgbClr val="99cc00">
                  <a:alpha val="1725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5" name="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20" name="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5" name="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30" name="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969240" y="6022800"/>
            <a:ext cx="192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尊重作者劳动成果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转载请注明出处：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378700000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55680" y="888840"/>
            <a:ext cx="2705040" cy="4991040"/>
            <a:chOff x="355680" y="888840"/>
            <a:chExt cx="2705040" cy="499104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663920" y="405576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55680" y="88884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ubPieSlice"/>
          <p:cNvSpPr/>
          <p:nvPr/>
        </p:nvSpPr>
        <p:spPr>
          <a:xfrm>
            <a:off x="590400" y="170640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arcTo wR="10800" hR="10800" stAng="-6971893" swAng="-18665956"/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ubPieSlice"/>
          <p:cNvSpPr/>
          <p:nvPr/>
        </p:nvSpPr>
        <p:spPr>
          <a:xfrm>
            <a:off x="590400" y="217656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arcTo wR="10800" hR="10800" stAng="-6971893" swAng="-18665956"/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ubPieSlice"/>
          <p:cNvSpPr/>
          <p:nvPr/>
        </p:nvSpPr>
        <p:spPr>
          <a:xfrm>
            <a:off x="590400" y="265896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arcTo wR="10800" hR="10800" stAng="-6971893" swAng="-18665956"/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8" name="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3483360" y="158076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3473640" y="160524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5" name="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3483360" y="240624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3473640" y="243072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2" name="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483360" y="325728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3473640" y="328176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9" name="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483360" y="413352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3473640" y="415800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6" name="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3483360" y="498420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3473640" y="500868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4" name=""/>
            <p:cNvGrpSpPr/>
            <p:nvPr/>
          </p:nvGrpSpPr>
          <p:grpSpPr>
            <a:xfrm>
              <a:off x="3227400" y="2335320"/>
              <a:ext cx="2951280" cy="2286000"/>
              <a:chOff x="3227400" y="2335320"/>
              <a:chExt cx="2951280" cy="2286000"/>
            </a:xfrm>
          </p:grpSpPr>
          <p:pic>
            <p:nvPicPr>
              <p:cNvPr id="1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3227400" y="233532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H="1">
            <a:off x="1383480" y="1628640"/>
            <a:ext cx="4212360" cy="147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17" y="102"/>
                </a:moveTo>
                <a:arcTo wR="10800" hR="10800" stAng="-5873698" swAng="5873698"/>
                <a:lnTo>
                  <a:pt x="10800" y="10800"/>
                </a:lnTo>
                <a:close/>
              </a:path>
              <a:path fill="none" w="21600" h="21600">
                <a:moveTo>
                  <a:pt x="9317" y="102"/>
                </a:moveTo>
                <a:arcTo wR="10800" hR="10800" stAng="-5873698" swAng="5873698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3920" y="1666800"/>
            <a:ext cx="4049640" cy="147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17" y="102"/>
                </a:moveTo>
                <a:arcTo wR="10800" hR="10800" stAng="-5873698" swAng="5873698"/>
                <a:lnTo>
                  <a:pt x="10800" y="10800"/>
                </a:lnTo>
                <a:close/>
              </a:path>
              <a:path fill="none" w="21600" h="21600">
                <a:moveTo>
                  <a:pt x="9317" y="102"/>
                </a:moveTo>
                <a:arcTo wR="10800" hR="10800" stAng="-5873698" swAng="5873698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7" name="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724560" y="278712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3714840" y="281160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23" name="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92440" y="281268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82720" y="283716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9" name="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810840" y="2825280"/>
              <a:ext cx="23256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6801120" y="2849760"/>
              <a:ext cx="25308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74800" y="3317760"/>
            <a:ext cx="15048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0" y="3355920"/>
            <a:ext cx="150516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8" name="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03520" y="1495440"/>
              <a:ext cx="622440" cy="361080"/>
              <a:chOff x="2603520" y="1495440"/>
              <a:chExt cx="622440" cy="361080"/>
            </a:xfrm>
          </p:grpSpPr>
          <p:sp>
            <p:nvSpPr>
              <p:cNvPr id="250" name=""/>
              <p:cNvSpPr/>
              <p:nvPr/>
            </p:nvSpPr>
            <p:spPr>
              <a:xfrm rot="5400000">
                <a:off x="2862000" y="151884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6200000">
                <a:off x="2638440" y="152100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59560" y="16416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13680" y="1548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48600" y="16974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59640" y="15069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39560" y="171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43280" y="15742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03520" y="1680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839680" y="1599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62" name="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263760" y="2562120"/>
              <a:ext cx="622440" cy="361080"/>
              <a:chOff x="3263760" y="2562120"/>
              <a:chExt cx="622440" cy="361080"/>
            </a:xfrm>
          </p:grpSpPr>
          <p:sp>
            <p:nvSpPr>
              <p:cNvPr id="264" name=""/>
              <p:cNvSpPr/>
              <p:nvPr/>
            </p:nvSpPr>
            <p:spPr>
              <a:xfrm rot="5400000">
                <a:off x="3522240" y="258552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6200000">
                <a:off x="3298680" y="258768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19800" y="27082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73920" y="26150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08840" y="2764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19880" y="257364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99800" y="2781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03520" y="264096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63760" y="2746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99920" y="2665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6" name=""/>
            <p:cNvSpPr/>
            <p:nvPr/>
          </p:nvSpPr>
          <p:spPr>
            <a:xfrm>
              <a:off x="3530520" y="359424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51160" y="3641760"/>
              <a:ext cx="622440" cy="361080"/>
              <a:chOff x="3251160" y="3641760"/>
              <a:chExt cx="622440" cy="361080"/>
            </a:xfrm>
          </p:grpSpPr>
          <p:sp>
            <p:nvSpPr>
              <p:cNvPr id="278" name=""/>
              <p:cNvSpPr/>
              <p:nvPr/>
            </p:nvSpPr>
            <p:spPr>
              <a:xfrm rot="5400000">
                <a:off x="3509640" y="366516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6200000">
                <a:off x="3286080" y="366732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07200" y="37879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61320" y="369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96240" y="38437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07280" y="365328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87200" y="3861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90920" y="372060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251160" y="3826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87320" y="3745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90" name=""/>
            <p:cNvSpPr/>
            <p:nvPr/>
          </p:nvSpPr>
          <p:spPr>
            <a:xfrm>
              <a:off x="3048120" y="46483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2768760" y="4695840"/>
              <a:ext cx="622440" cy="361080"/>
              <a:chOff x="2768760" y="4695840"/>
              <a:chExt cx="622440" cy="361080"/>
            </a:xfrm>
          </p:grpSpPr>
          <p:sp>
            <p:nvSpPr>
              <p:cNvPr id="292" name=""/>
              <p:cNvSpPr/>
              <p:nvPr/>
            </p:nvSpPr>
            <p:spPr>
              <a:xfrm rot="5400000">
                <a:off x="3027240" y="471924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200000">
                <a:off x="2803680" y="472140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24800" y="4842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78920" y="47487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913840" y="4897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24880" y="47073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04800" y="4915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08520" y="47746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768760" y="4880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04920" y="4799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1955880" y="1139760"/>
            <a:ext cx="622080" cy="361800"/>
            <a:chOff x="1955880" y="1139760"/>
            <a:chExt cx="622080" cy="361800"/>
          </a:xfrm>
        </p:grpSpPr>
        <p:sp>
          <p:nvSpPr>
            <p:cNvPr id="312" name=""/>
            <p:cNvSpPr/>
            <p:nvPr/>
          </p:nvSpPr>
          <p:spPr>
            <a:xfrm rot="5400000">
              <a:off x="2213640" y="1163160"/>
              <a:ext cx="359280" cy="312120"/>
            </a:xfrm>
            <a:custGeom>
              <a:avLst/>
              <a:gdLst>
                <a:gd name="textAreaLeft" fmla="*/ 84240 w 359280"/>
                <a:gd name="textAreaRight" fmla="*/ 274680 w 359280"/>
                <a:gd name="textAreaTop" fmla="*/ 36720 h 312120"/>
                <a:gd name="textAreaBottom" fmla="*/ 195840 h 3121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90440" y="1166040"/>
              <a:ext cx="359280" cy="311760"/>
            </a:xfrm>
            <a:custGeom>
              <a:avLst/>
              <a:gdLst>
                <a:gd name="textAreaLeft" fmla="*/ 84240 w 359280"/>
                <a:gd name="textAreaRight" fmla="*/ 274680 w 359280"/>
                <a:gd name="textAreaTop" fmla="*/ 36360 h 311760"/>
                <a:gd name="textAreaBottom" fmla="*/ 195480 h 311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11920" y="12859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66040" y="1192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00600" y="13420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11640" y="11512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91560" y="13593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95640" y="12186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55880" y="13248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92040" y="12434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616800" y="1152360"/>
            <a:ext cx="622080" cy="361800"/>
            <a:chOff x="6616800" y="1152360"/>
            <a:chExt cx="622080" cy="361800"/>
          </a:xfrm>
        </p:grpSpPr>
        <p:sp>
          <p:nvSpPr>
            <p:cNvPr id="323" name=""/>
            <p:cNvSpPr/>
            <p:nvPr/>
          </p:nvSpPr>
          <p:spPr>
            <a:xfrm rot="5400000">
              <a:off x="6874560" y="1175760"/>
              <a:ext cx="359280" cy="312120"/>
            </a:xfrm>
            <a:custGeom>
              <a:avLst/>
              <a:gdLst>
                <a:gd name="textAreaLeft" fmla="*/ 84240 w 359280"/>
                <a:gd name="textAreaRight" fmla="*/ 274680 w 359280"/>
                <a:gd name="textAreaTop" fmla="*/ 36720 h 312120"/>
                <a:gd name="textAreaBottom" fmla="*/ 195840 h 3121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6651360" y="1178640"/>
              <a:ext cx="359280" cy="311760"/>
            </a:xfrm>
            <a:custGeom>
              <a:avLst/>
              <a:gdLst>
                <a:gd name="textAreaLeft" fmla="*/ 84240 w 359280"/>
                <a:gd name="textAreaRight" fmla="*/ 274680 w 359280"/>
                <a:gd name="textAreaTop" fmla="*/ 36360 h 311760"/>
                <a:gd name="textAreaBottom" fmla="*/ 195480 h 311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72840" y="12985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26960" y="1205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61520" y="1354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72560" y="11638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52480" y="13719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6560" y="12312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16800" y="13374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2960" y="12560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66ff"/>
                    </a:gs>
                  </a:gsLst>
                  <a:lin ang="13500000"/>
                </a:gra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66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66ff"/>
                    </a:gs>
                  </a:gsLst>
                  <a:lin ang="13500000"/>
                </a:gradFill>
                <a:latin typeface="Arial"/>
              </a:rPr>
              <a:t>B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66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434960" y="5562720"/>
            <a:ext cx="254160" cy="253800"/>
          </a:xfrm>
          <a:prstGeom prst="donut">
            <a:avLst>
              <a:gd name="adj" fmla="val 88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89120" y="5359320"/>
            <a:ext cx="495360" cy="495360"/>
          </a:xfrm>
          <a:prstGeom prst="donut">
            <a:avLst>
              <a:gd name="adj" fmla="val 21796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 rot="14400000">
            <a:off x="8123760" y="168912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 rot="1800000">
            <a:off x="8383680" y="4576320"/>
            <a:ext cx="14580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 rot="5400000">
            <a:off x="8493480" y="58791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135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 rot="17400000">
            <a:off x="8359560" y="361260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未知"/>
          <p:cNvSpPr/>
          <p:nvPr/>
        </p:nvSpPr>
        <p:spPr>
          <a:xfrm rot="5400000">
            <a:off x="8391960" y="25023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未知"/>
          <p:cNvSpPr/>
          <p:nvPr/>
        </p:nvSpPr>
        <p:spPr>
          <a:xfrm flipV="1">
            <a:off x="673200" y="39369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未知"/>
          <p:cNvSpPr/>
          <p:nvPr/>
        </p:nvSpPr>
        <p:spPr>
          <a:xfrm>
            <a:off x="673200" y="18921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362" name="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66" name="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369" name="未知"/>
                <p:cNvSpPr/>
                <p:nvPr/>
              </p:nvSpPr>
              <p:spPr>
                <a:xfrm rot="18580800">
                  <a:off x="1929240" y="94608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未知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2" name="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73" name="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135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77" name="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380" name="未知"/>
                <p:cNvSpPr/>
                <p:nvPr/>
              </p:nvSpPr>
              <p:spPr>
                <a:xfrm rot="18580800">
                  <a:off x="1929240" y="278748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未知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3" name="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384" name="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8" name="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391" name="未知"/>
                <p:cNvSpPr/>
                <p:nvPr/>
              </p:nvSpPr>
              <p:spPr>
                <a:xfrm rot="18580800">
                  <a:off x="1929240" y="470520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未知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4" name="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95" name="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3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606600" y="3666240"/>
                <a:ext cx="78480" cy="68760"/>
              </a:xfrm>
              <a:custGeom>
                <a:avLst/>
                <a:gdLst>
                  <a:gd name="textAreaLeft" fmla="*/ 18360 w 78480"/>
                  <a:gd name="textAreaRight" fmla="*/ 60120 w 78480"/>
                  <a:gd name="textAreaTop" fmla="*/ 7920 h 68760"/>
                  <a:gd name="textAreaBottom" fmla="*/ 43200 h 687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79400" y="3666240"/>
                <a:ext cx="78480" cy="68760"/>
              </a:xfrm>
              <a:custGeom>
                <a:avLst/>
                <a:gdLst>
                  <a:gd name="textAreaLeft" fmla="*/ 18360 w 78480"/>
                  <a:gd name="textAreaRight" fmla="*/ 60120 w 78480"/>
                  <a:gd name="textAreaTop" fmla="*/ 7920 h 68760"/>
                  <a:gd name="textAreaBottom" fmla="*/ 43200 h 687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dc:language>en-US</dc:language>
  <cp:lastModifiedBy>雨林木风</cp:lastModifiedBy>
  <cp:lastPrinted>1899-12-30T00:00:00Z</cp:lastPrinted>
  <dcterms:modified xsi:type="dcterms:W3CDTF">2009-11-30T09:41:23Z</dcterms:modified>
  <cp:revision>1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</Properties>
</file>