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585-CFD3-4432-9325-6184C33C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EB7-3F9E-4262-B434-641B3BB1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CC3-5A5E-4FB1-9D7D-FA4AF2B0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CF7-7697-44EC-8D19-D64A0FF8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F04-B0E6-4FF6-A723-9F86956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E4A-BEEE-4BFC-B073-6BBDE8E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A99-A61E-4715-93CC-4008B77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D09-14D7-4643-AE19-B29E014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C61-3472-4D83-815C-04A0356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046-D2BA-4256-95F4-0FCEEC8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C0F-CB3C-4265-B64D-12267E4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7B6-0FBD-4158-B0CD-B3D37F1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3F08-7EDC-4341-8AAF-C03FB27FA7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273D-73F8-4C0D-9037-415ED114FF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5" r="0" b="145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7981920" y="48355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914"/>
                </a:solidFill>
                <a:latin typeface="微软雅黑"/>
                <a:ea typeface="微软雅黑"/>
              </a:rPr>
              <a:t>zzplovez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1401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a2914"/>
                </a:solidFill>
                <a:latin typeface="微软雅黑"/>
                <a:ea typeface="微软雅黑"/>
              </a:rPr>
              <a:t>单击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0" y="2738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a2914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3" name="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4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7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1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4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1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38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3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5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7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5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1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2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88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0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07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29" name="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0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3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4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6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6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4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图片 66" descr=""/>
            <p:cNvPicPr/>
            <p:nvPr/>
          </p:nvPicPr>
          <p:blipFill>
            <a:blip r:embed="rId9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8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2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3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9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3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4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8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2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09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16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1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3" name="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4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69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0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4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39" name="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0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6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3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0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7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0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7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7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4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1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98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0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0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1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2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4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3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4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5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7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5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4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5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6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7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78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dc:language>en-US</dc:language>
  <cp:lastModifiedBy>微软中国</cp:lastModifiedBy>
  <cp:lastPrinted>1899-12-30T00:00:00Z</cp:lastPrinted>
  <dcterms:modified xsi:type="dcterms:W3CDTF">2012-06-10T11:17:0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