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1AEF-0E7D-4F16-BEB7-FB4191157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D21-6913-4E2D-9798-139CA6F7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342-8AB8-46EF-8B8E-78307CC3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805-D991-44B6-BC62-A1DC946D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33848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60100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596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133848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260100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19B-4ADA-4F3F-9D00-07A9BDB5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F8904-0929-4F40-9310-00EAD552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98685-395F-41A9-8ECF-C16A802A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BABF6-50B9-4546-8F97-FB6C8B84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E18C1-BC6F-47BF-AC01-001891D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41620-5855-4099-A768-58866AA2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960" y="1523520"/>
            <a:ext cx="6629400" cy="68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641A2-4B02-46DB-84EF-1B8BF3C3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8296E-4BB7-4AF5-94D3-83FDD06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41C-0ED6-4A94-A010-FC181667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70457-00E2-45A4-B5D8-2DF95895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22582-5C90-4ADF-AB9C-0B97E24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66667-0E76-4B91-B912-29457275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7AB2E-A5F1-4770-906E-BA506E00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3848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60100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596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33848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260100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5E553-D3AB-47C8-904B-8D23BDC1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6F3-E871-4D72-9303-78C1C88C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D69-C869-41B9-A23E-34B53B39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64F-8DBC-4C82-B371-D91AD497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5960" y="1523520"/>
            <a:ext cx="6629400" cy="68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D98-58FF-4E51-88F8-780B594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9B5-1770-4932-B621-1D4FE7D5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639-C799-442B-AAA8-1FF6854E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738-682D-4978-B8FA-6F6E4D65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9360" y="-15840"/>
            <a:ext cx="9153360" cy="1308240"/>
          </a:xfrm>
          <a:custGeom>
            <a:avLst/>
            <a:gdLst/>
            <a:ahLst/>
            <a:rect l="l" t="t" r="r" b="b"/>
            <a:pathLst>
              <a:path w="5778" h="1215">
                <a:moveTo>
                  <a:pt x="5778" y="640"/>
                </a:moveTo>
                <a:cubicBezTo>
                  <a:pt x="4217" y="104"/>
                  <a:pt x="3024" y="562"/>
                  <a:pt x="2656" y="668"/>
                </a:cubicBezTo>
                <a:cubicBezTo>
                  <a:pt x="2288" y="774"/>
                  <a:pt x="1066" y="1215"/>
                  <a:pt x="0" y="726"/>
                </a:cubicBezTo>
                <a:cubicBezTo>
                  <a:pt x="0" y="726"/>
                  <a:pt x="12" y="292"/>
                  <a:pt x="12" y="6"/>
                </a:cubicBezTo>
                <a:cubicBezTo>
                  <a:pt x="2901" y="5"/>
                  <a:pt x="5778" y="0"/>
                  <a:pt x="5778" y="0"/>
                </a:cubicBezTo>
                <a:cubicBezTo>
                  <a:pt x="5778" y="227"/>
                  <a:pt x="5778" y="413"/>
                  <a:pt x="5778" y="640"/>
                </a:cubicBezTo>
                <a:close/>
              </a:path>
            </a:pathLst>
          </a:custGeom>
          <a:solidFill>
            <a:srgbClr val="988b3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00200" y="201600"/>
            <a:ext cx="6629400" cy="1006560"/>
          </a:xfrm>
          <a:custGeom>
            <a:avLst/>
            <a:gdLst/>
            <a:ahLst/>
            <a:rect l="l" t="t" r="r" b="b"/>
            <a:pathLst>
              <a:path w="4173" h="936">
                <a:moveTo>
                  <a:pt x="669" y="179"/>
                </a:moveTo>
                <a:cubicBezTo>
                  <a:pt x="1122" y="287"/>
                  <a:pt x="1351" y="360"/>
                  <a:pt x="1538" y="422"/>
                </a:cubicBezTo>
                <a:cubicBezTo>
                  <a:pt x="1725" y="484"/>
                  <a:pt x="3122" y="936"/>
                  <a:pt x="4173" y="374"/>
                </a:cubicBezTo>
                <a:cubicBezTo>
                  <a:pt x="4173" y="374"/>
                  <a:pt x="4173" y="387"/>
                  <a:pt x="4173" y="306"/>
                </a:cubicBezTo>
                <a:cubicBezTo>
                  <a:pt x="3957" y="435"/>
                  <a:pt x="3346" y="626"/>
                  <a:pt x="2845" y="589"/>
                </a:cubicBezTo>
                <a:cubicBezTo>
                  <a:pt x="2344" y="552"/>
                  <a:pt x="1639" y="170"/>
                  <a:pt x="1165" y="85"/>
                </a:cubicBezTo>
                <a:cubicBezTo>
                  <a:pt x="691" y="0"/>
                  <a:pt x="261" y="21"/>
                  <a:pt x="0" y="77"/>
                </a:cubicBezTo>
                <a:cubicBezTo>
                  <a:pt x="2" y="84"/>
                  <a:pt x="261" y="92"/>
                  <a:pt x="669" y="179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50196"/>
                </a:srgbClr>
              </a:gs>
              <a:gs pos="100000">
                <a:srgbClr val="e8c97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3640" y="-12600"/>
            <a:ext cx="3854520" cy="1177920"/>
          </a:xfrm>
          <a:custGeom>
            <a:avLst/>
            <a:gdLst/>
            <a:ahLst/>
            <a:rect l="l" t="t" r="r" b="b"/>
            <a:pathLst>
              <a:path w="2426" h="1095">
                <a:moveTo>
                  <a:pt x="2426" y="1"/>
                </a:moveTo>
                <a:cubicBezTo>
                  <a:pt x="2426" y="232"/>
                  <a:pt x="2426" y="464"/>
                  <a:pt x="2426" y="464"/>
                </a:cubicBezTo>
                <a:cubicBezTo>
                  <a:pt x="1216" y="1095"/>
                  <a:pt x="584" y="162"/>
                  <a:pt x="0" y="0"/>
                </a:cubicBezTo>
                <a:cubicBezTo>
                  <a:pt x="0" y="0"/>
                  <a:pt x="1213" y="0"/>
                  <a:pt x="2426" y="1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0"/>
                </a:srgbClr>
              </a:gs>
              <a:gs pos="100000">
                <a:srgbClr val="e8c972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2D9C-B379-43F0-A75F-330861472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13400" y="6477120"/>
            <a:ext cx="175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1371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rcRect l="22381" t="0" r="12122" b="0"/>
          <a:stretch/>
        </p:blipFill>
        <p:spPr>
          <a:xfrm>
            <a:off x="76960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7162920" y="76320"/>
            <a:ext cx="1226880" cy="160020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003" b="0"/>
          <a:stretch/>
        </p:blipFill>
        <p:spPr>
          <a:xfrm>
            <a:off x="2514600" y="361800"/>
            <a:ext cx="6629400" cy="649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793880"/>
            <a:ext cx="9144000" cy="5064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6480" y="0"/>
            <a:ext cx="9172800" cy="1592280"/>
          </a:xfrm>
          <a:custGeom>
            <a:avLst/>
            <a:gdLst/>
            <a:ahLst/>
            <a:rect l="l" t="t" r="r" b="b"/>
            <a:pathLst>
              <a:path w="5778" h="1215">
                <a:moveTo>
                  <a:pt x="5778" y="640"/>
                </a:moveTo>
                <a:cubicBezTo>
                  <a:pt x="4217" y="104"/>
                  <a:pt x="3024" y="562"/>
                  <a:pt x="2656" y="668"/>
                </a:cubicBezTo>
                <a:cubicBezTo>
                  <a:pt x="2288" y="774"/>
                  <a:pt x="1066" y="1215"/>
                  <a:pt x="0" y="726"/>
                </a:cubicBezTo>
                <a:cubicBezTo>
                  <a:pt x="0" y="726"/>
                  <a:pt x="12" y="292"/>
                  <a:pt x="12" y="6"/>
                </a:cubicBezTo>
                <a:cubicBezTo>
                  <a:pt x="2901" y="5"/>
                  <a:pt x="5778" y="0"/>
                  <a:pt x="5778" y="0"/>
                </a:cubicBezTo>
                <a:cubicBezTo>
                  <a:pt x="5778" y="227"/>
                  <a:pt x="5778" y="413"/>
                  <a:pt x="5778" y="640"/>
                </a:cubicBezTo>
                <a:close/>
              </a:path>
            </a:pathLst>
          </a:custGeom>
          <a:solidFill>
            <a:srgbClr val="988b3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-3960" y="-3240"/>
            <a:ext cx="3862440" cy="1435320"/>
          </a:xfrm>
          <a:custGeom>
            <a:avLst/>
            <a:gdLst/>
            <a:ahLst/>
            <a:rect l="l" t="t" r="r" b="b"/>
            <a:pathLst>
              <a:path w="2426" h="1095">
                <a:moveTo>
                  <a:pt x="2426" y="1"/>
                </a:moveTo>
                <a:cubicBezTo>
                  <a:pt x="2426" y="232"/>
                  <a:pt x="2426" y="464"/>
                  <a:pt x="2426" y="464"/>
                </a:cubicBezTo>
                <a:cubicBezTo>
                  <a:pt x="1216" y="1095"/>
                  <a:pt x="584" y="162"/>
                  <a:pt x="0" y="0"/>
                </a:cubicBezTo>
                <a:cubicBezTo>
                  <a:pt x="0" y="0"/>
                  <a:pt x="1213" y="0"/>
                  <a:pt x="2426" y="1"/>
                </a:cubicBezTo>
                <a:close/>
              </a:path>
            </a:pathLst>
          </a:custGeom>
          <a:gradFill rotWithShape="0">
            <a:gsLst>
              <a:gs pos="0">
                <a:srgbClr val="988b3a">
                  <a:alpha val="0"/>
                </a:srgbClr>
              </a:gs>
              <a:gs pos="100000">
                <a:srgbClr val="e8c972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-4680" y="258840"/>
            <a:ext cx="6643440" cy="1225440"/>
          </a:xfrm>
          <a:custGeom>
            <a:avLst/>
            <a:gdLst/>
            <a:ahLst/>
            <a:rect l="l" t="t" r="r" b="b"/>
            <a:pathLst>
              <a:path w="4173" h="936">
                <a:moveTo>
                  <a:pt x="669" y="179"/>
                </a:moveTo>
                <a:cubicBezTo>
                  <a:pt x="1122" y="287"/>
                  <a:pt x="1351" y="360"/>
                  <a:pt x="1538" y="422"/>
                </a:cubicBezTo>
                <a:cubicBezTo>
                  <a:pt x="1725" y="484"/>
                  <a:pt x="3122" y="936"/>
                  <a:pt x="4173" y="374"/>
                </a:cubicBezTo>
                <a:cubicBezTo>
                  <a:pt x="4173" y="374"/>
                  <a:pt x="4173" y="387"/>
                  <a:pt x="4173" y="306"/>
                </a:cubicBezTo>
                <a:cubicBezTo>
                  <a:pt x="3957" y="435"/>
                  <a:pt x="3346" y="626"/>
                  <a:pt x="2845" y="589"/>
                </a:cubicBezTo>
                <a:cubicBezTo>
                  <a:pt x="2344" y="552"/>
                  <a:pt x="1639" y="170"/>
                  <a:pt x="1165" y="85"/>
                </a:cubicBezTo>
                <a:cubicBezTo>
                  <a:pt x="691" y="0"/>
                  <a:pt x="261" y="21"/>
                  <a:pt x="0" y="77"/>
                </a:cubicBezTo>
                <a:cubicBezTo>
                  <a:pt x="2" y="84"/>
                  <a:pt x="261" y="92"/>
                  <a:pt x="669" y="179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50196"/>
                </a:srgbClr>
              </a:gs>
              <a:gs pos="100000">
                <a:srgbClr val="47452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9440" y="25704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4"/>
          </p:nvPr>
        </p:nvSpPr>
        <p:spPr>
          <a:xfrm>
            <a:off x="3352320" y="630504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B715-D54D-4FEF-BFD7-976691B8B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612800" y="6305040"/>
            <a:ext cx="165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dt" idx="6"/>
          </p:nvPr>
        </p:nvSpPr>
        <p:spPr>
          <a:xfrm>
            <a:off x="152280" y="630504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39080" y="11430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1430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246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76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609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609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1371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8c972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e8c972"/>
                </a:solidFill>
                <a:latin typeface="Times New Roman"/>
              </a:rPr>
              <a:t>ThemeGallery</a:t>
            </a:r>
            <a:br>
              <a:rPr sz="2900"/>
            </a:b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PowerTemplate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971440"/>
            <a:ext cx="4724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0640" y="30337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ef8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0" y="309888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90720" y="2470320"/>
            <a:ext cx="2856960" cy="466560"/>
            <a:chOff x="990720" y="2470320"/>
            <a:chExt cx="2856960" cy="466560"/>
          </a:xfrm>
        </p:grpSpPr>
        <p:sp>
          <p:nvSpPr>
            <p:cNvPr id="341" name=""/>
            <p:cNvSpPr/>
            <p:nvPr/>
          </p:nvSpPr>
          <p:spPr>
            <a:xfrm>
              <a:off x="990720" y="24703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78b44"/>
                </a:gs>
                <a:gs pos="50000">
                  <a:srgbClr val="6fb157"/>
                </a:gs>
                <a:gs pos="100000">
                  <a:srgbClr val="578b44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70512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2096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75440" y="2470320"/>
            <a:ext cx="2856960" cy="466560"/>
            <a:chOff x="5275440" y="2470320"/>
            <a:chExt cx="2856960" cy="466560"/>
          </a:xfrm>
        </p:grpSpPr>
        <p:sp>
          <p:nvSpPr>
            <p:cNvPr id="345" name=""/>
            <p:cNvSpPr/>
            <p:nvPr/>
          </p:nvSpPr>
          <p:spPr>
            <a:xfrm>
              <a:off x="5275440" y="24703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7d1d"/>
                </a:gs>
                <a:gs pos="50000">
                  <a:srgbClr val="ef8d21"/>
                </a:gs>
                <a:gs pos="100000">
                  <a:srgbClr val="d37d1d"/>
                </a:gs>
              </a:gsLst>
              <a:lin ang="10800000"/>
            </a:gradFill>
            <a:ln w="12600">
              <a:solidFill>
                <a:srgbClr val="ef8d21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98984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0568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990720" y="3033720"/>
            <a:ext cx="284940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1257480" y="254952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5595840" y="25495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 rot="10806000">
            <a:off x="3922200" y="3576960"/>
            <a:ext cx="1293840" cy="755640"/>
          </a:xfrm>
          <a:prstGeom prst="rightArrow">
            <a:avLst>
              <a:gd name="adj1" fmla="val 46509"/>
              <a:gd name="adj2" fmla="val 37622"/>
            </a:avLst>
          </a:prstGeom>
          <a:gradFill rotWithShape="0">
            <a:gsLst>
              <a:gs pos="0">
                <a:srgbClr val="6fb157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43640" y="31748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32480" y="44546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73600" y="34797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73600" y="47005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432400" y="3244680"/>
            <a:ext cx="168480" cy="168480"/>
            <a:chOff x="5432400" y="3244680"/>
            <a:chExt cx="168480" cy="168480"/>
          </a:xfrm>
        </p:grpSpPr>
        <p:sp>
          <p:nvSpPr>
            <p:cNvPr id="357" name=""/>
            <p:cNvSpPr/>
            <p:nvPr/>
          </p:nvSpPr>
          <p:spPr>
            <a:xfrm>
              <a:off x="5432400" y="32446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45720" y="32587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f3b571"/>
                </a:gs>
                <a:gs pos="100000">
                  <a:srgbClr val="ef8d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432400" y="4535640"/>
            <a:ext cx="168480" cy="168120"/>
            <a:chOff x="5432400" y="4535640"/>
            <a:chExt cx="168480" cy="168120"/>
          </a:xfrm>
        </p:grpSpPr>
        <p:sp>
          <p:nvSpPr>
            <p:cNvPr id="360" name=""/>
            <p:cNvSpPr/>
            <p:nvPr/>
          </p:nvSpPr>
          <p:spPr>
            <a:xfrm>
              <a:off x="5432400" y="453564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45720" y="454968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f3b571"/>
                </a:gs>
                <a:gs pos="100000">
                  <a:srgbClr val="ef8d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143000" y="50245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4745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4745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326088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38448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4405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91520" y="33336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91520" y="39178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91520" y="44766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 rot="10794000">
            <a:off x="3890160" y="41832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gradFill rotWithShape="0">
            <a:gsLst>
              <a:gs pos="0">
                <a:srgbClr val="ef8d21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932040" y="1676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22320" y="5911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2560" y="5911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338292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48320" y="244008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85640" y="1843200"/>
            <a:ext cx="3809880" cy="466560"/>
            <a:chOff x="485640" y="1843200"/>
            <a:chExt cx="3809880" cy="466560"/>
          </a:xfrm>
        </p:grpSpPr>
        <p:sp>
          <p:nvSpPr>
            <p:cNvPr id="377" name=""/>
            <p:cNvSpPr/>
            <p:nvPr/>
          </p:nvSpPr>
          <p:spPr>
            <a:xfrm>
              <a:off x="485640" y="1843200"/>
              <a:ext cx="380988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97c3"/>
                </a:gs>
                <a:gs pos="100000">
                  <a:srgbClr val="83c5dd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105800" y="1882800"/>
              <a:ext cx="169920" cy="39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320" y="1884240"/>
              <a:ext cx="169920" cy="38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Text Box 18"/>
          <p:cNvSpPr/>
          <p:nvPr/>
        </p:nvSpPr>
        <p:spPr>
          <a:xfrm>
            <a:off x="800280" y="1814400"/>
            <a:ext cx="30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4410000" y="2638440"/>
            <a:ext cx="488880" cy="488880"/>
          </a:xfrm>
          <a:prstGeom prst="diamond">
            <a:avLst/>
          </a:prstGeom>
          <a:solidFill>
            <a:srgbClr val="d54f6f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4409640" y="3581280"/>
            <a:ext cx="489240" cy="488880"/>
          </a:xfrm>
          <a:prstGeom prst="diamond">
            <a:avLst/>
          </a:prstGeom>
          <a:solidFill>
            <a:srgbClr val="5ac2c2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525924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431640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5400000">
            <a:off x="4410000" y="4514760"/>
            <a:ext cx="488880" cy="488880"/>
          </a:xfrm>
          <a:prstGeom prst="diamond">
            <a:avLst/>
          </a:prstGeom>
          <a:solidFill>
            <a:srgbClr val="ef8d2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4410000" y="5457960"/>
            <a:ext cx="488880" cy="488880"/>
          </a:xfrm>
          <a:prstGeom prst="diamond">
            <a:avLst/>
          </a:prstGeom>
          <a:solidFill>
            <a:srgbClr val="6fb157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2652840"/>
            <a:ext cx="335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4952880" y="345456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52880" y="4519440"/>
            <a:ext cx="335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4952880" y="533088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2530440"/>
            <a:ext cx="3625920" cy="3625920"/>
          </a:xfrm>
          <a:prstGeom prst="ellipse">
            <a:avLst/>
          </a:prstGeom>
          <a:solidFill>
            <a:srgbClr val="d54f6f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58680" y="3297240"/>
            <a:ext cx="2927520" cy="2867040"/>
          </a:xfrm>
          <a:prstGeom prst="ellipse">
            <a:avLst/>
          </a:prstGeom>
          <a:solidFill>
            <a:srgbClr val="5ac2c2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53960" y="4025880"/>
            <a:ext cx="2160720" cy="2139840"/>
          </a:xfrm>
          <a:prstGeom prst="ellipse">
            <a:avLst/>
          </a:prstGeom>
          <a:solidFill>
            <a:srgbClr val="ef8d21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04960" y="4719600"/>
            <a:ext cx="1484280" cy="1452600"/>
          </a:xfrm>
          <a:prstGeom prst="ellipse">
            <a:avLst/>
          </a:prstGeom>
          <a:solidFill>
            <a:srgbClr val="6fb157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1577880" y="530532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1482840" y="428472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1482840" y="349236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1482840" y="272556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93920" y="448452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ef8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93920" y="311004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5a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93920" y="174636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222640" y="2889360"/>
            <a:ext cx="4686120" cy="463320"/>
            <a:chOff x="2222640" y="2889360"/>
            <a:chExt cx="4686120" cy="463320"/>
          </a:xfrm>
        </p:grpSpPr>
        <p:sp>
          <p:nvSpPr>
            <p:cNvPr id="404" name=""/>
            <p:cNvSpPr/>
            <p:nvPr/>
          </p:nvSpPr>
          <p:spPr>
            <a:xfrm>
              <a:off x="2222640" y="2889360"/>
              <a:ext cx="4686120" cy="463320"/>
            </a:xfrm>
            <a:prstGeom prst="roundRect">
              <a:avLst>
                <a:gd name="adj" fmla="val 17509"/>
              </a:avLst>
            </a:prstGeom>
            <a:solidFill>
              <a:srgbClr val="5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234160" y="2903760"/>
              <a:ext cx="4668840" cy="428400"/>
              <a:chOff x="2234160" y="2903760"/>
              <a:chExt cx="4668840" cy="428400"/>
            </a:xfrm>
          </p:grpSpPr>
          <p:sp>
            <p:nvSpPr>
              <p:cNvPr id="406" name=""/>
              <p:cNvSpPr/>
              <p:nvPr/>
            </p:nvSpPr>
            <p:spPr>
              <a:xfrm>
                <a:off x="2234160" y="32212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c2c2">
                      <a:alpha val="0"/>
                    </a:srgbClr>
                  </a:gs>
                  <a:gs pos="100000">
                    <a:srgbClr val="c4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34160" y="29037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fe6e6"/>
                  </a:gs>
                  <a:gs pos="100000">
                    <a:srgbClr val="5ac2c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2195640" y="4260960"/>
            <a:ext cx="4686120" cy="463320"/>
            <a:chOff x="2195640" y="4260960"/>
            <a:chExt cx="4686120" cy="463320"/>
          </a:xfrm>
        </p:grpSpPr>
        <p:sp>
          <p:nvSpPr>
            <p:cNvPr id="409" name=""/>
            <p:cNvSpPr/>
            <p:nvPr/>
          </p:nvSpPr>
          <p:spPr>
            <a:xfrm>
              <a:off x="2195640" y="4260960"/>
              <a:ext cx="4686120" cy="463320"/>
            </a:xfrm>
            <a:prstGeom prst="roundRect">
              <a:avLst>
                <a:gd name="adj" fmla="val 17509"/>
              </a:avLst>
            </a:prstGeom>
            <a:solidFill>
              <a:srgbClr val="ef8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2207160" y="4275360"/>
              <a:ext cx="4668840" cy="428400"/>
              <a:chOff x="2207160" y="4275360"/>
              <a:chExt cx="4668840" cy="428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207160" y="45928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8d21">
                      <a:alpha val="0"/>
                    </a:srgbClr>
                  </a:gs>
                  <a:gs pos="100000">
                    <a:srgbClr val="f7d2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07160" y="42753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6b0"/>
                  </a:gs>
                  <a:gs pos="100000">
                    <a:srgbClr val="ef8d2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2225520" y="1523880"/>
            <a:ext cx="4686480" cy="463680"/>
            <a:chOff x="2225520" y="1523880"/>
            <a:chExt cx="4686480" cy="463680"/>
          </a:xfrm>
        </p:grpSpPr>
        <p:sp>
          <p:nvSpPr>
            <p:cNvPr id="414" name=""/>
            <p:cNvSpPr/>
            <p:nvPr/>
          </p:nvSpPr>
          <p:spPr>
            <a:xfrm>
              <a:off x="2225520" y="1523880"/>
              <a:ext cx="4686480" cy="463680"/>
            </a:xfrm>
            <a:prstGeom prst="roundRect">
              <a:avLst>
                <a:gd name="adj" fmla="val 17509"/>
              </a:avLst>
            </a:prstGeom>
            <a:solidFill>
              <a:srgbClr val="6fb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2237040" y="1538280"/>
              <a:ext cx="4669200" cy="428400"/>
              <a:chOff x="2237040" y="1538280"/>
              <a:chExt cx="4669200" cy="428400"/>
            </a:xfrm>
          </p:grpSpPr>
          <p:sp>
            <p:nvSpPr>
              <p:cNvPr id="416" name=""/>
              <p:cNvSpPr/>
              <p:nvPr/>
            </p:nvSpPr>
            <p:spPr>
              <a:xfrm>
                <a:off x="2237040" y="1855800"/>
                <a:ext cx="466920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157">
                      <a:alpha val="0"/>
                    </a:srgbClr>
                  </a:gs>
                  <a:gs pos="100000">
                    <a:srgbClr val="cbe2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37040" y="1538280"/>
                <a:ext cx="466920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e5c8"/>
                  </a:gs>
                  <a:gs pos="100000">
                    <a:srgbClr val="6fb15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3435840" y="15685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35840" y="294804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35840" y="43164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52600" y="202104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19120" y="234468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52600" y="477504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19120" y="506880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96880" y="5667480"/>
            <a:ext cx="616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52600" y="340056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19120" y="369396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163600" y="4013280"/>
            <a:ext cx="228312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94710"/>
              </a:gs>
              <a:gs pos="100000">
                <a:srgbClr val="ef8d21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6552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ac2c2"/>
              </a:gs>
              <a:gs pos="100000">
                <a:srgbClr val="499f9f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6360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49393"/>
              </a:gs>
              <a:gs pos="100000">
                <a:srgbClr val="5ac2c2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367080" y="2397240"/>
            <a:ext cx="228456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67474"/>
              </a:gs>
              <a:gs pos="100000">
                <a:srgbClr val="5ac2c2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62400" y="401004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56a19"/>
              </a:gs>
              <a:gs pos="100000">
                <a:srgbClr val="ef8d2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562640" y="4013280"/>
            <a:ext cx="22827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f8d21"/>
              </a:gs>
              <a:gs pos="100000">
                <a:srgbClr val="ad6617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248760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90640" y="424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48280" y="424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483084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3480" y="278136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279864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461628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19880" y="46339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19320" y="1676520"/>
            <a:ext cx="30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89320" y="56833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90640" y="307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48280" y="307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657600" y="3429000"/>
            <a:ext cx="1652760" cy="1108080"/>
            <a:chOff x="3657600" y="3429000"/>
            <a:chExt cx="1652760" cy="1108080"/>
          </a:xfrm>
        </p:grpSpPr>
        <p:sp>
          <p:nvSpPr>
            <p:cNvPr id="448" name=""/>
            <p:cNvSpPr/>
            <p:nvPr/>
          </p:nvSpPr>
          <p:spPr>
            <a:xfrm>
              <a:off x="3657600" y="3429000"/>
              <a:ext cx="1652760" cy="1108080"/>
            </a:xfrm>
            <a:prstGeom prst="hexagon">
              <a:avLst>
                <a:gd name="adj" fmla="val 37289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1160" y="3456000"/>
              <a:ext cx="1554480" cy="1042200"/>
            </a:xfrm>
            <a:prstGeom prst="hexagon">
              <a:avLst>
                <a:gd name="adj" fmla="val 37288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857760" y="35971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1400" y="282564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ef8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36600" y="4029120"/>
            <a:ext cx="1133640" cy="1044360"/>
            <a:chOff x="1236600" y="4029120"/>
            <a:chExt cx="1133640" cy="1044360"/>
          </a:xfrm>
        </p:grpSpPr>
        <p:sp>
          <p:nvSpPr>
            <p:cNvPr id="454" name=""/>
            <p:cNvSpPr/>
            <p:nvPr/>
          </p:nvSpPr>
          <p:spPr>
            <a:xfrm>
              <a:off x="1348560" y="4833360"/>
              <a:ext cx="44172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52040" y="4750560"/>
              <a:ext cx="483480" cy="2224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65600" y="4885560"/>
              <a:ext cx="40464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6600" y="43110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1360" y="402912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61560" y="43268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183440" y="19051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130720" y="25430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224160" y="31798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600120" y="5394240"/>
            <a:ext cx="1808280" cy="314280"/>
            <a:chOff x="600120" y="5394240"/>
            <a:chExt cx="1808280" cy="314280"/>
          </a:xfrm>
        </p:grpSpPr>
        <p:sp>
          <p:nvSpPr>
            <p:cNvPr id="464" name=""/>
            <p:cNvSpPr/>
            <p:nvPr/>
          </p:nvSpPr>
          <p:spPr>
            <a:xfrm>
              <a:off x="600120" y="53942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318400" y="542088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0920" y="542160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Text Box 18"/>
          <p:cNvSpPr/>
          <p:nvPr/>
        </p:nvSpPr>
        <p:spPr>
          <a:xfrm>
            <a:off x="816120" y="537228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38200" y="190512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1400" y="57434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92520" y="50418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95920" y="421488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900840" y="33876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730600" y="4595760"/>
            <a:ext cx="1807920" cy="312840"/>
            <a:chOff x="2730600" y="4595760"/>
            <a:chExt cx="1807920" cy="312840"/>
          </a:xfrm>
        </p:grpSpPr>
        <p:sp>
          <p:nvSpPr>
            <p:cNvPr id="474" name=""/>
            <p:cNvSpPr/>
            <p:nvPr/>
          </p:nvSpPr>
          <p:spPr>
            <a:xfrm>
              <a:off x="2730600" y="459576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448520" y="462204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41400" y="4623120"/>
              <a:ext cx="8064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Text Box 18"/>
          <p:cNvSpPr/>
          <p:nvPr/>
        </p:nvSpPr>
        <p:spPr>
          <a:xfrm>
            <a:off x="2944800" y="45734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761000" y="3782880"/>
            <a:ext cx="1807920" cy="314280"/>
            <a:chOff x="4761000" y="3782880"/>
            <a:chExt cx="1807920" cy="314280"/>
          </a:xfrm>
        </p:grpSpPr>
        <p:sp>
          <p:nvSpPr>
            <p:cNvPr id="479" name=""/>
            <p:cNvSpPr/>
            <p:nvPr/>
          </p:nvSpPr>
          <p:spPr>
            <a:xfrm>
              <a:off x="4761000" y="378288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478920" y="38095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71800" y="381024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Text Box 18"/>
          <p:cNvSpPr/>
          <p:nvPr/>
        </p:nvSpPr>
        <p:spPr>
          <a:xfrm>
            <a:off x="4976640" y="376092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878520" y="2992320"/>
            <a:ext cx="1808280" cy="314280"/>
            <a:chOff x="6878520" y="2992320"/>
            <a:chExt cx="1808280" cy="314280"/>
          </a:xfrm>
        </p:grpSpPr>
        <p:sp>
          <p:nvSpPr>
            <p:cNvPr id="484" name=""/>
            <p:cNvSpPr/>
            <p:nvPr/>
          </p:nvSpPr>
          <p:spPr>
            <a:xfrm>
              <a:off x="6878520" y="299232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8596800" y="301896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89320" y="301968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8"/>
          <p:cNvSpPr/>
          <p:nvPr/>
        </p:nvSpPr>
        <p:spPr>
          <a:xfrm>
            <a:off x="7094520" y="29703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90720" y="24382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1340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54f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194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ac2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08440" y="27986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fb15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938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f8d2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1666800"/>
            <a:ext cx="662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298520" y="5146560"/>
            <a:ext cx="1553760" cy="704880"/>
            <a:chOff x="1298520" y="5146560"/>
            <a:chExt cx="1553760" cy="704880"/>
          </a:xfrm>
        </p:grpSpPr>
        <p:sp>
          <p:nvSpPr>
            <p:cNvPr id="496" name=""/>
            <p:cNvSpPr/>
            <p:nvPr/>
          </p:nvSpPr>
          <p:spPr>
            <a:xfrm>
              <a:off x="129852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9996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917800" y="5146560"/>
            <a:ext cx="1553760" cy="704880"/>
            <a:chOff x="2917800" y="5146560"/>
            <a:chExt cx="1553760" cy="704880"/>
          </a:xfrm>
        </p:grpSpPr>
        <p:sp>
          <p:nvSpPr>
            <p:cNvPr id="499" name=""/>
            <p:cNvSpPr/>
            <p:nvPr/>
          </p:nvSpPr>
          <p:spPr>
            <a:xfrm>
              <a:off x="291780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1924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a9cf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535640" y="5146560"/>
            <a:ext cx="1553760" cy="704880"/>
            <a:chOff x="4535640" y="5146560"/>
            <a:chExt cx="1553760" cy="704880"/>
          </a:xfrm>
        </p:grpSpPr>
        <p:sp>
          <p:nvSpPr>
            <p:cNvPr id="502" name=""/>
            <p:cNvSpPr/>
            <p:nvPr/>
          </p:nvSpPr>
          <p:spPr>
            <a:xfrm>
              <a:off x="453564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a5a5"/>
                </a:gs>
                <a:gs pos="100000">
                  <a:srgbClr val="5ac2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3708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9c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51680" y="5146560"/>
            <a:ext cx="1553760" cy="704880"/>
            <a:chOff x="6151680" y="5146560"/>
            <a:chExt cx="1553760" cy="704880"/>
          </a:xfrm>
        </p:grpSpPr>
        <p:sp>
          <p:nvSpPr>
            <p:cNvPr id="505" name=""/>
            <p:cNvSpPr/>
            <p:nvPr/>
          </p:nvSpPr>
          <p:spPr>
            <a:xfrm>
              <a:off x="615168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5312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39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386000" y="2960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00240" y="296064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21320" y="2960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22960" y="29606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16160" y="51386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33640" y="51386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56160" y="51386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54560" y="51386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301760" y="4952880"/>
            <a:ext cx="1550520" cy="154080"/>
            <a:chOff x="1301760" y="4952880"/>
            <a:chExt cx="1550520" cy="154080"/>
          </a:xfrm>
        </p:grpSpPr>
        <p:sp>
          <p:nvSpPr>
            <p:cNvPr id="516" name=""/>
            <p:cNvSpPr/>
            <p:nvPr/>
          </p:nvSpPr>
          <p:spPr>
            <a:xfrm>
              <a:off x="1301760" y="4952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02840" y="4952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301760" y="4799160"/>
            <a:ext cx="1550520" cy="152280"/>
            <a:chOff x="1301760" y="4799160"/>
            <a:chExt cx="1550520" cy="152280"/>
          </a:xfrm>
        </p:grpSpPr>
        <p:sp>
          <p:nvSpPr>
            <p:cNvPr id="519" name=""/>
            <p:cNvSpPr/>
            <p:nvPr/>
          </p:nvSpPr>
          <p:spPr>
            <a:xfrm>
              <a:off x="1301760" y="4799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02840" y="4799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301760" y="4611600"/>
            <a:ext cx="1550520" cy="154080"/>
            <a:chOff x="1301760" y="4611600"/>
            <a:chExt cx="1550520" cy="154080"/>
          </a:xfrm>
        </p:grpSpPr>
        <p:sp>
          <p:nvSpPr>
            <p:cNvPr id="522" name=""/>
            <p:cNvSpPr/>
            <p:nvPr/>
          </p:nvSpPr>
          <p:spPr>
            <a:xfrm>
              <a:off x="1301760" y="46116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02840" y="46116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301760" y="4424400"/>
            <a:ext cx="1550520" cy="154080"/>
            <a:chOff x="1301760" y="4424400"/>
            <a:chExt cx="1550520" cy="154080"/>
          </a:xfrm>
        </p:grpSpPr>
        <p:sp>
          <p:nvSpPr>
            <p:cNvPr id="525" name=""/>
            <p:cNvSpPr/>
            <p:nvPr/>
          </p:nvSpPr>
          <p:spPr>
            <a:xfrm>
              <a:off x="1301760" y="4424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02840" y="4424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301760" y="4241880"/>
            <a:ext cx="1550520" cy="154080"/>
            <a:chOff x="1301760" y="4241880"/>
            <a:chExt cx="1550520" cy="154080"/>
          </a:xfrm>
        </p:grpSpPr>
        <p:sp>
          <p:nvSpPr>
            <p:cNvPr id="528" name=""/>
            <p:cNvSpPr/>
            <p:nvPr/>
          </p:nvSpPr>
          <p:spPr>
            <a:xfrm>
              <a:off x="1301760" y="4241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2840" y="4241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301760" y="4054320"/>
            <a:ext cx="1550520" cy="154080"/>
            <a:chOff x="1301760" y="4054320"/>
            <a:chExt cx="1550520" cy="154080"/>
          </a:xfrm>
        </p:grpSpPr>
        <p:sp>
          <p:nvSpPr>
            <p:cNvPr id="531" name=""/>
            <p:cNvSpPr/>
            <p:nvPr/>
          </p:nvSpPr>
          <p:spPr>
            <a:xfrm>
              <a:off x="1301760" y="40543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02840" y="40543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1760" y="3867120"/>
            <a:ext cx="1550520" cy="154080"/>
            <a:chOff x="1301760" y="3867120"/>
            <a:chExt cx="1550520" cy="154080"/>
          </a:xfrm>
        </p:grpSpPr>
        <p:sp>
          <p:nvSpPr>
            <p:cNvPr id="534" name=""/>
            <p:cNvSpPr/>
            <p:nvPr/>
          </p:nvSpPr>
          <p:spPr>
            <a:xfrm>
              <a:off x="1301760" y="3867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02840" y="3867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301760" y="3681360"/>
            <a:ext cx="1550520" cy="154080"/>
            <a:chOff x="1301760" y="3681360"/>
            <a:chExt cx="1550520" cy="154080"/>
          </a:xfrm>
        </p:grpSpPr>
        <p:sp>
          <p:nvSpPr>
            <p:cNvPr id="537" name=""/>
            <p:cNvSpPr/>
            <p:nvPr/>
          </p:nvSpPr>
          <p:spPr>
            <a:xfrm>
              <a:off x="1301760" y="3681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02840" y="3681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925720" y="4952880"/>
            <a:ext cx="1550520" cy="154080"/>
            <a:chOff x="2925720" y="4952880"/>
            <a:chExt cx="1550520" cy="154080"/>
          </a:xfrm>
        </p:grpSpPr>
        <p:sp>
          <p:nvSpPr>
            <p:cNvPr id="540" name=""/>
            <p:cNvSpPr/>
            <p:nvPr/>
          </p:nvSpPr>
          <p:spPr>
            <a:xfrm>
              <a:off x="2925720" y="49528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6fb157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26800" y="4952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925720" y="4799160"/>
            <a:ext cx="1550520" cy="152280"/>
            <a:chOff x="2925720" y="4799160"/>
            <a:chExt cx="1550520" cy="152280"/>
          </a:xfrm>
        </p:grpSpPr>
        <p:sp>
          <p:nvSpPr>
            <p:cNvPr id="543" name=""/>
            <p:cNvSpPr/>
            <p:nvPr/>
          </p:nvSpPr>
          <p:spPr>
            <a:xfrm>
              <a:off x="2925720" y="4799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26800" y="4799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527720" y="4952880"/>
            <a:ext cx="1548720" cy="154080"/>
            <a:chOff x="4527720" y="4952880"/>
            <a:chExt cx="1548720" cy="154080"/>
          </a:xfrm>
        </p:grpSpPr>
        <p:sp>
          <p:nvSpPr>
            <p:cNvPr id="546" name=""/>
            <p:cNvSpPr/>
            <p:nvPr/>
          </p:nvSpPr>
          <p:spPr>
            <a:xfrm>
              <a:off x="4527720" y="495288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28800" y="495288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148440" y="4952880"/>
            <a:ext cx="1549080" cy="154080"/>
            <a:chOff x="6148440" y="4952880"/>
            <a:chExt cx="1549080" cy="154080"/>
          </a:xfrm>
        </p:grpSpPr>
        <p:sp>
          <p:nvSpPr>
            <p:cNvPr id="549" name=""/>
            <p:cNvSpPr/>
            <p:nvPr/>
          </p:nvSpPr>
          <p:spPr>
            <a:xfrm>
              <a:off x="6148440" y="4952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49520" y="4952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084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925720" y="4613400"/>
            <a:ext cx="1550520" cy="152280"/>
            <a:chOff x="2925720" y="4613400"/>
            <a:chExt cx="1550520" cy="152280"/>
          </a:xfrm>
        </p:grpSpPr>
        <p:sp>
          <p:nvSpPr>
            <p:cNvPr id="552" name=""/>
            <p:cNvSpPr/>
            <p:nvPr/>
          </p:nvSpPr>
          <p:spPr>
            <a:xfrm>
              <a:off x="2925720" y="4613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26800" y="4613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25720" y="4435560"/>
            <a:ext cx="1550520" cy="152280"/>
            <a:chOff x="2925720" y="4435560"/>
            <a:chExt cx="1550520" cy="152280"/>
          </a:xfrm>
        </p:grpSpPr>
        <p:sp>
          <p:nvSpPr>
            <p:cNvPr id="555" name=""/>
            <p:cNvSpPr/>
            <p:nvPr/>
          </p:nvSpPr>
          <p:spPr>
            <a:xfrm>
              <a:off x="2925720" y="4435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26800" y="4435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925720" y="4249800"/>
            <a:ext cx="1550520" cy="152280"/>
            <a:chOff x="2925720" y="4249800"/>
            <a:chExt cx="1550520" cy="152280"/>
          </a:xfrm>
        </p:grpSpPr>
        <p:sp>
          <p:nvSpPr>
            <p:cNvPr id="558" name=""/>
            <p:cNvSpPr/>
            <p:nvPr/>
          </p:nvSpPr>
          <p:spPr>
            <a:xfrm>
              <a:off x="2925720" y="4249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26800" y="4249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527720" y="4797360"/>
            <a:ext cx="1548720" cy="154080"/>
            <a:chOff x="4527720" y="4797360"/>
            <a:chExt cx="1548720" cy="154080"/>
          </a:xfrm>
        </p:grpSpPr>
        <p:sp>
          <p:nvSpPr>
            <p:cNvPr id="561" name=""/>
            <p:cNvSpPr/>
            <p:nvPr/>
          </p:nvSpPr>
          <p:spPr>
            <a:xfrm>
              <a:off x="4527720" y="479736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28800" y="479736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527720" y="4611600"/>
            <a:ext cx="1548720" cy="154080"/>
            <a:chOff x="4527720" y="4611600"/>
            <a:chExt cx="1548720" cy="154080"/>
          </a:xfrm>
        </p:grpSpPr>
        <p:sp>
          <p:nvSpPr>
            <p:cNvPr id="564" name=""/>
            <p:cNvSpPr/>
            <p:nvPr/>
          </p:nvSpPr>
          <p:spPr>
            <a:xfrm>
              <a:off x="4527720" y="461160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8800" y="461160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48440" y="4789440"/>
            <a:ext cx="1549080" cy="154080"/>
            <a:chOff x="6148440" y="4789440"/>
            <a:chExt cx="1549080" cy="154080"/>
          </a:xfrm>
        </p:grpSpPr>
        <p:sp>
          <p:nvSpPr>
            <p:cNvPr id="567" name=""/>
            <p:cNvSpPr/>
            <p:nvPr/>
          </p:nvSpPr>
          <p:spPr>
            <a:xfrm>
              <a:off x="6148440" y="47894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49520" y="47894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084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0720" y="5057640"/>
            <a:ext cx="3352680" cy="11908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219320" y="4857840"/>
            <a:ext cx="2885760" cy="443880"/>
            <a:chOff x="1219320" y="4857840"/>
            <a:chExt cx="2885760" cy="443880"/>
          </a:xfrm>
        </p:grpSpPr>
        <p:sp>
          <p:nvSpPr>
            <p:cNvPr id="572" name=""/>
            <p:cNvSpPr/>
            <p:nvPr/>
          </p:nvSpPr>
          <p:spPr>
            <a:xfrm>
              <a:off x="1219320" y="4857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38760" y="486144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648320" y="5057640"/>
            <a:ext cx="3352680" cy="11908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876920" y="4857840"/>
            <a:ext cx="2885760" cy="443880"/>
            <a:chOff x="4876920" y="4857840"/>
            <a:chExt cx="2885760" cy="443880"/>
          </a:xfrm>
        </p:grpSpPr>
        <p:sp>
          <p:nvSpPr>
            <p:cNvPr id="576" name=""/>
            <p:cNvSpPr/>
            <p:nvPr/>
          </p:nvSpPr>
          <p:spPr>
            <a:xfrm>
              <a:off x="4876920" y="4857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96360" y="486144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709560" y="4248000"/>
            <a:ext cx="7824960" cy="552600"/>
            <a:chOff x="709560" y="4248000"/>
            <a:chExt cx="7824960" cy="552600"/>
          </a:xfrm>
        </p:grpSpPr>
        <p:sp>
          <p:nvSpPr>
            <p:cNvPr id="579" name=""/>
            <p:cNvSpPr/>
            <p:nvPr/>
          </p:nvSpPr>
          <p:spPr>
            <a:xfrm>
              <a:off x="709560" y="4383000"/>
              <a:ext cx="346320" cy="27792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47452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440" y="4248000"/>
              <a:ext cx="7696080" cy="552600"/>
            </a:xfrm>
            <a:prstGeom prst="rightArrow">
              <a:avLst>
                <a:gd name="adj1" fmla="val 50000"/>
                <a:gd name="adj2" fmla="val 6318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47452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67652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2100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656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990720" y="2438280"/>
            <a:ext cx="0" cy="1905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346560" y="2101320"/>
            <a:ext cx="0" cy="2241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686560" y="1644120"/>
            <a:ext cx="0" cy="269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050320" y="1263240"/>
            <a:ext cx="0" cy="307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90720" y="388620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4bc7f"/>
              </a:gs>
              <a:gs pos="100000">
                <a:srgbClr val="ef8d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48000" y="335268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b0d3a3"/>
              </a:gs>
              <a:gs pos="100000">
                <a:srgbClr val="6fb1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695920" y="274320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95d7d7"/>
              </a:gs>
              <a:gs pos="100000">
                <a:srgbClr val="5ac2c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271476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75000" y="22096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22920" y="16002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889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49200" y="4903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06800" y="4903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096920" y="53802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45160" y="53802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81280" y="3657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910120" y="338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773520" y="2467080"/>
            <a:ext cx="4761000" cy="2414880"/>
            <a:chOff x="3773520" y="2467080"/>
            <a:chExt cx="4761000" cy="2414880"/>
          </a:xfrm>
        </p:grpSpPr>
        <p:sp>
          <p:nvSpPr>
            <p:cNvPr id="603" name=""/>
            <p:cNvSpPr/>
            <p:nvPr/>
          </p:nvSpPr>
          <p:spPr>
            <a:xfrm>
              <a:off x="3773520" y="246708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73520" y="28724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73520" y="32659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73520" y="36716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73520" y="406548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73520" y="44708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73520" y="488160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348720" y="2208240"/>
            <a:ext cx="636480" cy="2670840"/>
            <a:chOff x="3348720" y="2208240"/>
            <a:chExt cx="636480" cy="2670840"/>
          </a:xfrm>
        </p:grpSpPr>
        <p:sp>
          <p:nvSpPr>
            <p:cNvPr id="611" name=""/>
            <p:cNvSpPr/>
            <p:nvPr/>
          </p:nvSpPr>
          <p:spPr>
            <a:xfrm>
              <a:off x="3378960" y="4572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72840" y="41972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72840" y="3771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48720" y="33656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48720" y="2989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48720" y="25632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48720" y="2208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674800" y="55306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884240" y="5076720"/>
            <a:ext cx="6478560" cy="792000"/>
            <a:chOff x="1884240" y="5076720"/>
            <a:chExt cx="6478560" cy="792000"/>
          </a:xfrm>
        </p:grpSpPr>
        <p:sp>
          <p:nvSpPr>
            <p:cNvPr id="620" name=""/>
            <p:cNvSpPr/>
            <p:nvPr/>
          </p:nvSpPr>
          <p:spPr>
            <a:xfrm flipV="1">
              <a:off x="1884240" y="56185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054240" y="5076720"/>
              <a:ext cx="5308560" cy="792000"/>
              <a:chOff x="3054240" y="5076720"/>
              <a:chExt cx="5308560" cy="79200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3054240" y="50958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4951440" y="51195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5810040" y="52621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734160" y="53049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650000" y="53323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4019400" y="50767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3538440" y="25146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0f6ee">
                  <a:alpha val="80392"/>
                </a:srgbClr>
              </a:gs>
              <a:gs pos="100000">
                <a:srgbClr val="6fb157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354480" y="3762360"/>
            <a:ext cx="464004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c9eaea">
                  <a:alpha val="90196"/>
                </a:srgbClr>
              </a:gs>
              <a:gs pos="100000">
                <a:srgbClr val="5ac2c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24120" y="56070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4176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3240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45360" y="58672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270920" y="5943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93040" y="322596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178160" y="44323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348080" y="31543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5ac2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27640" y="20257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6fb15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306440" y="3809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306440" y="42260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65280" y="19810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65280" y="3581280"/>
            <a:ext cx="25146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49320" y="4267080"/>
            <a:ext cx="314280" cy="330480"/>
          </a:xfrm>
          <a:prstGeom prst="ellipse">
            <a:avLst/>
          </a:prstGeom>
          <a:gradFill rotWithShape="0">
            <a:gsLst>
              <a:gs pos="0">
                <a:srgbClr val="6fb157"/>
              </a:gs>
              <a:gs pos="100000">
                <a:srgbClr val="49753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42840" y="3840120"/>
            <a:ext cx="314640" cy="33012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5842080" y="2693880"/>
            <a:ext cx="2747880" cy="30974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4297320" y="311292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60440" y="3114720"/>
            <a:ext cx="2810160" cy="257472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54f6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050920" y="2814480"/>
            <a:ext cx="434988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fb157"/>
              </a:gs>
              <a:gs pos="100000">
                <a:srgbClr val="335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00280" y="281304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66216"/>
              </a:gs>
              <a:gs pos="100000">
                <a:srgbClr val="ef8d21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949320" y="347652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738520" y="284148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52960" y="369720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162240" y="369396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20080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684840" y="41338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d54f6f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83480" y="4510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83480" y="49118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783480" y="5313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83480" y="5716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13120" y="41338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d54f6f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11760" y="4510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11760" y="49118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811760" y="5313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811760" y="5716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595600" y="41338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6fb157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692440" y="4510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92440" y="49118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692440" y="53132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92440" y="57164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3880" y="41338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6fb157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7800" y="3914640"/>
            <a:ext cx="1789200" cy="407880"/>
            <a:chOff x="667800" y="3914640"/>
            <a:chExt cx="1789200" cy="407880"/>
          </a:xfrm>
        </p:grpSpPr>
        <p:sp>
          <p:nvSpPr>
            <p:cNvPr id="674" name=""/>
            <p:cNvSpPr/>
            <p:nvPr/>
          </p:nvSpPr>
          <p:spPr>
            <a:xfrm>
              <a:off x="674640" y="391464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667800" y="3971880"/>
              <a:ext cx="97560" cy="320760"/>
              <a:chOff x="667800" y="3971880"/>
              <a:chExt cx="97560" cy="320760"/>
            </a:xfrm>
          </p:grpSpPr>
          <p:sp>
            <p:nvSpPr>
              <p:cNvPr id="676" name=""/>
              <p:cNvSpPr/>
              <p:nvPr/>
            </p:nvSpPr>
            <p:spPr>
              <a:xfrm flipV="1" rot="21333000">
                <a:off x="68004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21333000">
                <a:off x="68472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 rot="21333000">
                <a:off x="68292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352600" y="3967920"/>
              <a:ext cx="104400" cy="338760"/>
              <a:chOff x="2352600" y="3967920"/>
              <a:chExt cx="104400" cy="338760"/>
            </a:xfrm>
          </p:grpSpPr>
          <p:sp>
            <p:nvSpPr>
              <p:cNvPr id="680" name=""/>
              <p:cNvSpPr/>
              <p:nvPr/>
            </p:nvSpPr>
            <p:spPr>
              <a:xfrm flipH="1" flipV="1" rot="267000">
                <a:off x="236520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 rot="267000">
                <a:off x="238968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 rot="267000">
                <a:off x="240984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83" name="" descr="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1423440" y="32407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2622240" y="3914640"/>
            <a:ext cx="1788840" cy="407880"/>
            <a:chOff x="2622240" y="3914640"/>
            <a:chExt cx="1788840" cy="407880"/>
          </a:xfrm>
        </p:grpSpPr>
        <p:sp>
          <p:nvSpPr>
            <p:cNvPr id="685" name=""/>
            <p:cNvSpPr/>
            <p:nvPr/>
          </p:nvSpPr>
          <p:spPr>
            <a:xfrm>
              <a:off x="2629080" y="3914640"/>
              <a:ext cx="176616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2622240" y="3971880"/>
              <a:ext cx="97560" cy="320760"/>
              <a:chOff x="2622240" y="3971880"/>
              <a:chExt cx="97560" cy="320760"/>
            </a:xfrm>
          </p:grpSpPr>
          <p:sp>
            <p:nvSpPr>
              <p:cNvPr id="687" name=""/>
              <p:cNvSpPr/>
              <p:nvPr/>
            </p:nvSpPr>
            <p:spPr>
              <a:xfrm flipV="1" rot="21333000">
                <a:off x="263448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 rot="21333000">
                <a:off x="263916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 rot="21333000">
                <a:off x="263736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306680" y="3967920"/>
              <a:ext cx="104400" cy="338760"/>
              <a:chOff x="4306680" y="3967920"/>
              <a:chExt cx="104400" cy="338760"/>
            </a:xfrm>
          </p:grpSpPr>
          <p:sp>
            <p:nvSpPr>
              <p:cNvPr id="691" name=""/>
              <p:cNvSpPr/>
              <p:nvPr/>
            </p:nvSpPr>
            <p:spPr>
              <a:xfrm flipH="1" flipV="1" rot="267000">
                <a:off x="431928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 rot="267000">
                <a:off x="434376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 rot="267000">
                <a:off x="436392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94" name="" descr="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3377520" y="3240720"/>
              <a:ext cx="25272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"/>
          <p:cNvGrpSpPr/>
          <p:nvPr/>
        </p:nvGrpSpPr>
        <p:grpSpPr>
          <a:xfrm>
            <a:off x="4752360" y="3914640"/>
            <a:ext cx="1787760" cy="407880"/>
            <a:chOff x="4752360" y="3914640"/>
            <a:chExt cx="1787760" cy="407880"/>
          </a:xfrm>
        </p:grpSpPr>
        <p:sp>
          <p:nvSpPr>
            <p:cNvPr id="696" name=""/>
            <p:cNvSpPr/>
            <p:nvPr/>
          </p:nvSpPr>
          <p:spPr>
            <a:xfrm>
              <a:off x="4759200" y="3914640"/>
              <a:ext cx="176508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4752360" y="3971880"/>
              <a:ext cx="97560" cy="320760"/>
              <a:chOff x="4752360" y="3971880"/>
              <a:chExt cx="97560" cy="320760"/>
            </a:xfrm>
          </p:grpSpPr>
          <p:sp>
            <p:nvSpPr>
              <p:cNvPr id="698" name=""/>
              <p:cNvSpPr/>
              <p:nvPr/>
            </p:nvSpPr>
            <p:spPr>
              <a:xfrm flipV="1" rot="21333000">
                <a:off x="476460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 rot="21333000">
                <a:off x="476928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 rot="21333000">
                <a:off x="476748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6435720" y="3967920"/>
              <a:ext cx="104400" cy="338760"/>
              <a:chOff x="6435720" y="3967920"/>
              <a:chExt cx="104400" cy="338760"/>
            </a:xfrm>
          </p:grpSpPr>
          <p:sp>
            <p:nvSpPr>
              <p:cNvPr id="702" name=""/>
              <p:cNvSpPr/>
              <p:nvPr/>
            </p:nvSpPr>
            <p:spPr>
              <a:xfrm flipH="1" flipV="1" rot="267000">
                <a:off x="644832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 rot="267000">
                <a:off x="647280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 rot="267000">
                <a:off x="649296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05" name="" descr="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507280" y="324144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6708240" y="3914640"/>
            <a:ext cx="1789200" cy="407880"/>
            <a:chOff x="6708240" y="3914640"/>
            <a:chExt cx="1789200" cy="407880"/>
          </a:xfrm>
        </p:grpSpPr>
        <p:sp>
          <p:nvSpPr>
            <p:cNvPr id="707" name=""/>
            <p:cNvSpPr/>
            <p:nvPr/>
          </p:nvSpPr>
          <p:spPr>
            <a:xfrm>
              <a:off x="6715080" y="391464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708240" y="3971880"/>
              <a:ext cx="97560" cy="320760"/>
              <a:chOff x="6708240" y="3971880"/>
              <a:chExt cx="97560" cy="320760"/>
            </a:xfrm>
          </p:grpSpPr>
          <p:sp>
            <p:nvSpPr>
              <p:cNvPr id="709" name=""/>
              <p:cNvSpPr/>
              <p:nvPr/>
            </p:nvSpPr>
            <p:spPr>
              <a:xfrm flipV="1" rot="21333000">
                <a:off x="672048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21333000">
                <a:off x="672516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 rot="21333000">
                <a:off x="672336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393040" y="3967920"/>
              <a:ext cx="104400" cy="338760"/>
              <a:chOff x="8393040" y="3967920"/>
              <a:chExt cx="104400" cy="338760"/>
            </a:xfrm>
          </p:grpSpPr>
          <p:sp>
            <p:nvSpPr>
              <p:cNvPr id="713" name=""/>
              <p:cNvSpPr/>
              <p:nvPr/>
            </p:nvSpPr>
            <p:spPr>
              <a:xfrm flipH="1" flipV="1" rot="267000">
                <a:off x="840564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 rot="267000">
                <a:off x="843012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 rot="267000">
                <a:off x="845028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16" name="" descr="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63880" y="32407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17" name=""/>
          <p:cNvCxnSpPr>
            <a:stCxn id="718" idx="2"/>
            <a:endCxn id="719" idx="3"/>
          </p:cNvCxnSpPr>
          <p:nvPr/>
        </p:nvCxnSpPr>
        <p:spPr>
          <a:xfrm rot="5400000">
            <a:off x="3182400" y="164448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20" name=""/>
          <p:cNvCxnSpPr>
            <a:stCxn id="718" idx="2"/>
            <a:endCxn id="721" idx="3"/>
          </p:cNvCxnSpPr>
          <p:nvPr/>
        </p:nvCxnSpPr>
        <p:spPr>
          <a:xfrm flipH="1" rot="16200000">
            <a:off x="5244840" y="166500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22" name=""/>
          <p:cNvGrpSpPr/>
          <p:nvPr/>
        </p:nvGrpSpPr>
        <p:grpSpPr>
          <a:xfrm>
            <a:off x="6245280" y="1539720"/>
            <a:ext cx="1484280" cy="366480"/>
            <a:chOff x="6245280" y="1539720"/>
            <a:chExt cx="1484280" cy="366480"/>
          </a:xfrm>
        </p:grpSpPr>
        <p:sp>
          <p:nvSpPr>
            <p:cNvPr id="723" name=""/>
            <p:cNvSpPr/>
            <p:nvPr/>
          </p:nvSpPr>
          <p:spPr>
            <a:xfrm>
              <a:off x="6251400" y="153972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8c972"/>
                </a:gs>
                <a:gs pos="100000">
                  <a:srgbClr val="8472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6245280" y="1591560"/>
              <a:ext cx="82080" cy="288360"/>
              <a:chOff x="6245280" y="1591560"/>
              <a:chExt cx="82080" cy="288360"/>
            </a:xfrm>
          </p:grpSpPr>
          <p:sp>
            <p:nvSpPr>
              <p:cNvPr id="725" name=""/>
              <p:cNvSpPr/>
              <p:nvPr/>
            </p:nvSpPr>
            <p:spPr>
              <a:xfrm flipV="1" rot="21333000">
                <a:off x="6256080" y="15930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 rot="21333000">
                <a:off x="6260040" y="16142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 rot="21333000">
                <a:off x="6258240" y="16459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7641360" y="1587960"/>
              <a:ext cx="88200" cy="304560"/>
              <a:chOff x="7641360" y="1587960"/>
              <a:chExt cx="88200" cy="304560"/>
            </a:xfrm>
          </p:grpSpPr>
          <p:sp>
            <p:nvSpPr>
              <p:cNvPr id="729" name=""/>
              <p:cNvSpPr/>
              <p:nvPr/>
            </p:nvSpPr>
            <p:spPr>
              <a:xfrm flipH="1" flipV="1" rot="267000">
                <a:off x="7652160" y="15897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 rot="267000">
                <a:off x="7673040" y="16128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267000">
                <a:off x="7690320" y="16452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32" name="" descr="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62680" y="99000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6245280" y="2146320"/>
            <a:ext cx="1484280" cy="366480"/>
            <a:chOff x="6245280" y="2146320"/>
            <a:chExt cx="1484280" cy="366480"/>
          </a:xfrm>
        </p:grpSpPr>
        <p:sp>
          <p:nvSpPr>
            <p:cNvPr id="734" name=""/>
            <p:cNvSpPr/>
            <p:nvPr/>
          </p:nvSpPr>
          <p:spPr>
            <a:xfrm>
              <a:off x="6251400" y="214632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8c972"/>
                </a:gs>
                <a:gs pos="100000">
                  <a:srgbClr val="8472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6245280" y="2198160"/>
              <a:ext cx="82080" cy="288360"/>
              <a:chOff x="6245280" y="2198160"/>
              <a:chExt cx="82080" cy="288360"/>
            </a:xfrm>
          </p:grpSpPr>
          <p:sp>
            <p:nvSpPr>
              <p:cNvPr id="736" name=""/>
              <p:cNvSpPr/>
              <p:nvPr/>
            </p:nvSpPr>
            <p:spPr>
              <a:xfrm flipV="1" rot="21333000">
                <a:off x="6256080" y="21996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 rot="21333000">
                <a:off x="6260040" y="22208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 rot="21333000">
                <a:off x="6258240" y="22525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641360" y="2194560"/>
              <a:ext cx="88200" cy="304560"/>
              <a:chOff x="7641360" y="2194560"/>
              <a:chExt cx="88200" cy="304560"/>
            </a:xfrm>
          </p:grpSpPr>
          <p:sp>
            <p:nvSpPr>
              <p:cNvPr id="740" name=""/>
              <p:cNvSpPr/>
              <p:nvPr/>
            </p:nvSpPr>
            <p:spPr>
              <a:xfrm flipH="1" flipV="1" rot="267000">
                <a:off x="7652160" y="21963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 rot="267000">
                <a:off x="7673040" y="22194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267000">
                <a:off x="7690320" y="22518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3" name="" descr="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2680" y="159660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44" name=""/>
          <p:cNvCxnSpPr>
            <a:endCxn id="683" idx="3"/>
          </p:cNvCxnSpPr>
          <p:nvPr/>
        </p:nvCxnSpPr>
        <p:spPr>
          <a:xfrm rot="5400000">
            <a:off x="1733760" y="318348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45" name=""/>
          <p:cNvCxnSpPr>
            <a:endCxn id="694" idx="3"/>
          </p:cNvCxnSpPr>
          <p:nvPr/>
        </p:nvCxnSpPr>
        <p:spPr>
          <a:xfrm flipH="1" rot="16200000">
            <a:off x="2710800" y="31309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46" name=""/>
          <p:cNvGrpSpPr/>
          <p:nvPr/>
        </p:nvGrpSpPr>
        <p:grpSpPr>
          <a:xfrm>
            <a:off x="1470960" y="3016080"/>
            <a:ext cx="2048760" cy="365040"/>
            <a:chOff x="1470960" y="3016080"/>
            <a:chExt cx="2048760" cy="365040"/>
          </a:xfrm>
        </p:grpSpPr>
        <p:sp>
          <p:nvSpPr>
            <p:cNvPr id="747" name=""/>
            <p:cNvSpPr/>
            <p:nvPr/>
          </p:nvSpPr>
          <p:spPr>
            <a:xfrm>
              <a:off x="1474920" y="3016080"/>
              <a:ext cx="2029320" cy="36504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1470960" y="3067200"/>
              <a:ext cx="105120" cy="288720"/>
              <a:chOff x="1470960" y="3067200"/>
              <a:chExt cx="105120" cy="288720"/>
            </a:xfrm>
          </p:grpSpPr>
          <p:sp>
            <p:nvSpPr>
              <p:cNvPr id="749" name=""/>
              <p:cNvSpPr/>
              <p:nvPr/>
            </p:nvSpPr>
            <p:spPr>
              <a:xfrm flipV="1" rot="21333000">
                <a:off x="1481760" y="30697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 rot="21333000">
                <a:off x="1486440" y="30913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 rot="21333000">
                <a:off x="1483920" y="31219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3405600" y="3063240"/>
              <a:ext cx="114120" cy="304560"/>
              <a:chOff x="3405600" y="3063240"/>
              <a:chExt cx="114120" cy="304560"/>
            </a:xfrm>
          </p:grpSpPr>
          <p:sp>
            <p:nvSpPr>
              <p:cNvPr id="753" name=""/>
              <p:cNvSpPr/>
              <p:nvPr/>
            </p:nvSpPr>
            <p:spPr>
              <a:xfrm flipH="1" flipV="1" rot="267000">
                <a:off x="3416760" y="306612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 rot="267000">
                <a:off x="3445200" y="30877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 rot="267000">
                <a:off x="3468600" y="31212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6" name="" descr="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67000" y="2207880"/>
              <a:ext cx="22644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57" name=""/>
          <p:cNvCxnSpPr>
            <a:endCxn id="705" idx="3"/>
          </p:cNvCxnSpPr>
          <p:nvPr/>
        </p:nvCxnSpPr>
        <p:spPr>
          <a:xfrm rot="5400000">
            <a:off x="5835960" y="316296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58" name=""/>
          <p:cNvCxnSpPr>
            <a:endCxn id="716" idx="3"/>
          </p:cNvCxnSpPr>
          <p:nvPr/>
        </p:nvCxnSpPr>
        <p:spPr>
          <a:xfrm flipH="1" rot="16200000">
            <a:off x="6812640" y="314784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59" name=""/>
          <p:cNvCxnSpPr>
            <a:stCxn id="718" idx="3"/>
            <a:endCxn id="725" idx="1"/>
          </p:cNvCxnSpPr>
          <p:nvPr/>
        </p:nvCxnSpPr>
        <p:spPr>
          <a:xfrm flipV="1">
            <a:off x="5277960" y="17377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60" name=""/>
          <p:cNvCxnSpPr>
            <a:stCxn id="718" idx="3"/>
            <a:endCxn id="736" idx="1"/>
          </p:cNvCxnSpPr>
          <p:nvPr/>
        </p:nvCxnSpPr>
        <p:spPr>
          <a:xfrm>
            <a:off x="5277960" y="202068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5591880" y="3016080"/>
            <a:ext cx="2050920" cy="365040"/>
            <a:chOff x="5591880" y="3016080"/>
            <a:chExt cx="2050920" cy="365040"/>
          </a:xfrm>
        </p:grpSpPr>
        <p:sp>
          <p:nvSpPr>
            <p:cNvPr id="762" name=""/>
            <p:cNvSpPr/>
            <p:nvPr/>
          </p:nvSpPr>
          <p:spPr>
            <a:xfrm>
              <a:off x="5595840" y="3016080"/>
              <a:ext cx="2031480" cy="36504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591880" y="3067200"/>
              <a:ext cx="105120" cy="288720"/>
              <a:chOff x="5591880" y="3067200"/>
              <a:chExt cx="105120" cy="288720"/>
            </a:xfrm>
          </p:grpSpPr>
          <p:sp>
            <p:nvSpPr>
              <p:cNvPr id="764" name=""/>
              <p:cNvSpPr/>
              <p:nvPr/>
            </p:nvSpPr>
            <p:spPr>
              <a:xfrm flipV="1" rot="21333000">
                <a:off x="5602680" y="30697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 rot="21333000">
                <a:off x="5607360" y="30913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 rot="21333000">
                <a:off x="5604840" y="31219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7528680" y="3063240"/>
              <a:ext cx="114120" cy="304560"/>
              <a:chOff x="7528680" y="3063240"/>
              <a:chExt cx="114120" cy="304560"/>
            </a:xfrm>
          </p:grpSpPr>
          <p:sp>
            <p:nvSpPr>
              <p:cNvPr id="768" name=""/>
              <p:cNvSpPr/>
              <p:nvPr/>
            </p:nvSpPr>
            <p:spPr>
              <a:xfrm flipH="1" flipV="1" rot="267000">
                <a:off x="7539840" y="306612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267000">
                <a:off x="7568280" y="30877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 rot="267000">
                <a:off x="7591680" y="31212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71" name="" descr="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88640" y="2206800"/>
              <a:ext cx="22644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2" name=""/>
          <p:cNvSpPr/>
          <p:nvPr/>
        </p:nvSpPr>
        <p:spPr>
          <a:xfrm>
            <a:off x="720720" y="4510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20720" y="49118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0720" y="53132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20720" y="57164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848040" y="1693800"/>
            <a:ext cx="1430280" cy="652680"/>
            <a:chOff x="3848040" y="1693800"/>
            <a:chExt cx="1430280" cy="652680"/>
          </a:xfrm>
        </p:grpSpPr>
        <p:sp>
          <p:nvSpPr>
            <p:cNvPr id="718" name=""/>
            <p:cNvSpPr/>
            <p:nvPr/>
          </p:nvSpPr>
          <p:spPr>
            <a:xfrm>
              <a:off x="3848040" y="169380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336e6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7" name="" descr="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55000" y="112932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"/>
          <p:cNvSpPr/>
          <p:nvPr/>
        </p:nvSpPr>
        <p:spPr>
          <a:xfrm>
            <a:off x="4224240" y="18241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Arial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20520" y="1555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341400" y="2160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749240" y="30020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868720" y="30020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096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76372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8974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594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9460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9460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9460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9460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519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8519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519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519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047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047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047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0047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9667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9667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9667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9667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81240" y="531504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67040" y="49338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51460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565360"/>
            <a:ext cx="2181240" cy="2463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2771640" cy="27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21337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14760" y="321156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8306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392580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35449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14760" y="464832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2670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4400" y="2209680"/>
            <a:ext cx="314280" cy="330480"/>
          </a:xfrm>
          <a:prstGeom prst="ellipse">
            <a:avLst/>
          </a:prstGeom>
          <a:gradFill rotWithShape="0">
            <a:gsLst>
              <a:gs pos="0">
                <a:srgbClr val="d54f6f"/>
              </a:gs>
              <a:gs pos="100000">
                <a:srgbClr val="8d344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14680" y="2895480"/>
            <a:ext cx="314280" cy="33048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8600" y="3633840"/>
            <a:ext cx="314280" cy="330120"/>
          </a:xfrm>
          <a:prstGeom prst="ellipse">
            <a:avLst/>
          </a:prstGeom>
          <a:gradFill rotWithShape="0">
            <a:gsLst>
              <a:gs pos="0">
                <a:srgbClr val="6fb157"/>
              </a:gs>
              <a:gs pos="100000">
                <a:srgbClr val="49753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83000" y="4324320"/>
            <a:ext cx="314280" cy="330120"/>
          </a:xfrm>
          <a:prstGeom prst="ellipse">
            <a:avLst/>
          </a:prstGeom>
          <a:gradFill rotWithShape="0">
            <a:gsLst>
              <a:gs pos="0">
                <a:srgbClr val="d54f6f"/>
              </a:gs>
              <a:gs pos="100000">
                <a:srgbClr val="8d344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49480" y="5005440"/>
            <a:ext cx="314280" cy="33012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title"/>
          </p:nvPr>
        </p:nvSpPr>
        <p:spPr>
          <a:xfrm>
            <a:off x="75960" y="2437920"/>
            <a:ext cx="6629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Thank you!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95320"/>
            <a:ext cx="7467480" cy="32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1498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mage : www.opena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39840" y="4121280"/>
            <a:ext cx="5056200" cy="923760"/>
            <a:chOff x="2139840" y="4121280"/>
            <a:chExt cx="5056200" cy="923760"/>
          </a:xfrm>
        </p:grpSpPr>
        <p:sp>
          <p:nvSpPr>
            <p:cNvPr id="155" name=""/>
            <p:cNvSpPr/>
            <p:nvPr/>
          </p:nvSpPr>
          <p:spPr>
            <a:xfrm>
              <a:off x="2139840" y="412128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c3449"/>
                </a:gs>
                <a:gs pos="100000">
                  <a:srgbClr val="d54f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50403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9600" y="41212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14720" y="5311800"/>
            <a:ext cx="5084640" cy="923760"/>
            <a:chOff x="2214720" y="5311800"/>
            <a:chExt cx="5084640" cy="923760"/>
          </a:xfrm>
        </p:grpSpPr>
        <p:sp>
          <p:nvSpPr>
            <p:cNvPr id="159" name=""/>
            <p:cNvSpPr/>
            <p:nvPr/>
          </p:nvSpPr>
          <p:spPr>
            <a:xfrm>
              <a:off x="2214720" y="531180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4974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38200" y="62308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1960" y="531180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14720" y="2930400"/>
            <a:ext cx="5084640" cy="924120"/>
            <a:chOff x="2214720" y="2930400"/>
            <a:chExt cx="5084640" cy="924120"/>
          </a:xfrm>
        </p:grpSpPr>
        <p:sp>
          <p:nvSpPr>
            <p:cNvPr id="163" name=""/>
            <p:cNvSpPr/>
            <p:nvPr/>
          </p:nvSpPr>
          <p:spPr>
            <a:xfrm>
              <a:off x="2214720" y="293040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9d5d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79600" y="38494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38200" y="293364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120760" y="1768320"/>
            <a:ext cx="5027760" cy="924120"/>
            <a:chOff x="2120760" y="1768320"/>
            <a:chExt cx="5027760" cy="924120"/>
          </a:xfrm>
        </p:grpSpPr>
        <p:sp>
          <p:nvSpPr>
            <p:cNvPr id="167" name=""/>
            <p:cNvSpPr/>
            <p:nvPr/>
          </p:nvSpPr>
          <p:spPr>
            <a:xfrm>
              <a:off x="2120760" y="1768320"/>
              <a:ext cx="502776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b8080"/>
                </a:gs>
                <a:gs pos="100000">
                  <a:srgbClr val="5ac2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38200" y="26924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8200" y="17715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Text Box 4"/>
          <p:cNvSpPr/>
          <p:nvPr/>
        </p:nvSpPr>
        <p:spPr>
          <a:xfrm>
            <a:off x="2428920" y="19303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387520" y="307656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428920" y="430056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387520" y="546876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1305000" y="1600200"/>
            <a:ext cx="1238040" cy="1236600"/>
            <a:chOff x="1305000" y="1600200"/>
            <a:chExt cx="1238040" cy="1236600"/>
          </a:xfrm>
        </p:grpSpPr>
        <p:sp>
          <p:nvSpPr>
            <p:cNvPr id="175" name="Oval 6"/>
            <p:cNvSpPr/>
            <p:nvPr/>
          </p:nvSpPr>
          <p:spPr>
            <a:xfrm>
              <a:off x="1305000" y="160020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5a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7"/>
            <p:cNvSpPr/>
            <p:nvPr/>
          </p:nvSpPr>
          <p:spPr>
            <a:xfrm>
              <a:off x="1355760" y="165096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5ac2c2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8"/>
            <p:cNvSpPr/>
            <p:nvPr/>
          </p:nvSpPr>
          <p:spPr>
            <a:xfrm>
              <a:off x="1406520" y="17049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5ac2c2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9"/>
          <p:cNvSpPr/>
          <p:nvPr/>
        </p:nvSpPr>
        <p:spPr>
          <a:xfrm>
            <a:off x="1376280" y="19000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6886440" y="2749680"/>
            <a:ext cx="1238400" cy="1236600"/>
            <a:chOff x="6886440" y="2749680"/>
            <a:chExt cx="1238400" cy="1236600"/>
          </a:xfrm>
        </p:grpSpPr>
        <p:sp>
          <p:nvSpPr>
            <p:cNvPr id="180" name="Oval 13"/>
            <p:cNvSpPr/>
            <p:nvPr/>
          </p:nvSpPr>
          <p:spPr>
            <a:xfrm>
              <a:off x="6886440" y="27496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f8d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6937200" y="28004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ef8d21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987960" y="28544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ef8d2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 Box 16"/>
          <p:cNvSpPr/>
          <p:nvPr/>
        </p:nvSpPr>
        <p:spPr>
          <a:xfrm>
            <a:off x="6958080" y="3059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19"/>
          <p:cNvGrpSpPr/>
          <p:nvPr/>
        </p:nvGrpSpPr>
        <p:grpSpPr>
          <a:xfrm>
            <a:off x="1295280" y="3970440"/>
            <a:ext cx="1238400" cy="1236600"/>
            <a:chOff x="1295280" y="3970440"/>
            <a:chExt cx="1238400" cy="1236600"/>
          </a:xfrm>
        </p:grpSpPr>
        <p:sp>
          <p:nvSpPr>
            <p:cNvPr id="185" name="Oval 20"/>
            <p:cNvSpPr/>
            <p:nvPr/>
          </p:nvSpPr>
          <p:spPr>
            <a:xfrm>
              <a:off x="1295280" y="397044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d54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>
              <a:off x="1346040" y="402120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d54f6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>
              <a:off x="1396800" y="407520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d54f6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23"/>
          <p:cNvSpPr/>
          <p:nvPr/>
        </p:nvSpPr>
        <p:spPr>
          <a:xfrm>
            <a:off x="1366920" y="427032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26"/>
          <p:cNvGrpSpPr/>
          <p:nvPr/>
        </p:nvGrpSpPr>
        <p:grpSpPr>
          <a:xfrm>
            <a:off x="6886440" y="5130720"/>
            <a:ext cx="1238400" cy="1236600"/>
            <a:chOff x="6886440" y="5130720"/>
            <a:chExt cx="1238400" cy="1236600"/>
          </a:xfrm>
        </p:grpSpPr>
        <p:sp>
          <p:nvSpPr>
            <p:cNvPr id="190" name="Oval 27"/>
            <p:cNvSpPr/>
            <p:nvPr/>
          </p:nvSpPr>
          <p:spPr>
            <a:xfrm>
              <a:off x="6886440" y="51307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6fb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6937200" y="51814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6fb157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6987960" y="52354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6fb157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6958080" y="54388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905120" y="5759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280" y="15238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f8d21"/>
              </a:gs>
              <a:gs pos="100000">
                <a:srgbClr val="a66216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15238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6fb157"/>
              </a:gs>
              <a:gs pos="100000">
                <a:srgbClr val="588d45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3844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449393"/>
              </a:gs>
              <a:gs pos="100000">
                <a:srgbClr val="5ac2c2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587120" y="353844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c3449"/>
              </a:gs>
              <a:gs pos="100000">
                <a:srgbClr val="d54f6f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3414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7600" y="19270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38760" y="19270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95520" y="44784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38760" y="44784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975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9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97560" y="374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00960" y="374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622600"/>
            <a:ext cx="8435880" cy="4311720"/>
          </a:xfrm>
          <a:custGeom>
            <a:avLst/>
            <a:gdLst/>
            <a:ahLst/>
            <a:rect l="l" t="t" r="r" b="b"/>
            <a:pathLst>
              <a:path w="5218" h="2716">
                <a:moveTo>
                  <a:pt x="0" y="2387"/>
                </a:moveTo>
                <a:cubicBezTo>
                  <a:pt x="0" y="2527"/>
                  <a:pt x="0" y="2668"/>
                  <a:pt x="0" y="2668"/>
                </a:cubicBezTo>
                <a:cubicBezTo>
                  <a:pt x="2256" y="2716"/>
                  <a:pt x="4539" y="1996"/>
                  <a:pt x="5218" y="220"/>
                </a:cubicBezTo>
                <a:lnTo>
                  <a:pt x="4011" y="0"/>
                </a:lnTo>
                <a:cubicBezTo>
                  <a:pt x="3333" y="2003"/>
                  <a:pt x="638" y="2311"/>
                  <a:pt x="0" y="2387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212" name="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872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746360" y="5823000"/>
                <a:ext cx="759600" cy="739800"/>
              </a:xfrm>
              <a:prstGeom prst="ellipse">
                <a:avLst/>
              </a:prstGeom>
              <a:gradFill rotWithShape="0">
                <a:gsLst>
                  <a:gs pos="0">
                    <a:srgbClr val="5ac2c2">
                      <a:alpha val="55294"/>
                    </a:srgbClr>
                  </a:gs>
                  <a:gs pos="50000">
                    <a:srgbClr val="295959">
                      <a:alpha val="90196"/>
                    </a:srgbClr>
                  </a:gs>
                  <a:gs pos="100000">
                    <a:srgbClr val="5ac2c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4800" cy="26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3263760" y="5213520"/>
            <a:ext cx="1079280" cy="1078560"/>
            <a:chOff x="3263760" y="5213520"/>
            <a:chExt cx="1079280" cy="1078560"/>
          </a:xfrm>
        </p:grpSpPr>
        <p:grpSp>
          <p:nvGrpSpPr>
            <p:cNvPr id="218" name=""/>
            <p:cNvGrpSpPr/>
            <p:nvPr/>
          </p:nvGrpSpPr>
          <p:grpSpPr>
            <a:xfrm>
              <a:off x="3263760" y="5213520"/>
              <a:ext cx="1079280" cy="1078560"/>
              <a:chOff x="3263760" y="5213520"/>
              <a:chExt cx="1079280" cy="1078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66000" y="6059160"/>
                <a:ext cx="88884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63760" y="5213520"/>
                <a:ext cx="1079280" cy="9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3263760" y="5213520"/>
                <a:ext cx="1072080" cy="99756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335128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370320" y="5223600"/>
              <a:ext cx="853200" cy="35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4876920" y="3994200"/>
            <a:ext cx="1561320" cy="1599480"/>
            <a:chOff x="4876920" y="3994200"/>
            <a:chExt cx="1561320" cy="1599480"/>
          </a:xfrm>
        </p:grpSpPr>
        <p:grpSp>
          <p:nvGrpSpPr>
            <p:cNvPr id="224" name=""/>
            <p:cNvGrpSpPr/>
            <p:nvPr/>
          </p:nvGrpSpPr>
          <p:grpSpPr>
            <a:xfrm>
              <a:off x="4876920" y="3994200"/>
              <a:ext cx="1561320" cy="1599480"/>
              <a:chOff x="4876920" y="3994200"/>
              <a:chExt cx="1561320" cy="1599480"/>
            </a:xfrm>
          </p:grpSpPr>
          <p:pic>
            <p:nvPicPr>
              <p:cNvPr id="2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24880" y="5248080"/>
                <a:ext cx="1285560" cy="3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3994200"/>
                <a:ext cx="1561320" cy="14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876920" y="3994200"/>
                <a:ext cx="1550520" cy="1479240"/>
              </a:xfrm>
              <a:prstGeom prst="ellipse">
                <a:avLst/>
              </a:prstGeom>
              <a:gradFill rotWithShape="0">
                <a:gsLst>
                  <a:gs pos="0">
                    <a:srgbClr val="ef8d21">
                      <a:alpha val="55294"/>
                    </a:srgbClr>
                  </a:gs>
                  <a:gs pos="50000">
                    <a:srgbClr val="6e400f">
                      <a:alpha val="90196"/>
                    </a:srgbClr>
                  </a:gs>
                  <a:gs pos="100000">
                    <a:srgbClr val="ef8d2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5031360" y="4009320"/>
              <a:ext cx="123444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6324480" y="1631880"/>
            <a:ext cx="2278440" cy="2361240"/>
            <a:chOff x="6324480" y="1631880"/>
            <a:chExt cx="2278440" cy="2361240"/>
          </a:xfrm>
        </p:grpSpPr>
        <p:grpSp>
          <p:nvGrpSpPr>
            <p:cNvPr id="230" name=""/>
            <p:cNvGrpSpPr/>
            <p:nvPr/>
          </p:nvGrpSpPr>
          <p:grpSpPr>
            <a:xfrm>
              <a:off x="6324480" y="1631880"/>
              <a:ext cx="2278440" cy="2361240"/>
              <a:chOff x="6324480" y="1631880"/>
              <a:chExt cx="2278440" cy="2361240"/>
            </a:xfrm>
          </p:grpSpPr>
          <p:pic>
            <p:nvPicPr>
              <p:cNvPr id="23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40480" y="3483000"/>
                <a:ext cx="1876320" cy="51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24480" y="1631880"/>
                <a:ext cx="2278440" cy="217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6324480" y="1631880"/>
                <a:ext cx="2262960" cy="2183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6549840" y="1654560"/>
              <a:ext cx="1801800" cy="77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429000" y="5518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181480" y="4451400"/>
            <a:ext cx="9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6858000" y="2405160"/>
            <a:ext cx="9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38080" y="2317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156120"/>
            <a:ext cx="3733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51320" y="2760840"/>
            <a:ext cx="2867040" cy="2968560"/>
          </a:xfrm>
          <a:prstGeom prst="ellipse">
            <a:avLst/>
          </a:prstGeom>
          <a:noFill/>
          <a:ln w="57240">
            <a:solidFill>
              <a:srgbClr val="e8c972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47760" y="2760840"/>
            <a:ext cx="2867040" cy="2968560"/>
          </a:xfrm>
          <a:prstGeom prst="ellipse">
            <a:avLst/>
          </a:prstGeom>
          <a:noFill/>
          <a:ln w="57240">
            <a:solidFill>
              <a:srgbClr val="e8c972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3678120"/>
            <a:ext cx="2514600" cy="1220760"/>
          </a:xfrm>
          <a:prstGeom prst="roundRect">
            <a:avLst>
              <a:gd name="adj" fmla="val 13264"/>
            </a:avLst>
          </a:prstGeom>
          <a:gradFill rotWithShape="0">
            <a:gsLst>
              <a:gs pos="0">
                <a:srgbClr val="ef8d21"/>
              </a:gs>
              <a:gs pos="100000">
                <a:srgbClr val="6e400f"/>
              </a:gs>
            </a:gsLst>
            <a:lin ang="5400000"/>
          </a:gradFill>
          <a:ln w="3816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05936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40021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557360" y="2378160"/>
            <a:ext cx="1044720" cy="1022400"/>
            <a:chOff x="1557360" y="2378160"/>
            <a:chExt cx="1044720" cy="1022400"/>
          </a:xfrm>
        </p:grpSpPr>
        <p:grpSp>
          <p:nvGrpSpPr>
            <p:cNvPr id="251" name=""/>
            <p:cNvGrpSpPr/>
            <p:nvPr/>
          </p:nvGrpSpPr>
          <p:grpSpPr>
            <a:xfrm>
              <a:off x="1557360" y="2378160"/>
              <a:ext cx="1044720" cy="1022400"/>
              <a:chOff x="1557360" y="2378160"/>
              <a:chExt cx="1044720" cy="102240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57360" y="2378160"/>
                <a:ext cx="104472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1557360" y="2378160"/>
                <a:ext cx="103752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1661400" y="2387880"/>
              <a:ext cx="825120" cy="3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696960" y="3749760"/>
            <a:ext cx="1044360" cy="1022400"/>
            <a:chOff x="696960" y="3749760"/>
            <a:chExt cx="1044360" cy="1022400"/>
          </a:xfrm>
        </p:grpSpPr>
        <p:grpSp>
          <p:nvGrpSpPr>
            <p:cNvPr id="256" name=""/>
            <p:cNvGrpSpPr/>
            <p:nvPr/>
          </p:nvGrpSpPr>
          <p:grpSpPr>
            <a:xfrm>
              <a:off x="696960" y="3749760"/>
              <a:ext cx="1044360" cy="1022400"/>
              <a:chOff x="696960" y="3749760"/>
              <a:chExt cx="1044360" cy="1022400"/>
            </a:xfrm>
          </p:grpSpPr>
          <p:pic>
            <p:nvPicPr>
              <p:cNvPr id="2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6960" y="3749760"/>
                <a:ext cx="104436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696960" y="3749760"/>
                <a:ext cx="103716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801000" y="3759480"/>
              <a:ext cx="824760" cy="3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1557360" y="5045040"/>
            <a:ext cx="1044720" cy="1022400"/>
            <a:chOff x="1557360" y="5045040"/>
            <a:chExt cx="1044720" cy="1022400"/>
          </a:xfrm>
        </p:grpSpPr>
        <p:grpSp>
          <p:nvGrpSpPr>
            <p:cNvPr id="261" name=""/>
            <p:cNvGrpSpPr/>
            <p:nvPr/>
          </p:nvGrpSpPr>
          <p:grpSpPr>
            <a:xfrm>
              <a:off x="1557360" y="5045040"/>
              <a:ext cx="1044720" cy="1022400"/>
              <a:chOff x="1557360" y="5045040"/>
              <a:chExt cx="1044720" cy="1022400"/>
            </a:xfrm>
          </p:grpSpPr>
          <p:pic>
            <p:nvPicPr>
              <p:cNvPr id="2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557360" y="5045040"/>
                <a:ext cx="104472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557360" y="5045040"/>
                <a:ext cx="103752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64" name="" descr=""/>
            <p:cNvPicPr/>
            <p:nvPr/>
          </p:nvPicPr>
          <p:blipFill>
            <a:blip r:embed="rId6"/>
            <a:stretch/>
          </p:blipFill>
          <p:spPr>
            <a:xfrm>
              <a:off x="1661400" y="5054760"/>
              <a:ext cx="825120" cy="36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546200" y="26100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040" y="39974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49440" y="52624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718320" y="2405160"/>
            <a:ext cx="990720" cy="968400"/>
            <a:chOff x="6718320" y="2405160"/>
            <a:chExt cx="990720" cy="968400"/>
          </a:xfrm>
        </p:grpSpPr>
        <p:grpSp>
          <p:nvGrpSpPr>
            <p:cNvPr id="269" name=""/>
            <p:cNvGrpSpPr/>
            <p:nvPr/>
          </p:nvGrpSpPr>
          <p:grpSpPr>
            <a:xfrm>
              <a:off x="6718320" y="2405160"/>
              <a:ext cx="990720" cy="968400"/>
              <a:chOff x="6718320" y="2405160"/>
              <a:chExt cx="990720" cy="968400"/>
            </a:xfrm>
          </p:grpSpPr>
          <p:pic>
            <p:nvPicPr>
              <p:cNvPr id="2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18320" y="2405160"/>
                <a:ext cx="990720" cy="96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6718320" y="2405160"/>
                <a:ext cx="983880" cy="96840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6816960" y="2414520"/>
              <a:ext cx="782280" cy="3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6680160" y="26100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612200" y="3776760"/>
            <a:ext cx="990360" cy="968400"/>
            <a:chOff x="7612200" y="3776760"/>
            <a:chExt cx="990360" cy="968400"/>
          </a:xfrm>
        </p:grpSpPr>
        <p:grpSp>
          <p:nvGrpSpPr>
            <p:cNvPr id="275" name=""/>
            <p:cNvGrpSpPr/>
            <p:nvPr/>
          </p:nvGrpSpPr>
          <p:grpSpPr>
            <a:xfrm>
              <a:off x="7612200" y="3776760"/>
              <a:ext cx="990360" cy="968400"/>
              <a:chOff x="7612200" y="3776760"/>
              <a:chExt cx="990360" cy="9684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612200" y="3776760"/>
                <a:ext cx="990360" cy="96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7612200" y="3776760"/>
                <a:ext cx="983520" cy="96840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78" name="" descr=""/>
            <p:cNvPicPr/>
            <p:nvPr/>
          </p:nvPicPr>
          <p:blipFill>
            <a:blip r:embed="rId10"/>
            <a:stretch/>
          </p:blipFill>
          <p:spPr>
            <a:xfrm>
              <a:off x="7710840" y="3786120"/>
              <a:ext cx="781920" cy="3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7550280" y="399744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718320" y="5054760"/>
            <a:ext cx="990720" cy="968040"/>
            <a:chOff x="6718320" y="5054760"/>
            <a:chExt cx="990720" cy="968040"/>
          </a:xfrm>
        </p:grpSpPr>
        <p:grpSp>
          <p:nvGrpSpPr>
            <p:cNvPr id="281" name=""/>
            <p:cNvGrpSpPr/>
            <p:nvPr/>
          </p:nvGrpSpPr>
          <p:grpSpPr>
            <a:xfrm>
              <a:off x="6718320" y="5054760"/>
              <a:ext cx="990720" cy="968040"/>
              <a:chOff x="6718320" y="5054760"/>
              <a:chExt cx="990720" cy="968040"/>
            </a:xfrm>
          </p:grpSpPr>
          <p:pic>
            <p:nvPicPr>
              <p:cNvPr id="28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18320" y="5054760"/>
                <a:ext cx="990720" cy="9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18320" y="5054760"/>
                <a:ext cx="983880" cy="96804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4" name="" descr=""/>
            <p:cNvPicPr/>
            <p:nvPr/>
          </p:nvPicPr>
          <p:blipFill>
            <a:blip r:embed="rId12"/>
            <a:stretch/>
          </p:blipFill>
          <p:spPr>
            <a:xfrm>
              <a:off x="6816960" y="5064120"/>
              <a:ext cx="782280" cy="34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6680160" y="52592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10120" y="40021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1981080" y="16765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7360" y="434340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c6f1a"/>
              </a:gs>
              <a:gs pos="100000">
                <a:srgbClr val="ef8d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2040" y="37148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1360" y="4772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111276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752400" y="48499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7360" y="198108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3e8686"/>
              </a:gs>
              <a:gs pos="100000">
                <a:srgbClr val="5ac2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1360" y="24098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111276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752400" y="24876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91120" y="434340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a83e57"/>
              </a:gs>
              <a:gs pos="100000">
                <a:srgbClr val="d54f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45120" y="47721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644688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086520" y="48499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91120" y="198108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578b44"/>
              </a:gs>
              <a:gs pos="100000">
                <a:srgbClr val="6fb1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45120" y="240984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644688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6086520" y="24876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734920" y="2182320"/>
            <a:ext cx="3636000" cy="3620160"/>
            <a:chOff x="2734920" y="2182320"/>
            <a:chExt cx="3636000" cy="3620160"/>
          </a:xfrm>
        </p:grpSpPr>
        <p:sp>
          <p:nvSpPr>
            <p:cNvPr id="307" name=""/>
            <p:cNvSpPr/>
            <p:nvPr/>
          </p:nvSpPr>
          <p:spPr>
            <a:xfrm rot="6774000">
              <a:off x="3200400" y="273348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d54f6f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2174000">
              <a:off x="3143160" y="271584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f8d21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7574600">
              <a:off x="3240000" y="260928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5ac2c2"/>
                </a:gs>
                <a:gs pos="100000">
                  <a:srgbClr val="050c0c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374000">
              <a:off x="3282480" y="266688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6fb157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74800" y="58644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75000" y="2759040"/>
            <a:ext cx="524016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cf3e9">
                  <a:alpha val="80392"/>
                </a:srgbClr>
              </a:gs>
              <a:gs pos="100000">
                <a:srgbClr val="ef8d21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89120" y="58849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53640" y="4954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5400" y="4836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920" y="40924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5160" y="3382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85520" y="4903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68280" y="4005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13120" y="2338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47760" y="30621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63640" y="629460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xt in here  (unit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32040" y="594684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8480" y="230184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58960" y="2203560"/>
            <a:ext cx="3870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08440" y="5214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67240" y="5138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44337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24360" y="3660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05480" y="4718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21440" y="4313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89680" y="2743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81960" y="3328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03600" y="230184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74800" y="1752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Data_server</cp:lastModifiedBy>
  <dcterms:modified xsi:type="dcterms:W3CDTF">2008-02-28T02:15:25Z</dcterms:modified>
  <cp:revision>30</cp:revision>
  <dc:subject/>
  <dc:title>ThemeGallery Power Template</dc:title>
</cp:coreProperties>
</file>