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2EA3-5D92-4208-84EA-36D6AAC39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94EB-EFC7-4E73-A6C1-09380CC5C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99D4-6E27-4B29-AAF7-1B7447D8E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5D77-CC66-4B62-A6FF-33EBF1C73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2874-26F7-446B-A93D-AA7277AAC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B7F1-68F7-49FA-AFA6-4D0AFFE23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AA2F-625D-41BF-B3CA-F19322AAF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90F5-35C4-4C5F-B62B-D097ACC46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142B-C6F9-4ABC-B5F1-D7C6E408D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DEF4-08AC-46ED-8EEB-0AA9EC35D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9456-6D95-44EC-8D89-433FCC0D6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7F5A-AF00-4D3B-8A74-0EB1E0D03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B37-DDF3-4F37-8324-5EAAE7A2C2DF}" type="slidenum">
              <a:rPr b="0" lang="en-US" sz="8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0"/>
            <a:ext cx="918180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>
            <a:hlinkClick r:id="rId3"/>
          </p:cNvPr>
          <p:cNvSpPr/>
          <p:nvPr/>
        </p:nvSpPr>
        <p:spPr>
          <a:xfrm>
            <a:off x="42480" y="6523200"/>
            <a:ext cx="2129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69696"/>
                </a:solidFill>
                <a:latin typeface="굴림"/>
              </a:rPr>
              <a:t>Copyright © by ARTCOM PT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>
            <a:hlinkClick r:id="rId4"/>
          </p:cNvPr>
          <p:cNvSpPr/>
          <p:nvPr/>
        </p:nvSpPr>
        <p:spPr>
          <a:xfrm>
            <a:off x="7496280" y="6599160"/>
            <a:ext cx="1676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69696"/>
                </a:solidFill>
                <a:latin typeface="Times New Roman"/>
              </a:rPr>
              <a:t>www.art-com.co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6553080"/>
            <a:ext cx="91440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6134040" y="492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com.co.kr/online/ppt_gallery_1.htm" TargetMode="External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997440" y="4556160"/>
            <a:ext cx="11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c0c0"/>
                </a:solidFill>
                <a:latin typeface="Times New Roman"/>
              </a:rPr>
              <a:t>200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9</a:t>
            </a:r>
            <a:r>
              <a:rPr b="0" lang="ko-KR" sz="2400" spc="-1" strike="noStrike">
                <a:solidFill>
                  <a:srgbClr val="c0c0c0"/>
                </a:solidFill>
                <a:latin typeface="Times New Roman"/>
              </a:rPr>
              <a:t>.0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2921040" y="4235400"/>
            <a:ext cx="330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Times New Roman"/>
              </a:rPr>
              <a:t>Homepa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3511440" y="654372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굴림"/>
              </a:rPr>
              <a:t>Copyright © by ARTCOM PT 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2349360"/>
            <a:ext cx="6310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werPoint Templat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5781-5313-4802-87FF-D798B8EC8A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78560" y="28728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PowerPoint Template_Sub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0775-A1B1-4057-990E-228F2C5F6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>ARTCOM PT</dc:creator>
  <dc:description>본 디자인은 ARTCOM PT연구소에 저작권이 있습니다. </dc:description>
  <dc:language>en-US</dc:language>
  <cp:lastModifiedBy>雨林木风</cp:lastModifiedBy>
  <dcterms:modified xsi:type="dcterms:W3CDTF">2009-11-30T09:37:25Z</dcterms:modified>
  <cp:revision>13</cp:revision>
  <dc:subject/>
  <dc:title>슬라이드 1</dc:title>
</cp:coreProperties>
</file>