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0A8-56C2-4FC5-8EBB-DAC60CDA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EA0-426F-48BD-BF76-C1FE035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C16-A5C4-422B-92CC-7FB0696A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AD2-6F32-4521-9475-9D430BD3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E4C1-FC78-4079-B09B-655A8623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28B-A3B3-49BE-A05C-46BA4688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C8E7-44E3-4ECF-AF89-F3803F63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03D0-BBBC-4B0B-8780-EC1DF31B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A686-B319-4C48-8BDF-5B0E39FE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95F-D364-4E84-8692-FDDB03E9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1E8-FCA6-44A1-BD32-551E3993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6D2-2663-4858-A831-DF954660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808E-775D-42DD-A261-AC587683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03D7-919D-45E2-A6CE-8EFD23C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0CA5-349D-4A24-BDDF-34E763A8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B66-BF28-440A-9C64-D79385F1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BB6C-EF7C-452A-8F52-4846EE80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DA5-E1DC-4BBE-BF44-791951A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D86-092A-4C94-90B3-B45B9809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218-B456-4210-9DB8-903D860F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F49-68BF-4FDB-BBEE-FD7F752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FDF-34F4-41E1-B6AD-2E72CA9B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6B2-02CF-49C9-8BEA-4F2F35B4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A7A-60D4-4F44-A962-D3A4407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362-316E-4E5A-BE6F-83A1656193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C97B-439C-4D48-9E1F-A282D08514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991240" y="24271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738040" y="378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5738040" y="410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>
              <a:gd name="textAreaLeft" fmla="*/ 0 w 1630080"/>
              <a:gd name="textAreaRight" fmla="*/ 1630440 w 163008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0:33:19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张小龙</cp:lastModifiedBy>
  <cp:lastPrinted>1899-12-30T00:00:00Z</cp:lastPrinted>
  <dcterms:modified xsi:type="dcterms:W3CDTF">2013-06-14T09:46:55Z</dcterms:modified>
  <cp:revision>10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