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ABB0-8EC2-4B9D-9859-EA4C52E1E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1417-B931-4A9D-B7F6-37BB130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EFB5-493E-4F5B-8C56-58DD28E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96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72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96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72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0D88-498C-483E-A9E1-7797935866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0DBE-DC95-4A97-90C2-C74A1AE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582D-ABA7-498F-84A6-97D26A4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07A0-3962-48BA-BB6D-BAB41CF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EC5F-5268-4ACA-9784-C7CACE01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4D8D-BD46-409E-B98D-D8A1FC1D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69E7-FFCB-4073-B21F-DED5F57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9867-704D-4C87-A127-DFCCFCB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188B-9E1A-4F20-B87E-455D94C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85EC-241D-4005-98A2-CEEE9F78F87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75"/>
          <p:cNvSpPr/>
          <p:nvPr/>
        </p:nvSpPr>
        <p:spPr>
          <a:xfrm>
            <a:off x="6858000" y="0"/>
            <a:ext cx="2286000" cy="1082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6"/>
          <p:cNvSpPr/>
          <p:nvPr/>
        </p:nvSpPr>
        <p:spPr>
          <a:xfrm>
            <a:off x="-22320" y="914400"/>
            <a:ext cx="9140760" cy="18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7"/>
          <p:cNvSpPr/>
          <p:nvPr/>
        </p:nvSpPr>
        <p:spPr>
          <a:xfrm>
            <a:off x="6616800" y="914400"/>
            <a:ext cx="2527200" cy="2286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8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综艺简体"/>
              </a:rPr>
              <a:t>我的原创模版系列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333648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</a:rPr>
              <a:t>在此添加公司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4"/>
          <a:srcRect l="26312" t="0" r="29931" b="41720"/>
          <a:stretch/>
        </p:blipFill>
        <p:spPr>
          <a:xfrm>
            <a:off x="8124840" y="1916280"/>
            <a:ext cx="387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7850160" y="2333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微软雅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</a:rPr>
              <a:t>目录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76400" y="2205000"/>
            <a:ext cx="4071960" cy="544680"/>
            <a:chOff x="2876400" y="2205000"/>
            <a:chExt cx="4071960" cy="544680"/>
          </a:xfrm>
        </p:grpSpPr>
        <p:sp>
          <p:nvSpPr>
            <p:cNvPr id="56" name="矩形 2"/>
            <p:cNvSpPr/>
            <p:nvPr/>
          </p:nvSpPr>
          <p:spPr>
            <a:xfrm>
              <a:off x="2987640" y="220500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2876400" y="2205000"/>
              <a:ext cx="545040" cy="544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Box 4"/>
          <p:cNvSpPr/>
          <p:nvPr/>
        </p:nvSpPr>
        <p:spPr>
          <a:xfrm>
            <a:off x="3780000" y="2292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76400" y="3129120"/>
            <a:ext cx="4071960" cy="544320"/>
            <a:chOff x="2876400" y="3129120"/>
            <a:chExt cx="4071960" cy="544320"/>
          </a:xfrm>
        </p:grpSpPr>
        <p:sp>
          <p:nvSpPr>
            <p:cNvPr id="60" name="矩形 14"/>
            <p:cNvSpPr/>
            <p:nvPr/>
          </p:nvSpPr>
          <p:spPr>
            <a:xfrm>
              <a:off x="2987640" y="3129120"/>
              <a:ext cx="3960720" cy="5443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15"/>
            <p:cNvSpPr/>
            <p:nvPr/>
          </p:nvSpPr>
          <p:spPr>
            <a:xfrm>
              <a:off x="2876400" y="3129120"/>
              <a:ext cx="545040" cy="544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76400" y="4064040"/>
            <a:ext cx="4071960" cy="546120"/>
            <a:chOff x="2876400" y="4064040"/>
            <a:chExt cx="4071960" cy="546120"/>
          </a:xfrm>
        </p:grpSpPr>
        <p:sp>
          <p:nvSpPr>
            <p:cNvPr id="63" name="矩形 17"/>
            <p:cNvSpPr/>
            <p:nvPr/>
          </p:nvSpPr>
          <p:spPr>
            <a:xfrm>
              <a:off x="2987640" y="406404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2876400" y="4064040"/>
              <a:ext cx="545040" cy="546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76400" y="4929120"/>
            <a:ext cx="4071960" cy="544680"/>
            <a:chOff x="2876400" y="4929120"/>
            <a:chExt cx="4071960" cy="544680"/>
          </a:xfrm>
        </p:grpSpPr>
        <p:sp>
          <p:nvSpPr>
            <p:cNvPr id="66" name="矩形 20"/>
            <p:cNvSpPr/>
            <p:nvPr/>
          </p:nvSpPr>
          <p:spPr>
            <a:xfrm>
              <a:off x="2987640" y="492912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矩形 21"/>
            <p:cNvSpPr/>
            <p:nvPr/>
          </p:nvSpPr>
          <p:spPr>
            <a:xfrm>
              <a:off x="2876400" y="4929120"/>
              <a:ext cx="545040" cy="544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3780000" y="3216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780000" y="4152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3780000" y="50166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B0CF-5B07-459B-B251-D7F3154AE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00360" y="3645000"/>
            <a:ext cx="4071960" cy="546120"/>
            <a:chOff x="2700360" y="3645000"/>
            <a:chExt cx="4071960" cy="546120"/>
          </a:xfrm>
        </p:grpSpPr>
        <p:sp>
          <p:nvSpPr>
            <p:cNvPr id="73" name="矩形 3"/>
            <p:cNvSpPr/>
            <p:nvPr/>
          </p:nvSpPr>
          <p:spPr>
            <a:xfrm>
              <a:off x="2811600" y="364500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2700360" y="3645000"/>
              <a:ext cx="545040" cy="546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3603600" y="37339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383160" y="3201840"/>
            <a:ext cx="1621080" cy="2738520"/>
          </a:xfrm>
          <a:custGeom>
            <a:avLst/>
            <a:gdLst>
              <a:gd name="textAreaLeft" fmla="*/ 17280 w 1621080"/>
              <a:gd name="textAreaRight" fmla="*/ 1603800 w 1621080"/>
              <a:gd name="textAreaTop" fmla="*/ 17280 h 2738520"/>
              <a:gd name="textAreaBottom" fmla="*/ 2721240 h 2738520"/>
            </a:gdLst>
            <a:ahLst/>
            <a:rect l="textAreaLeft" t="textAreaTop" r="textAreaRight" b="textAreaBottom"/>
            <a:pathLst>
              <a:path w="21600" h="36486">
                <a:moveTo>
                  <a:pt x="786" y="0"/>
                </a:moveTo>
                <a:arcTo wR="786" hR="786" stAng="16200000" swAng="-5400000"/>
                <a:lnTo>
                  <a:pt x="0" y="35700"/>
                </a:lnTo>
                <a:arcTo wR="786" hR="786" stAng="10800000" swAng="-5400000"/>
                <a:lnTo>
                  <a:pt x="20814" y="36486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87920" y="3201840"/>
            <a:ext cx="1611360" cy="2738520"/>
          </a:xfrm>
          <a:custGeom>
            <a:avLst/>
            <a:gdLst>
              <a:gd name="textAreaLeft" fmla="*/ 20880 w 1611360"/>
              <a:gd name="textAreaRight" fmla="*/ 1590480 w 1611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36706">
                <a:moveTo>
                  <a:pt x="956" y="0"/>
                </a:moveTo>
                <a:arcTo wR="956" hR="956" stAng="16200000" swAng="-5400000"/>
                <a:lnTo>
                  <a:pt x="0" y="35750"/>
                </a:lnTo>
                <a:arcTo wR="956" hR="956" stAng="10800000" swAng="-5400000"/>
                <a:lnTo>
                  <a:pt x="20644" y="36706"/>
                </a:lnTo>
                <a:arcTo wR="956" hR="956" stAng="5400000" swAng="-5400000"/>
                <a:lnTo>
                  <a:pt x="21600" y="956"/>
                </a:lnTo>
                <a:arcTo wR="956" hR="95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005280" y="3201840"/>
            <a:ext cx="1563480" cy="2738520"/>
          </a:xfrm>
          <a:custGeom>
            <a:avLst/>
            <a:gdLst>
              <a:gd name="textAreaLeft" fmla="*/ 18720 w 1563480"/>
              <a:gd name="textAreaRight" fmla="*/ 1544760 w 1563480"/>
              <a:gd name="textAreaTop" fmla="*/ 18720 h 2738520"/>
              <a:gd name="textAreaBottom" fmla="*/ 2719800 h 2738520"/>
            </a:gdLst>
            <a:ahLst/>
            <a:rect l="textAreaLeft" t="textAreaTop" r="textAreaRight" b="textAreaBottom"/>
            <a:pathLst>
              <a:path w="21600" h="37830">
                <a:moveTo>
                  <a:pt x="895" y="0"/>
                </a:moveTo>
                <a:arcTo wR="895" hR="895" stAng="16200000" swAng="-5400000"/>
                <a:lnTo>
                  <a:pt x="0" y="36935"/>
                </a:lnTo>
                <a:arcTo wR="895" hR="895" stAng="10800000" swAng="-5400000"/>
                <a:lnTo>
                  <a:pt x="20705" y="37830"/>
                </a:lnTo>
                <a:arcTo wR="895" hR="895" stAng="5400000" swAng="-5400000"/>
                <a:lnTo>
                  <a:pt x="21600" y="895"/>
                </a:lnTo>
                <a:arcTo wR="895" hR="895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298520" y="3201840"/>
            <a:ext cx="1620720" cy="2738520"/>
          </a:xfrm>
          <a:custGeom>
            <a:avLst/>
            <a:gdLst>
              <a:gd name="textAreaLeft" fmla="*/ 9000 w 1620720"/>
              <a:gd name="textAreaRight" fmla="*/ 1611720 w 1620720"/>
              <a:gd name="textAreaTop" fmla="*/ 9000 h 2738520"/>
              <a:gd name="textAreaBottom" fmla="*/ 2729520 h 2738520"/>
            </a:gdLst>
            <a:ahLst/>
            <a:rect l="textAreaLeft" t="textAreaTop" r="textAreaRight" b="textAreaBottom"/>
            <a:pathLst>
              <a:path w="21600" h="36494">
                <a:moveTo>
                  <a:pt x="422" y="0"/>
                </a:moveTo>
                <a:arcTo wR="422" hR="422" stAng="16200000" swAng="-5400000"/>
                <a:lnTo>
                  <a:pt x="0" y="36072"/>
                </a:lnTo>
                <a:arcTo wR="422" hR="422" stAng="10800000" swAng="-5400000"/>
                <a:lnTo>
                  <a:pt x="21178" y="36494"/>
                </a:lnTo>
                <a:arcTo wR="422" hR="422" stAng="5400000" swAng="-5400000"/>
                <a:lnTo>
                  <a:pt x="21600" y="422"/>
                </a:lnTo>
                <a:arcTo wR="422" hR="422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59360" y="1631520"/>
            <a:ext cx="6215400" cy="1324800"/>
            <a:chOff x="1359360" y="1631520"/>
            <a:chExt cx="6215400" cy="1324800"/>
          </a:xfrm>
        </p:grpSpPr>
        <p:sp>
          <p:nvSpPr>
            <p:cNvPr id="82" name="Rectangle 8"/>
            <p:cNvSpPr/>
            <p:nvPr/>
          </p:nvSpPr>
          <p:spPr>
            <a:xfrm rot="3418800">
              <a:off x="1567080" y="183960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484360" y="2012760"/>
              <a:ext cx="899640" cy="124200"/>
              <a:chOff x="2484360" y="2012760"/>
              <a:chExt cx="899640" cy="124200"/>
            </a:xfrm>
          </p:grpSpPr>
          <p:sp>
            <p:nvSpPr>
              <p:cNvPr id="84" name="Oval 10"/>
              <p:cNvSpPr/>
              <p:nvPr/>
            </p:nvSpPr>
            <p:spPr>
              <a:xfrm>
                <a:off x="2484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2570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2"/>
              <p:cNvSpPr/>
              <p:nvPr/>
            </p:nvSpPr>
            <p:spPr>
              <a:xfrm>
                <a:off x="3247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320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Rectangle 14"/>
            <p:cNvSpPr/>
            <p:nvPr/>
          </p:nvSpPr>
          <p:spPr>
            <a:xfrm rot="3418800">
              <a:off x="3231720" y="1777320"/>
              <a:ext cx="874080" cy="97092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149360" y="2012760"/>
              <a:ext cx="899640" cy="124200"/>
              <a:chOff x="4149360" y="2012760"/>
              <a:chExt cx="899640" cy="124200"/>
            </a:xfrm>
          </p:grpSpPr>
          <p:sp>
            <p:nvSpPr>
              <p:cNvPr id="90" name="Oval 16"/>
              <p:cNvSpPr/>
              <p:nvPr/>
            </p:nvSpPr>
            <p:spPr>
              <a:xfrm>
                <a:off x="4149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4235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8"/>
              <p:cNvSpPr/>
              <p:nvPr/>
            </p:nvSpPr>
            <p:spPr>
              <a:xfrm>
                <a:off x="4912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4985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20"/>
            <p:cNvSpPr/>
            <p:nvPr/>
          </p:nvSpPr>
          <p:spPr>
            <a:xfrm rot="3418800">
              <a:off x="4827600" y="177696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826600" y="2012760"/>
              <a:ext cx="1180080" cy="124200"/>
              <a:chOff x="5826600" y="2012760"/>
              <a:chExt cx="1180080" cy="124200"/>
            </a:xfrm>
          </p:grpSpPr>
          <p:sp>
            <p:nvSpPr>
              <p:cNvPr id="96" name="Oval 22"/>
              <p:cNvSpPr/>
              <p:nvPr/>
            </p:nvSpPr>
            <p:spPr>
              <a:xfrm>
                <a:off x="5826600" y="201276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5939640" y="201348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4"/>
              <p:cNvSpPr/>
              <p:nvPr/>
            </p:nvSpPr>
            <p:spPr>
              <a:xfrm>
                <a:off x="6827760" y="2014560"/>
                <a:ext cx="1789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5"/>
              <p:cNvSpPr/>
              <p:nvPr/>
            </p:nvSpPr>
            <p:spPr>
              <a:xfrm>
                <a:off x="6923160" y="2053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6"/>
            <p:cNvSpPr/>
            <p:nvPr/>
          </p:nvSpPr>
          <p:spPr>
            <a:xfrm rot="3418800">
              <a:off x="6492240" y="1776960"/>
              <a:ext cx="874080" cy="97128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Rectangle 27"/>
          <p:cNvSpPr/>
          <p:nvPr/>
        </p:nvSpPr>
        <p:spPr>
          <a:xfrm>
            <a:off x="85032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5066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0528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7484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4032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82960" y="347832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75920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64594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9"/>
          <p:cNvSpPr/>
          <p:nvPr/>
        </p:nvSpPr>
        <p:spPr>
          <a:xfrm>
            <a:off x="1333440" y="1800360"/>
            <a:ext cx="6750000" cy="1241280"/>
          </a:xfrm>
          <a:prstGeom prst="roundRect">
            <a:avLst>
              <a:gd name="adj" fmla="val 7870"/>
            </a:avLst>
          </a:prstGeom>
          <a:noFill/>
          <a:ln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762280" y="298944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4680000" y="292428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 flipH="1">
            <a:off x="5079240" y="298944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400480" y="1790640"/>
            <a:ext cx="136188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699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178160" y="1790640"/>
            <a:ext cx="1362240" cy="1322280"/>
          </a:xfrm>
          <a:prstGeom prst="roundRect">
            <a:avLst>
              <a:gd name="adj" fmla="val 5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5965920" y="1800360"/>
            <a:ext cx="1361880" cy="1322280"/>
          </a:xfrm>
          <a:prstGeom prst="roundRect">
            <a:avLst>
              <a:gd name="adj" fmla="val 366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436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252400" y="21477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533680" y="4543560"/>
            <a:ext cx="5548320" cy="1241280"/>
          </a:xfrm>
          <a:prstGeom prst="roundRect">
            <a:avLst>
              <a:gd name="adj" fmla="val 10069"/>
            </a:avLst>
          </a:prstGeom>
          <a:noFill/>
          <a:ln w="12600">
            <a:solidFill>
              <a:srgbClr val="cec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191040" y="4562640"/>
            <a:ext cx="470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33440" y="4478400"/>
            <a:ext cx="136224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368360" y="4788000"/>
            <a:ext cx="128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111320" y="2575080"/>
            <a:ext cx="7061040" cy="3733560"/>
          </a:xfrm>
          <a:prstGeom prst="roundRect">
            <a:avLst>
              <a:gd name="adj" fmla="val 2245"/>
            </a:avLst>
          </a:prstGeom>
          <a:noFill/>
          <a:ln w="9360">
            <a:solidFill>
              <a:srgbClr val="fcfc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546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640400" y="2935440"/>
            <a:ext cx="1560240" cy="265248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21600" h="36718">
                <a:moveTo>
                  <a:pt x="0" y="0"/>
                </a:moveTo>
                <a:arcTo wR="0" hR="0" stAng="16200000" swAng="-5400000"/>
                <a:lnTo>
                  <a:pt x="0" y="36718"/>
                </a:lnTo>
                <a:arcTo wR="0" hR="0" stAng="10800000" swAng="-5400000"/>
                <a:lnTo>
                  <a:pt x="21600" y="367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89ad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0290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2d5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4144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6240" y="1879560"/>
            <a:ext cx="7061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原创模版系列，获得您的喜爱将是我的无限荣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19120" y="5283360"/>
            <a:ext cx="1553760" cy="704520"/>
            <a:chOff x="1419120" y="5283360"/>
            <a:chExt cx="1553760" cy="704520"/>
          </a:xfrm>
        </p:grpSpPr>
        <p:sp>
          <p:nvSpPr>
            <p:cNvPr id="132" name="AutoShape 10"/>
            <p:cNvSpPr/>
            <p:nvPr/>
          </p:nvSpPr>
          <p:spPr>
            <a:xfrm>
              <a:off x="141912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142020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38400" y="5283360"/>
            <a:ext cx="1553760" cy="704520"/>
            <a:chOff x="3038400" y="5283360"/>
            <a:chExt cx="1553760" cy="704520"/>
          </a:xfrm>
        </p:grpSpPr>
        <p:sp>
          <p:nvSpPr>
            <p:cNvPr id="135" name="AutoShape 13"/>
            <p:cNvSpPr/>
            <p:nvPr/>
          </p:nvSpPr>
          <p:spPr>
            <a:xfrm>
              <a:off x="303840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303948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56240" y="5283360"/>
            <a:ext cx="1553760" cy="704520"/>
            <a:chOff x="4656240" y="5283360"/>
            <a:chExt cx="1553760" cy="704520"/>
          </a:xfrm>
        </p:grpSpPr>
        <p:sp>
          <p:nvSpPr>
            <p:cNvPr id="138" name="AutoShape 16"/>
            <p:cNvSpPr/>
            <p:nvPr/>
          </p:nvSpPr>
          <p:spPr>
            <a:xfrm>
              <a:off x="465624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465732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72280" y="5283360"/>
            <a:ext cx="1553760" cy="704520"/>
            <a:chOff x="6272280" y="5283360"/>
            <a:chExt cx="1553760" cy="704520"/>
          </a:xfrm>
        </p:grpSpPr>
        <p:sp>
          <p:nvSpPr>
            <p:cNvPr id="141" name="AutoShape 19"/>
            <p:cNvSpPr/>
            <p:nvPr/>
          </p:nvSpPr>
          <p:spPr>
            <a:xfrm>
              <a:off x="627228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27336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4842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0988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71960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321600" y="3097080"/>
            <a:ext cx="14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143676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54240" y="52754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676760" y="5275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627552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2360" y="5089680"/>
            <a:ext cx="1550520" cy="155520"/>
            <a:chOff x="1422360" y="5089680"/>
            <a:chExt cx="1550520" cy="155520"/>
          </a:xfrm>
        </p:grpSpPr>
        <p:sp>
          <p:nvSpPr>
            <p:cNvPr id="152" name="AutoShape 30"/>
            <p:cNvSpPr/>
            <p:nvPr/>
          </p:nvSpPr>
          <p:spPr>
            <a:xfrm>
              <a:off x="1422360" y="508968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31"/>
            <p:cNvSpPr/>
            <p:nvPr/>
          </p:nvSpPr>
          <p:spPr>
            <a:xfrm>
              <a:off x="1423440" y="508968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22360" y="4935600"/>
            <a:ext cx="1550520" cy="152280"/>
            <a:chOff x="1422360" y="4935600"/>
            <a:chExt cx="1550520" cy="152280"/>
          </a:xfrm>
        </p:grpSpPr>
        <p:sp>
          <p:nvSpPr>
            <p:cNvPr id="155" name="AutoShape 33"/>
            <p:cNvSpPr/>
            <p:nvPr/>
          </p:nvSpPr>
          <p:spPr>
            <a:xfrm>
              <a:off x="1422360" y="4935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34"/>
            <p:cNvSpPr/>
            <p:nvPr/>
          </p:nvSpPr>
          <p:spPr>
            <a:xfrm>
              <a:off x="1423440" y="4935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22360" y="4748040"/>
            <a:ext cx="1550520" cy="154080"/>
            <a:chOff x="1422360" y="4748040"/>
            <a:chExt cx="1550520" cy="154080"/>
          </a:xfrm>
        </p:grpSpPr>
        <p:sp>
          <p:nvSpPr>
            <p:cNvPr id="158" name="AutoShape 36"/>
            <p:cNvSpPr/>
            <p:nvPr/>
          </p:nvSpPr>
          <p:spPr>
            <a:xfrm>
              <a:off x="1422360" y="4748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7"/>
            <p:cNvSpPr/>
            <p:nvPr/>
          </p:nvSpPr>
          <p:spPr>
            <a:xfrm>
              <a:off x="1423440" y="4748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22360" y="4560840"/>
            <a:ext cx="1550520" cy="154080"/>
            <a:chOff x="1422360" y="4560840"/>
            <a:chExt cx="1550520" cy="154080"/>
          </a:xfrm>
        </p:grpSpPr>
        <p:sp>
          <p:nvSpPr>
            <p:cNvPr id="161" name="AutoShape 39"/>
            <p:cNvSpPr/>
            <p:nvPr/>
          </p:nvSpPr>
          <p:spPr>
            <a:xfrm>
              <a:off x="1422360" y="4560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0"/>
            <p:cNvSpPr/>
            <p:nvPr/>
          </p:nvSpPr>
          <p:spPr>
            <a:xfrm>
              <a:off x="1423440" y="4560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22360" y="4378320"/>
            <a:ext cx="1550520" cy="155520"/>
            <a:chOff x="1422360" y="4378320"/>
            <a:chExt cx="1550520" cy="155520"/>
          </a:xfrm>
        </p:grpSpPr>
        <p:sp>
          <p:nvSpPr>
            <p:cNvPr id="164" name="AutoShape 42"/>
            <p:cNvSpPr/>
            <p:nvPr/>
          </p:nvSpPr>
          <p:spPr>
            <a:xfrm>
              <a:off x="1422360" y="43783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>
              <a:off x="1423440" y="43783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22360" y="4191120"/>
            <a:ext cx="1550520" cy="155520"/>
            <a:chOff x="1422360" y="4191120"/>
            <a:chExt cx="1550520" cy="155520"/>
          </a:xfrm>
        </p:grpSpPr>
        <p:sp>
          <p:nvSpPr>
            <p:cNvPr id="167" name="AutoShape 45"/>
            <p:cNvSpPr/>
            <p:nvPr/>
          </p:nvSpPr>
          <p:spPr>
            <a:xfrm>
              <a:off x="1422360" y="41911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46"/>
            <p:cNvSpPr/>
            <p:nvPr/>
          </p:nvSpPr>
          <p:spPr>
            <a:xfrm>
              <a:off x="1423440" y="41911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2360" y="4003560"/>
            <a:ext cx="1550520" cy="155520"/>
            <a:chOff x="1422360" y="4003560"/>
            <a:chExt cx="1550520" cy="155520"/>
          </a:xfrm>
        </p:grpSpPr>
        <p:sp>
          <p:nvSpPr>
            <p:cNvPr id="170" name="AutoShape 48"/>
            <p:cNvSpPr/>
            <p:nvPr/>
          </p:nvSpPr>
          <p:spPr>
            <a:xfrm>
              <a:off x="1422360" y="400356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49"/>
            <p:cNvSpPr/>
            <p:nvPr/>
          </p:nvSpPr>
          <p:spPr>
            <a:xfrm>
              <a:off x="1423440" y="400356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22360" y="3817800"/>
            <a:ext cx="1550520" cy="154080"/>
            <a:chOff x="1422360" y="3817800"/>
            <a:chExt cx="1550520" cy="154080"/>
          </a:xfrm>
        </p:grpSpPr>
        <p:sp>
          <p:nvSpPr>
            <p:cNvPr id="173" name="AutoShape 51"/>
            <p:cNvSpPr/>
            <p:nvPr/>
          </p:nvSpPr>
          <p:spPr>
            <a:xfrm>
              <a:off x="1422360" y="3817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2"/>
            <p:cNvSpPr/>
            <p:nvPr/>
          </p:nvSpPr>
          <p:spPr>
            <a:xfrm>
              <a:off x="1423440" y="3817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6320" y="5089680"/>
            <a:ext cx="1550880" cy="155520"/>
            <a:chOff x="3046320" y="5089680"/>
            <a:chExt cx="1550880" cy="155520"/>
          </a:xfrm>
        </p:grpSpPr>
        <p:sp>
          <p:nvSpPr>
            <p:cNvPr id="176" name="AutoShape 54"/>
            <p:cNvSpPr/>
            <p:nvPr/>
          </p:nvSpPr>
          <p:spPr>
            <a:xfrm>
              <a:off x="3046320" y="5089680"/>
              <a:ext cx="1549440" cy="155520"/>
            </a:xfrm>
            <a:prstGeom prst="roundRect">
              <a:avLst>
                <a:gd name="adj" fmla="val 20588"/>
              </a:avLst>
            </a:prstGeom>
            <a:solidFill>
              <a:srgbClr val="36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55"/>
            <p:cNvSpPr/>
            <p:nvPr/>
          </p:nvSpPr>
          <p:spPr>
            <a:xfrm>
              <a:off x="3047400" y="5089680"/>
              <a:ext cx="15498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6320" y="4935600"/>
            <a:ext cx="1550880" cy="152280"/>
            <a:chOff x="3046320" y="4935600"/>
            <a:chExt cx="1550880" cy="152280"/>
          </a:xfrm>
        </p:grpSpPr>
        <p:sp>
          <p:nvSpPr>
            <p:cNvPr id="179" name="AutoShape 57"/>
            <p:cNvSpPr/>
            <p:nvPr/>
          </p:nvSpPr>
          <p:spPr>
            <a:xfrm>
              <a:off x="3046320" y="49356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8"/>
            <p:cNvSpPr/>
            <p:nvPr/>
          </p:nvSpPr>
          <p:spPr>
            <a:xfrm>
              <a:off x="3047400" y="49356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5089680"/>
            <a:ext cx="1549080" cy="155520"/>
            <a:chOff x="4648320" y="5089680"/>
            <a:chExt cx="1549080" cy="155520"/>
          </a:xfrm>
        </p:grpSpPr>
        <p:sp>
          <p:nvSpPr>
            <p:cNvPr id="182" name="AutoShape 60"/>
            <p:cNvSpPr/>
            <p:nvPr/>
          </p:nvSpPr>
          <p:spPr>
            <a:xfrm>
              <a:off x="4648320" y="5089680"/>
              <a:ext cx="1547640" cy="15552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1"/>
            <p:cNvSpPr/>
            <p:nvPr/>
          </p:nvSpPr>
          <p:spPr>
            <a:xfrm>
              <a:off x="464940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69040" y="5089680"/>
            <a:ext cx="1549080" cy="155520"/>
            <a:chOff x="6269040" y="5089680"/>
            <a:chExt cx="1549080" cy="155520"/>
          </a:xfrm>
        </p:grpSpPr>
        <p:sp>
          <p:nvSpPr>
            <p:cNvPr id="185" name="AutoShape 63"/>
            <p:cNvSpPr/>
            <p:nvPr/>
          </p:nvSpPr>
          <p:spPr>
            <a:xfrm>
              <a:off x="6269040" y="5089680"/>
              <a:ext cx="154764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627012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6320" y="4749840"/>
            <a:ext cx="1550880" cy="152280"/>
            <a:chOff x="3046320" y="4749840"/>
            <a:chExt cx="1550880" cy="152280"/>
          </a:xfrm>
        </p:grpSpPr>
        <p:sp>
          <p:nvSpPr>
            <p:cNvPr id="188" name="AutoShape 66"/>
            <p:cNvSpPr/>
            <p:nvPr/>
          </p:nvSpPr>
          <p:spPr>
            <a:xfrm>
              <a:off x="3046320" y="4749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67"/>
            <p:cNvSpPr/>
            <p:nvPr/>
          </p:nvSpPr>
          <p:spPr>
            <a:xfrm>
              <a:off x="3047400" y="4749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6320" y="4572000"/>
            <a:ext cx="1550880" cy="152280"/>
            <a:chOff x="3046320" y="4572000"/>
            <a:chExt cx="1550880" cy="152280"/>
          </a:xfrm>
        </p:grpSpPr>
        <p:sp>
          <p:nvSpPr>
            <p:cNvPr id="191" name="AutoShape 69"/>
            <p:cNvSpPr/>
            <p:nvPr/>
          </p:nvSpPr>
          <p:spPr>
            <a:xfrm>
              <a:off x="3046320" y="4572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70"/>
            <p:cNvSpPr/>
            <p:nvPr/>
          </p:nvSpPr>
          <p:spPr>
            <a:xfrm>
              <a:off x="3047400" y="4572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6320" y="4386240"/>
            <a:ext cx="1550880" cy="152280"/>
            <a:chOff x="3046320" y="4386240"/>
            <a:chExt cx="1550880" cy="152280"/>
          </a:xfrm>
        </p:grpSpPr>
        <p:sp>
          <p:nvSpPr>
            <p:cNvPr id="194" name="AutoShape 72"/>
            <p:cNvSpPr/>
            <p:nvPr/>
          </p:nvSpPr>
          <p:spPr>
            <a:xfrm>
              <a:off x="3046320" y="43862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73"/>
            <p:cNvSpPr/>
            <p:nvPr/>
          </p:nvSpPr>
          <p:spPr>
            <a:xfrm>
              <a:off x="3047400" y="43862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48320" y="4933800"/>
            <a:ext cx="1549080" cy="155880"/>
            <a:chOff x="4648320" y="4933800"/>
            <a:chExt cx="1549080" cy="155880"/>
          </a:xfrm>
        </p:grpSpPr>
        <p:sp>
          <p:nvSpPr>
            <p:cNvPr id="197" name="AutoShape 75"/>
            <p:cNvSpPr/>
            <p:nvPr/>
          </p:nvSpPr>
          <p:spPr>
            <a:xfrm>
              <a:off x="4648320" y="4933800"/>
              <a:ext cx="1547640" cy="1558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76"/>
            <p:cNvSpPr/>
            <p:nvPr/>
          </p:nvSpPr>
          <p:spPr>
            <a:xfrm>
              <a:off x="4649400" y="4933800"/>
              <a:ext cx="1548000" cy="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8320" y="4748040"/>
            <a:ext cx="1549080" cy="154080"/>
            <a:chOff x="4648320" y="4748040"/>
            <a:chExt cx="1549080" cy="154080"/>
          </a:xfrm>
        </p:grpSpPr>
        <p:sp>
          <p:nvSpPr>
            <p:cNvPr id="200" name="AutoShape 78"/>
            <p:cNvSpPr/>
            <p:nvPr/>
          </p:nvSpPr>
          <p:spPr>
            <a:xfrm>
              <a:off x="4648320" y="47480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79"/>
            <p:cNvSpPr/>
            <p:nvPr/>
          </p:nvSpPr>
          <p:spPr>
            <a:xfrm>
              <a:off x="4649400" y="474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69040" y="4925880"/>
            <a:ext cx="1549080" cy="154080"/>
            <a:chOff x="6269040" y="4925880"/>
            <a:chExt cx="1549080" cy="154080"/>
          </a:xfrm>
        </p:grpSpPr>
        <p:sp>
          <p:nvSpPr>
            <p:cNvPr id="203" name="AutoShape 81"/>
            <p:cNvSpPr/>
            <p:nvPr/>
          </p:nvSpPr>
          <p:spPr>
            <a:xfrm>
              <a:off x="6269040" y="4925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2"/>
            <p:cNvSpPr/>
            <p:nvPr/>
          </p:nvSpPr>
          <p:spPr>
            <a:xfrm>
              <a:off x="6270120" y="4925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3"/>
          <p:cNvSpPr/>
          <p:nvPr/>
        </p:nvSpPr>
        <p:spPr>
          <a:xfrm>
            <a:off x="2444760" y="4392720"/>
            <a:ext cx="4952880" cy="6858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867280" y="5518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@Eric_wang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19:00Z</dcterms:created>
  <dc:creator>王琳</dc:creator>
  <dc:description/>
  <dc:language>en-US</dc:language>
  <cp:lastModifiedBy>王琳</cp:lastModifiedBy>
  <cp:lastPrinted>1899-12-30T00:00:00Z</cp:lastPrinted>
  <dcterms:modified xsi:type="dcterms:W3CDTF">2012-04-23T11:37:00Z</dcterms:modified>
  <cp:revision>11</cp:revision>
  <dc:subject/>
  <dc:title>[ PowerPoint Template 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