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A4E-5FDB-4EA0-A70C-C2D6800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A6C-021C-4986-98EF-BFABD68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EE0-78C0-4E8B-867C-61AA22B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4EF-6584-4137-B5E2-49D87922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73D-39E1-4542-B13D-B0D15C5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824-A118-406E-9310-A9B74DB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204-5278-4D22-B28E-5BCB755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7D8-3C2B-493C-A6A6-57F77FE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013-D905-4E7D-BB08-BC3D5EF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419-4ED3-4B3A-8AD4-7C9EF82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538-B337-4CDD-B42A-6F34967F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001-A2E7-4E9C-AC39-ACFDB20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9B3-0BB0-4C9A-93B3-5DE80430C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684360" y="321948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714240"/>
            <a:ext cx="3821040" cy="3483360"/>
            <a:chOff x="4251240" y="714240"/>
            <a:chExt cx="3821040" cy="3483360"/>
          </a:xfrm>
        </p:grpSpPr>
        <p:sp>
          <p:nvSpPr>
            <p:cNvPr id="203" name="TextBox 11"/>
            <p:cNvSpPr/>
            <p:nvPr/>
          </p:nvSpPr>
          <p:spPr>
            <a:xfrm>
              <a:off x="4251240" y="1557720"/>
              <a:ext cx="171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4" name="TextBox 25"/>
            <p:cNvSpPr/>
            <p:nvPr/>
          </p:nvSpPr>
          <p:spPr>
            <a:xfrm>
              <a:off x="6360840" y="71424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6"/>
            <p:cNvSpPr/>
            <p:nvPr/>
          </p:nvSpPr>
          <p:spPr>
            <a:xfrm>
              <a:off x="4251240" y="389052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7"/>
            <p:cNvSpPr/>
            <p:nvPr/>
          </p:nvSpPr>
          <p:spPr>
            <a:xfrm>
              <a:off x="6073920" y="352404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7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张小龙</cp:lastModifiedBy>
  <cp:lastPrinted>1899-12-30T00:00:00Z</cp:lastPrinted>
  <dcterms:modified xsi:type="dcterms:W3CDTF">2013-06-14T09:44:35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