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2B0-8DB1-4AEC-AB87-94375120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5B5-F86D-474F-84A6-A2A12114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E37-6B59-42F6-86EE-9B0CC89D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B224-7704-4A61-A431-218CD0A5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14B-4B17-4AE7-9171-E26C2851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7AE0-FC5F-41A6-8770-9418566B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3A4C-89FE-46EA-85B9-35553F21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842-D06A-4356-9D92-0EE78614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8A4-D6E8-4234-A14B-9A667548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D6E-ADB0-4CB9-982D-C9AE7B50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674-87AE-4630-AA04-57B85828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CA2C-3EF6-4729-8688-497C23C9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190A-20ED-4952-AC62-A398AA3CFE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372360" cy="6951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95160"/>
            <a:ext cx="9144000" cy="0"/>
          </a:xfrm>
          <a:prstGeom prst="line">
            <a:avLst/>
          </a:prstGeom>
          <a:ln cap="rnd" w="32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557360"/>
            <a:ext cx="7416720" cy="4176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5a5a5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157720"/>
            <a:ext cx="7991280" cy="1295640"/>
          </a:xfrm>
          <a:prstGeom prst="roundRect">
            <a:avLst>
              <a:gd name="adj" fmla="val 16667"/>
            </a:avLst>
          </a:prstGeom>
          <a:solidFill>
            <a:srgbClr val="000066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801520" y="5375160"/>
            <a:ext cx="584640" cy="433440"/>
            <a:chOff x="2801520" y="5375160"/>
            <a:chExt cx="584640" cy="433440"/>
          </a:xfrm>
        </p:grpSpPr>
        <p:sp>
          <p:nvSpPr>
            <p:cNvPr id="46" name=""/>
            <p:cNvSpPr/>
            <p:nvPr/>
          </p:nvSpPr>
          <p:spPr>
            <a:xfrm>
              <a:off x="2880720" y="5375160"/>
              <a:ext cx="426600" cy="25092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9800000">
              <a:off x="3029040" y="5572080"/>
              <a:ext cx="338760" cy="162720"/>
            </a:xfrm>
            <a:prstGeom prst="parallelogram">
              <a:avLst>
                <a:gd name="adj" fmla="val 57868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rot="1800000">
              <a:off x="2819520" y="5572080"/>
              <a:ext cx="338400" cy="162720"/>
            </a:xfrm>
            <a:prstGeom prst="parallelogram">
              <a:avLst>
                <a:gd name="adj" fmla="val 57806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641280" y="5375160"/>
            <a:ext cx="585720" cy="434160"/>
            <a:chOff x="6641280" y="5375160"/>
            <a:chExt cx="585720" cy="434160"/>
          </a:xfrm>
        </p:grpSpPr>
        <p:sp>
          <p:nvSpPr>
            <p:cNvPr id="50" name=""/>
            <p:cNvSpPr/>
            <p:nvPr/>
          </p:nvSpPr>
          <p:spPr>
            <a:xfrm>
              <a:off x="6720480" y="5375160"/>
              <a:ext cx="426960" cy="250920"/>
            </a:xfrm>
            <a:prstGeom prst="diamond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9800000">
              <a:off x="6869880" y="5572440"/>
              <a:ext cx="339120" cy="163080"/>
            </a:xfrm>
            <a:prstGeom prst="parallelogram">
              <a:avLst>
                <a:gd name="adj" fmla="val 57802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1800000">
              <a:off x="6658560" y="5572080"/>
              <a:ext cx="338760" cy="162720"/>
            </a:xfrm>
            <a:prstGeom prst="parallelogram">
              <a:avLst>
                <a:gd name="adj" fmla="val 57868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720680" y="5373720"/>
            <a:ext cx="585000" cy="434160"/>
            <a:chOff x="4720680" y="5373720"/>
            <a:chExt cx="585000" cy="434160"/>
          </a:xfrm>
        </p:grpSpPr>
        <p:sp>
          <p:nvSpPr>
            <p:cNvPr id="54" name=""/>
            <p:cNvSpPr/>
            <p:nvPr/>
          </p:nvSpPr>
          <p:spPr>
            <a:xfrm>
              <a:off x="4799880" y="5373720"/>
              <a:ext cx="426960" cy="250920"/>
            </a:xfrm>
            <a:prstGeom prst="diamond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9800000">
              <a:off x="4948560" y="5571000"/>
              <a:ext cx="339120" cy="163080"/>
            </a:xfrm>
            <a:prstGeom prst="parallelogram">
              <a:avLst>
                <a:gd name="adj" fmla="val 57802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1800000">
              <a:off x="4738680" y="5570640"/>
              <a:ext cx="338400" cy="163080"/>
            </a:xfrm>
            <a:prstGeom prst="parallelogram">
              <a:avLst>
                <a:gd name="adj" fmla="val 57679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881640" y="5375160"/>
            <a:ext cx="585720" cy="433800"/>
            <a:chOff x="881640" y="5375160"/>
            <a:chExt cx="585720" cy="433800"/>
          </a:xfrm>
        </p:grpSpPr>
        <p:sp>
          <p:nvSpPr>
            <p:cNvPr id="58" name=""/>
            <p:cNvSpPr/>
            <p:nvPr/>
          </p:nvSpPr>
          <p:spPr>
            <a:xfrm>
              <a:off x="960840" y="5375160"/>
              <a:ext cx="426960" cy="25092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9800000">
              <a:off x="1109880" y="5572440"/>
              <a:ext cx="339120" cy="162720"/>
            </a:xfrm>
            <a:prstGeom prst="parallelogram">
              <a:avLst>
                <a:gd name="adj" fmla="val 57929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rot="1800000">
              <a:off x="898920" y="5572080"/>
              <a:ext cx="338760" cy="162720"/>
            </a:xfrm>
            <a:prstGeom prst="parallelogram">
              <a:avLst>
                <a:gd name="adj" fmla="val 57868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525680" y="5404320"/>
            <a:ext cx="475920" cy="36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Arial"/>
                <a:ea typeface="굴림"/>
              </a:rPr>
              <a:t>思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99920" y="5379120"/>
            <a:ext cx="475920" cy="36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Arial"/>
                <a:ea typeface="굴림"/>
              </a:rPr>
              <a:t>情緒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42120" y="5379120"/>
            <a:ext cx="475920" cy="36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Arial"/>
                <a:ea typeface="굴림"/>
              </a:rPr>
              <a:t>創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86480" y="5379120"/>
            <a:ext cx="475920" cy="36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Arial"/>
                <a:ea typeface="굴림"/>
              </a:rPr>
              <a:t>合作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851280" y="2162160"/>
            <a:ext cx="1534680" cy="1137960"/>
            <a:chOff x="3851280" y="2162160"/>
            <a:chExt cx="1534680" cy="1137960"/>
          </a:xfrm>
        </p:grpSpPr>
        <p:sp>
          <p:nvSpPr>
            <p:cNvPr id="66" name=""/>
            <p:cNvSpPr/>
            <p:nvPr/>
          </p:nvSpPr>
          <p:spPr>
            <a:xfrm>
              <a:off x="4059360" y="2162160"/>
              <a:ext cx="1119240" cy="65736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9800000">
              <a:off x="4449960" y="267948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1800000">
              <a:off x="3898080" y="2679840"/>
              <a:ext cx="887760" cy="426960"/>
            </a:xfrm>
            <a:prstGeom prst="parallelogram">
              <a:avLst>
                <a:gd name="adj" fmla="val 57795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437360" y="2500200"/>
            <a:ext cx="1534320" cy="1137960"/>
            <a:chOff x="4437360" y="2500200"/>
            <a:chExt cx="1534320" cy="1137960"/>
          </a:xfrm>
        </p:grpSpPr>
        <p:sp>
          <p:nvSpPr>
            <p:cNvPr id="70" name=""/>
            <p:cNvSpPr/>
            <p:nvPr/>
          </p:nvSpPr>
          <p:spPr>
            <a:xfrm>
              <a:off x="4644720" y="2500200"/>
              <a:ext cx="1119240" cy="657360"/>
            </a:xfrm>
            <a:prstGeom prst="diamond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9800000">
              <a:off x="5035320" y="301716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1800000">
              <a:off x="4484520" y="301716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265920" y="2513160"/>
            <a:ext cx="1534320" cy="1137240"/>
            <a:chOff x="3265920" y="2513160"/>
            <a:chExt cx="1534320" cy="1137240"/>
          </a:xfrm>
        </p:grpSpPr>
        <p:sp>
          <p:nvSpPr>
            <p:cNvPr id="74" name=""/>
            <p:cNvSpPr/>
            <p:nvPr/>
          </p:nvSpPr>
          <p:spPr>
            <a:xfrm>
              <a:off x="3473640" y="2513160"/>
              <a:ext cx="1119240" cy="65700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9800000">
              <a:off x="3863880" y="3030120"/>
              <a:ext cx="888840" cy="426600"/>
            </a:xfrm>
            <a:prstGeom prst="parallelogram">
              <a:avLst>
                <a:gd name="adj" fmla="val 57915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1800000">
              <a:off x="3313080" y="3030480"/>
              <a:ext cx="887760" cy="426600"/>
            </a:xfrm>
            <a:prstGeom prst="parallelogram">
              <a:avLst>
                <a:gd name="adj" fmla="val 57844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670120" y="2863800"/>
            <a:ext cx="1534680" cy="1137960"/>
            <a:chOff x="2670120" y="2863800"/>
            <a:chExt cx="1534680" cy="1137960"/>
          </a:xfrm>
        </p:grpSpPr>
        <p:sp>
          <p:nvSpPr>
            <p:cNvPr id="78" name=""/>
            <p:cNvSpPr/>
            <p:nvPr/>
          </p:nvSpPr>
          <p:spPr>
            <a:xfrm>
              <a:off x="2878200" y="2863800"/>
              <a:ext cx="1119240" cy="65736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9800000">
              <a:off x="3268800" y="338112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rot="1800000">
              <a:off x="2716920" y="3381480"/>
              <a:ext cx="887760" cy="426960"/>
            </a:xfrm>
            <a:prstGeom prst="parallelogram">
              <a:avLst>
                <a:gd name="adj" fmla="val 57795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856320" y="2852640"/>
            <a:ext cx="1534320" cy="1137960"/>
            <a:chOff x="3856320" y="2852640"/>
            <a:chExt cx="1534320" cy="1137960"/>
          </a:xfrm>
        </p:grpSpPr>
        <p:sp>
          <p:nvSpPr>
            <p:cNvPr id="82" name=""/>
            <p:cNvSpPr/>
            <p:nvPr/>
          </p:nvSpPr>
          <p:spPr>
            <a:xfrm>
              <a:off x="4064040" y="2852640"/>
              <a:ext cx="1118520" cy="657360"/>
            </a:xfrm>
            <a:prstGeom prst="diamond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9800000">
              <a:off x="4454280" y="336960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rot="1800000">
              <a:off x="3903120" y="3369600"/>
              <a:ext cx="887040" cy="427320"/>
            </a:xfrm>
            <a:prstGeom prst="parallelogram">
              <a:avLst>
                <a:gd name="adj" fmla="val 57700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032800" y="2843280"/>
            <a:ext cx="1534320" cy="1137960"/>
            <a:chOff x="5032800" y="2843280"/>
            <a:chExt cx="1534320" cy="1137960"/>
          </a:xfrm>
        </p:grpSpPr>
        <p:sp>
          <p:nvSpPr>
            <p:cNvPr id="86" name=""/>
            <p:cNvSpPr/>
            <p:nvPr/>
          </p:nvSpPr>
          <p:spPr>
            <a:xfrm>
              <a:off x="5240160" y="2843280"/>
              <a:ext cx="1119240" cy="657360"/>
            </a:xfrm>
            <a:prstGeom prst="diamond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9800000">
              <a:off x="5630760" y="336024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00000">
              <a:off x="5079960" y="336024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275640" y="3208320"/>
            <a:ext cx="1533960" cy="1137960"/>
            <a:chOff x="3275640" y="3208320"/>
            <a:chExt cx="1533960" cy="1137960"/>
          </a:xfrm>
        </p:grpSpPr>
        <p:sp>
          <p:nvSpPr>
            <p:cNvPr id="90" name=""/>
            <p:cNvSpPr/>
            <p:nvPr/>
          </p:nvSpPr>
          <p:spPr>
            <a:xfrm>
              <a:off x="3483000" y="3208320"/>
              <a:ext cx="1119240" cy="657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9800000">
              <a:off x="3873600" y="372564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00000">
              <a:off x="3322800" y="372564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456440" y="3184560"/>
            <a:ext cx="1534680" cy="1138320"/>
            <a:chOff x="4456440" y="3184560"/>
            <a:chExt cx="1534680" cy="1138320"/>
          </a:xfrm>
        </p:grpSpPr>
        <p:sp>
          <p:nvSpPr>
            <p:cNvPr id="94" name=""/>
            <p:cNvSpPr/>
            <p:nvPr/>
          </p:nvSpPr>
          <p:spPr>
            <a:xfrm>
              <a:off x="4664160" y="3184560"/>
              <a:ext cx="1118880" cy="657360"/>
            </a:xfrm>
            <a:prstGeom prst="diamond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9800000">
              <a:off x="5054400" y="3701520"/>
              <a:ext cx="889200" cy="427320"/>
            </a:xfrm>
            <a:prstGeom prst="parallelogram">
              <a:avLst>
                <a:gd name="adj" fmla="val 5784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1800000">
              <a:off x="4503600" y="370152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875400" y="3549600"/>
            <a:ext cx="1533960" cy="1137960"/>
            <a:chOff x="3875400" y="3549600"/>
            <a:chExt cx="1533960" cy="1137960"/>
          </a:xfrm>
        </p:grpSpPr>
        <p:sp>
          <p:nvSpPr>
            <p:cNvPr id="98" name=""/>
            <p:cNvSpPr/>
            <p:nvPr/>
          </p:nvSpPr>
          <p:spPr>
            <a:xfrm>
              <a:off x="4082760" y="3549600"/>
              <a:ext cx="1119240" cy="657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9800000">
              <a:off x="4473360" y="406692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1800000">
              <a:off x="3922560" y="406692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851280" y="1608120"/>
            <a:ext cx="1534680" cy="1137960"/>
            <a:chOff x="3851280" y="1608120"/>
            <a:chExt cx="1534680" cy="1137960"/>
          </a:xfrm>
        </p:grpSpPr>
        <p:sp>
          <p:nvSpPr>
            <p:cNvPr id="102" name=""/>
            <p:cNvSpPr/>
            <p:nvPr/>
          </p:nvSpPr>
          <p:spPr>
            <a:xfrm>
              <a:off x="4059360" y="1608120"/>
              <a:ext cx="1119240" cy="65736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9800000">
              <a:off x="4449960" y="212544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1800000">
              <a:off x="3898080" y="2125800"/>
              <a:ext cx="887760" cy="426960"/>
            </a:xfrm>
            <a:prstGeom prst="parallelogram">
              <a:avLst>
                <a:gd name="adj" fmla="val 57795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437360" y="1946160"/>
            <a:ext cx="1534320" cy="1137960"/>
            <a:chOff x="4437360" y="1946160"/>
            <a:chExt cx="1534320" cy="1137960"/>
          </a:xfrm>
        </p:grpSpPr>
        <p:sp>
          <p:nvSpPr>
            <p:cNvPr id="106" name=""/>
            <p:cNvSpPr/>
            <p:nvPr/>
          </p:nvSpPr>
          <p:spPr>
            <a:xfrm>
              <a:off x="4644720" y="1946160"/>
              <a:ext cx="1119240" cy="657360"/>
            </a:xfrm>
            <a:prstGeom prst="diamond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9800000">
              <a:off x="5035320" y="246312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rot="1800000">
              <a:off x="4484520" y="246312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265920" y="1959120"/>
            <a:ext cx="1534320" cy="1137240"/>
            <a:chOff x="3265920" y="1959120"/>
            <a:chExt cx="1534320" cy="1137240"/>
          </a:xfrm>
        </p:grpSpPr>
        <p:sp>
          <p:nvSpPr>
            <p:cNvPr id="110" name=""/>
            <p:cNvSpPr/>
            <p:nvPr/>
          </p:nvSpPr>
          <p:spPr>
            <a:xfrm>
              <a:off x="3473640" y="1959120"/>
              <a:ext cx="1119240" cy="65700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9800000">
              <a:off x="3863880" y="2476080"/>
              <a:ext cx="888840" cy="426600"/>
            </a:xfrm>
            <a:prstGeom prst="parallelogram">
              <a:avLst>
                <a:gd name="adj" fmla="val 57915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rot="1800000">
              <a:off x="3313080" y="2476440"/>
              <a:ext cx="887760" cy="426600"/>
            </a:xfrm>
            <a:prstGeom prst="parallelogram">
              <a:avLst>
                <a:gd name="adj" fmla="val 57844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670120" y="2309760"/>
            <a:ext cx="1534680" cy="1137960"/>
            <a:chOff x="2670120" y="2309760"/>
            <a:chExt cx="1534680" cy="1137960"/>
          </a:xfrm>
        </p:grpSpPr>
        <p:sp>
          <p:nvSpPr>
            <p:cNvPr id="114" name=""/>
            <p:cNvSpPr/>
            <p:nvPr/>
          </p:nvSpPr>
          <p:spPr>
            <a:xfrm>
              <a:off x="2878200" y="2309760"/>
              <a:ext cx="1119240" cy="65736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9800000">
              <a:off x="3268800" y="282708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rot="1800000">
              <a:off x="2716920" y="2827440"/>
              <a:ext cx="887760" cy="426960"/>
            </a:xfrm>
            <a:prstGeom prst="parallelogram">
              <a:avLst>
                <a:gd name="adj" fmla="val 57795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856320" y="2298600"/>
            <a:ext cx="1534320" cy="1137960"/>
            <a:chOff x="3856320" y="2298600"/>
            <a:chExt cx="1534320" cy="1137960"/>
          </a:xfrm>
        </p:grpSpPr>
        <p:sp>
          <p:nvSpPr>
            <p:cNvPr id="118" name=""/>
            <p:cNvSpPr/>
            <p:nvPr/>
          </p:nvSpPr>
          <p:spPr>
            <a:xfrm>
              <a:off x="4064040" y="2298600"/>
              <a:ext cx="1118520" cy="657360"/>
            </a:xfrm>
            <a:prstGeom prst="diamond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9800000">
              <a:off x="4454280" y="281556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rot="1800000">
              <a:off x="3903120" y="2815560"/>
              <a:ext cx="887040" cy="427320"/>
            </a:xfrm>
            <a:prstGeom prst="parallelogram">
              <a:avLst>
                <a:gd name="adj" fmla="val 57700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032800" y="2289240"/>
            <a:ext cx="1534320" cy="1137960"/>
            <a:chOff x="5032800" y="2289240"/>
            <a:chExt cx="1534320" cy="1137960"/>
          </a:xfrm>
        </p:grpSpPr>
        <p:sp>
          <p:nvSpPr>
            <p:cNvPr id="122" name=""/>
            <p:cNvSpPr/>
            <p:nvPr/>
          </p:nvSpPr>
          <p:spPr>
            <a:xfrm>
              <a:off x="5240160" y="2289240"/>
              <a:ext cx="1119240" cy="657360"/>
            </a:xfrm>
            <a:prstGeom prst="diamond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9800000">
              <a:off x="5630760" y="280620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1800000">
              <a:off x="5079960" y="280620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275640" y="2654280"/>
            <a:ext cx="1533960" cy="1137960"/>
            <a:chOff x="3275640" y="2654280"/>
            <a:chExt cx="1533960" cy="1137960"/>
          </a:xfrm>
        </p:grpSpPr>
        <p:sp>
          <p:nvSpPr>
            <p:cNvPr id="126" name=""/>
            <p:cNvSpPr/>
            <p:nvPr/>
          </p:nvSpPr>
          <p:spPr>
            <a:xfrm>
              <a:off x="3483000" y="2654280"/>
              <a:ext cx="1119240" cy="657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9800000">
              <a:off x="3873600" y="317160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rot="1800000">
              <a:off x="3322800" y="317160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56440" y="2630520"/>
            <a:ext cx="1534680" cy="1138320"/>
            <a:chOff x="4456440" y="2630520"/>
            <a:chExt cx="1534680" cy="1138320"/>
          </a:xfrm>
        </p:grpSpPr>
        <p:sp>
          <p:nvSpPr>
            <p:cNvPr id="130" name=""/>
            <p:cNvSpPr/>
            <p:nvPr/>
          </p:nvSpPr>
          <p:spPr>
            <a:xfrm>
              <a:off x="4664160" y="2630520"/>
              <a:ext cx="1118880" cy="657360"/>
            </a:xfrm>
            <a:prstGeom prst="diamond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9800000">
              <a:off x="5054400" y="3147480"/>
              <a:ext cx="889200" cy="427320"/>
            </a:xfrm>
            <a:prstGeom prst="parallelogram">
              <a:avLst>
                <a:gd name="adj" fmla="val 5784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rot="1800000">
              <a:off x="4503600" y="314748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75400" y="2995560"/>
            <a:ext cx="1533960" cy="1137960"/>
            <a:chOff x="3875400" y="2995560"/>
            <a:chExt cx="1533960" cy="1137960"/>
          </a:xfrm>
        </p:grpSpPr>
        <p:sp>
          <p:nvSpPr>
            <p:cNvPr id="134" name=""/>
            <p:cNvSpPr/>
            <p:nvPr/>
          </p:nvSpPr>
          <p:spPr>
            <a:xfrm>
              <a:off x="4082760" y="2995560"/>
              <a:ext cx="1119240" cy="657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9800000">
              <a:off x="4473360" y="351288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rot="1800000">
              <a:off x="3922560" y="351288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851640" y="1052640"/>
            <a:ext cx="1534320" cy="1137240"/>
            <a:chOff x="3851640" y="1052640"/>
            <a:chExt cx="1534320" cy="1137240"/>
          </a:xfrm>
        </p:grpSpPr>
        <p:sp>
          <p:nvSpPr>
            <p:cNvPr id="138" name=""/>
            <p:cNvSpPr/>
            <p:nvPr/>
          </p:nvSpPr>
          <p:spPr>
            <a:xfrm>
              <a:off x="4059360" y="1052640"/>
              <a:ext cx="1119240" cy="65700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9800000">
              <a:off x="4449600" y="1569600"/>
              <a:ext cx="888840" cy="426600"/>
            </a:xfrm>
            <a:prstGeom prst="parallelogram">
              <a:avLst>
                <a:gd name="adj" fmla="val 57915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rot="1800000">
              <a:off x="3898800" y="1569960"/>
              <a:ext cx="887760" cy="426600"/>
            </a:xfrm>
            <a:prstGeom prst="parallelogram">
              <a:avLst>
                <a:gd name="adj" fmla="val 57844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437360" y="1390680"/>
            <a:ext cx="1534320" cy="1137960"/>
            <a:chOff x="4437360" y="1390680"/>
            <a:chExt cx="1534320" cy="1137960"/>
          </a:xfrm>
        </p:grpSpPr>
        <p:sp>
          <p:nvSpPr>
            <p:cNvPr id="142" name=""/>
            <p:cNvSpPr/>
            <p:nvPr/>
          </p:nvSpPr>
          <p:spPr>
            <a:xfrm>
              <a:off x="4644720" y="1390680"/>
              <a:ext cx="1119240" cy="657360"/>
            </a:xfrm>
            <a:prstGeom prst="diamond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9800000">
              <a:off x="5035320" y="190764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rot="1800000">
              <a:off x="4484520" y="190764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265560" y="1403280"/>
            <a:ext cx="1534680" cy="1137960"/>
            <a:chOff x="3265560" y="1403280"/>
            <a:chExt cx="1534680" cy="1137960"/>
          </a:xfrm>
        </p:grpSpPr>
        <p:sp>
          <p:nvSpPr>
            <p:cNvPr id="146" name=""/>
            <p:cNvSpPr/>
            <p:nvPr/>
          </p:nvSpPr>
          <p:spPr>
            <a:xfrm>
              <a:off x="3473640" y="1403280"/>
              <a:ext cx="1119240" cy="65736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9800000">
              <a:off x="3864240" y="192060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rot="1800000">
              <a:off x="3312360" y="1920960"/>
              <a:ext cx="887760" cy="426960"/>
            </a:xfrm>
            <a:prstGeom prst="parallelogram">
              <a:avLst>
                <a:gd name="adj" fmla="val 57795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856320" y="1743120"/>
            <a:ext cx="1534320" cy="1137960"/>
            <a:chOff x="3856320" y="1743120"/>
            <a:chExt cx="1534320" cy="1137960"/>
          </a:xfrm>
        </p:grpSpPr>
        <p:sp>
          <p:nvSpPr>
            <p:cNvPr id="150" name=""/>
            <p:cNvSpPr/>
            <p:nvPr/>
          </p:nvSpPr>
          <p:spPr>
            <a:xfrm>
              <a:off x="4064040" y="1743120"/>
              <a:ext cx="1118520" cy="657360"/>
            </a:xfrm>
            <a:prstGeom prst="diamond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800000">
              <a:off x="4454280" y="226008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rot="1800000">
              <a:off x="3903120" y="2260080"/>
              <a:ext cx="887040" cy="427320"/>
            </a:xfrm>
            <a:prstGeom prst="parallelogram">
              <a:avLst>
                <a:gd name="adj" fmla="val 57700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 flipH="1">
            <a:off x="1476000" y="2565360"/>
            <a:ext cx="1871640" cy="1079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34160" y="2563920"/>
            <a:ext cx="2087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7117200" y="1733400"/>
            <a:ext cx="1534320" cy="1137960"/>
            <a:chOff x="7117200" y="1733400"/>
            <a:chExt cx="1534320" cy="1137960"/>
          </a:xfrm>
        </p:grpSpPr>
        <p:sp>
          <p:nvSpPr>
            <p:cNvPr id="156" name=""/>
            <p:cNvSpPr/>
            <p:nvPr/>
          </p:nvSpPr>
          <p:spPr>
            <a:xfrm>
              <a:off x="7324560" y="1733400"/>
              <a:ext cx="1119240" cy="657360"/>
            </a:xfrm>
            <a:prstGeom prst="diamond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9800000">
              <a:off x="7715160" y="225036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rot="1800000">
              <a:off x="7164360" y="225036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9400" y="3068640"/>
            <a:ext cx="1534680" cy="1137960"/>
            <a:chOff x="779400" y="3068640"/>
            <a:chExt cx="1534680" cy="1137960"/>
          </a:xfrm>
        </p:grpSpPr>
        <p:sp>
          <p:nvSpPr>
            <p:cNvPr id="160" name=""/>
            <p:cNvSpPr/>
            <p:nvPr/>
          </p:nvSpPr>
          <p:spPr>
            <a:xfrm>
              <a:off x="987480" y="3068640"/>
              <a:ext cx="1119240" cy="65736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9800000">
              <a:off x="1378080" y="358596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rot="1800000">
              <a:off x="826200" y="3586320"/>
              <a:ext cx="887760" cy="426960"/>
            </a:xfrm>
            <a:prstGeom prst="parallelogram">
              <a:avLst>
                <a:gd name="adj" fmla="val 57795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H="1">
            <a:off x="3203280" y="3284640"/>
            <a:ext cx="1439640" cy="936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351520" y="3932280"/>
            <a:ext cx="1533960" cy="1137960"/>
            <a:chOff x="2351520" y="3932280"/>
            <a:chExt cx="1533960" cy="1137960"/>
          </a:xfrm>
        </p:grpSpPr>
        <p:sp>
          <p:nvSpPr>
            <p:cNvPr id="165" name=""/>
            <p:cNvSpPr/>
            <p:nvPr/>
          </p:nvSpPr>
          <p:spPr>
            <a:xfrm>
              <a:off x="2558880" y="3932280"/>
              <a:ext cx="1119240" cy="657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9800000">
              <a:off x="2949480" y="444960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rot="1800000">
              <a:off x="2398680" y="444960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219640" y="2924280"/>
            <a:ext cx="1895400" cy="1081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396480" y="3429000"/>
            <a:ext cx="1534680" cy="1138320"/>
            <a:chOff x="6396480" y="3429000"/>
            <a:chExt cx="1534680" cy="1138320"/>
          </a:xfrm>
        </p:grpSpPr>
        <p:sp>
          <p:nvSpPr>
            <p:cNvPr id="170" name=""/>
            <p:cNvSpPr/>
            <p:nvPr/>
          </p:nvSpPr>
          <p:spPr>
            <a:xfrm>
              <a:off x="6604200" y="3429000"/>
              <a:ext cx="1118880" cy="657360"/>
            </a:xfrm>
            <a:prstGeom prst="diamond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9800000">
              <a:off x="6994440" y="3945960"/>
              <a:ext cx="889200" cy="427320"/>
            </a:xfrm>
            <a:prstGeom prst="parallelogram">
              <a:avLst>
                <a:gd name="adj" fmla="val 5784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rot="1800000">
              <a:off x="6443640" y="394596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272400" y="2104920"/>
            <a:ext cx="1533960" cy="1137960"/>
            <a:chOff x="3272400" y="2104920"/>
            <a:chExt cx="1533960" cy="1137960"/>
          </a:xfrm>
        </p:grpSpPr>
        <p:sp>
          <p:nvSpPr>
            <p:cNvPr id="174" name=""/>
            <p:cNvSpPr/>
            <p:nvPr/>
          </p:nvSpPr>
          <p:spPr>
            <a:xfrm>
              <a:off x="3479760" y="2104920"/>
              <a:ext cx="1119240" cy="657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9800000">
              <a:off x="3870360" y="262224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rot="1800000">
              <a:off x="3319560" y="262224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217880" y="3199320"/>
            <a:ext cx="648720" cy="36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4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68760" y="4070880"/>
            <a:ext cx="648720" cy="36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15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88440" y="1872360"/>
            <a:ext cx="648720" cy="36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굴림"/>
              </a:rPr>
              <a:t>2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34600" y="3558240"/>
            <a:ext cx="648720" cy="36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굴림"/>
              </a:rPr>
              <a:t>25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8:39:43Z</dcterms:created>
  <dc:creator>Justin</dc:creator>
  <dc:description/>
  <dc:language>en-US</dc:language>
  <cp:lastModifiedBy>Justin</cp:lastModifiedBy>
  <dcterms:modified xsi:type="dcterms:W3CDTF">2009-10-10T13:15:1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