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586A-42D5-41E8-9DCA-1783B2876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13712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4eb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7720" y="2480760"/>
            <a:ext cx="46483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7720" y="2680200"/>
            <a:ext cx="46483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1F3D-E9F3-4C53-8CAB-7660E3DB4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520" y="13712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4eb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7720" y="2480760"/>
            <a:ext cx="2268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859840" y="2480760"/>
            <a:ext cx="2268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7720" y="2680200"/>
            <a:ext cx="2268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2859840" y="2680200"/>
            <a:ext cx="2268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7145-34E2-4198-95FA-3A9D13C47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520" y="13712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4eb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7720" y="2480760"/>
            <a:ext cx="1496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049480" y="2480760"/>
            <a:ext cx="1496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621240" y="2480760"/>
            <a:ext cx="1496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7720" y="2680200"/>
            <a:ext cx="1496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049480" y="2680200"/>
            <a:ext cx="1496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3621240" y="2680200"/>
            <a:ext cx="1496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C825-7FE6-4A60-A4F6-0C5C435C5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12F45-CBA3-4534-8F5E-648EEDF97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13712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4eb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77720" y="2480760"/>
            <a:ext cx="46483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CB2AB-538F-4EE5-B3CC-4EE591EA5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13712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4eb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7720" y="2480760"/>
            <a:ext cx="464832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1E6F1-CAFE-4B32-BB69-D82F084EE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13712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4eb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7720" y="2480760"/>
            <a:ext cx="22683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859840" y="2480760"/>
            <a:ext cx="22683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2DC3B-857A-4425-9AAC-02E533F20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13712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4e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5A90A-6202-489E-9669-EEA4BD42F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80520" y="1371240"/>
            <a:ext cx="8153640" cy="35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B6A71-E23B-45C5-850C-480EAD0F4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13712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4eb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7720" y="2480760"/>
            <a:ext cx="2268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2859840" y="2480760"/>
            <a:ext cx="22683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7720" y="2680200"/>
            <a:ext cx="2268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B8809-8F36-402B-9186-6D5E9EEE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13712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4eb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7720" y="2480760"/>
            <a:ext cx="46483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37A3-7997-45CE-BFEA-5A2A472BE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13712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4eb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7720" y="2480760"/>
            <a:ext cx="22683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859840" y="2480760"/>
            <a:ext cx="2268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859840" y="2680200"/>
            <a:ext cx="2268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56041-4D7A-4E50-822F-2C1E6172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13712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4eb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7720" y="2480760"/>
            <a:ext cx="2268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859840" y="2480760"/>
            <a:ext cx="2268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7720" y="2680200"/>
            <a:ext cx="46483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81E5D-F44A-47E3-BD87-12E63C6E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13712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4eb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7720" y="2480760"/>
            <a:ext cx="46483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7720" y="2680200"/>
            <a:ext cx="46483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AAB9C-C99C-4E9C-845D-75999892D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13712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4eb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77720" y="2480760"/>
            <a:ext cx="2268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859840" y="2480760"/>
            <a:ext cx="2268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7720" y="2680200"/>
            <a:ext cx="2268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859840" y="2680200"/>
            <a:ext cx="2268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B2A56-F1F1-4DD4-86C6-9BBDA92FB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13712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4eb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7720" y="2480760"/>
            <a:ext cx="1496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049480" y="2480760"/>
            <a:ext cx="1496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621240" y="2480760"/>
            <a:ext cx="1496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7720" y="2680200"/>
            <a:ext cx="1496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049480" y="2680200"/>
            <a:ext cx="1496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3621240" y="2680200"/>
            <a:ext cx="1496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1E83B-00CE-497D-894B-44D7BBB7A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13712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4eb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7720" y="2480760"/>
            <a:ext cx="464832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E0AE-562D-41B4-85C9-E7E4D4E41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13712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4eb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7720" y="2480760"/>
            <a:ext cx="22683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859840" y="2480760"/>
            <a:ext cx="22683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61AB-C317-4DEA-A660-7F3D66575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13712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4e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241C-46BB-4D84-B0F3-C58A1E545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520" y="1371240"/>
            <a:ext cx="8153640" cy="35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6C6B-FC0F-4AEE-A573-72A033036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13712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4eb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7720" y="2480760"/>
            <a:ext cx="2268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859840" y="2480760"/>
            <a:ext cx="22683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7720" y="2680200"/>
            <a:ext cx="2268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5846-CC92-4DF5-9563-70320B14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13712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4eb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7720" y="2480760"/>
            <a:ext cx="22683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859840" y="2480760"/>
            <a:ext cx="2268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859840" y="2680200"/>
            <a:ext cx="2268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CC5E-1156-4D26-A3F4-A8A8A840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13712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4eb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7720" y="2480760"/>
            <a:ext cx="2268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859840" y="2480760"/>
            <a:ext cx="2268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7720" y="2680200"/>
            <a:ext cx="46483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90D9-75A2-4405-93B9-6B92BF39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48612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64eb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64eb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678168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64eb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4eb6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3755520" y="64749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64eb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453F1-A4A0-4EE6-94B7-C39E7A499F5B}" type="slidenum">
              <a:rPr b="0" lang="en-US" sz="1200" spc="-1" strike="noStrike">
                <a:solidFill>
                  <a:srgbClr val="364eb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152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9520f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58672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34286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841DA-C9AC-4EBD-919D-2D575137C03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0120" y="304920"/>
            <a:ext cx="12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9520f"/>
                </a:solidFill>
                <a:latin typeface="Arial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380520" y="13712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4eb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64eb6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520" y="13712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4eb6"/>
                </a:solidFill>
                <a:latin typeface="Arial"/>
                <a:ea typeface="宋体"/>
              </a:rPr>
              <a:t>PowerPoint Template</a:t>
            </a:r>
            <a:endParaRPr b="1" lang="en-US" sz="4000" spc="-1" strike="noStrike">
              <a:solidFill>
                <a:srgbClr val="364eb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498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36a1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6a1b6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6a1b6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1d5662"/>
              </a:gs>
              <a:gs pos="50000">
                <a:srgbClr val="36a1b6"/>
              </a:gs>
              <a:gs pos="100000">
                <a:srgbClr val="1d566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36a1b6">
                  <a:alpha val="0"/>
                </a:srgbClr>
              </a:gs>
              <a:gs pos="100000">
                <a:srgbClr val="22657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9cc769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9cc769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46b38"/>
              </a:gs>
              <a:gs pos="50000">
                <a:srgbClr val="9cc769"/>
              </a:gs>
              <a:gs pos="100000">
                <a:srgbClr val="546b38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9cc769">
                  <a:alpha val="0"/>
                </a:srgbClr>
              </a:gs>
              <a:gs pos="100000">
                <a:srgbClr val="627d4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239" name="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5181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4987e3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213e68"/>
              </a:gs>
              <a:gs pos="100000">
                <a:srgbClr val="4987e3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27487a"/>
              </a:gs>
              <a:gs pos="50000">
                <a:srgbClr val="4987e3"/>
              </a:gs>
              <a:gs pos="100000">
                <a:srgbClr val="27487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4987e3">
                  <a:alpha val="0"/>
                </a:srgbClr>
              </a:gs>
              <a:gs pos="100000">
                <a:srgbClr val="2e558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249" name="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981600" y="2038680"/>
              <a:ext cx="126000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254" name="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451920" y="2038680"/>
              <a:ext cx="12614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Marketing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1447920" y="1527120"/>
            <a:ext cx="5714640" cy="5330520"/>
            <a:chOff x="1447920" y="1527120"/>
            <a:chExt cx="5714640" cy="5330520"/>
          </a:xfrm>
        </p:grpSpPr>
        <p:sp>
          <p:nvSpPr>
            <p:cNvPr id="263" name=""/>
            <p:cNvSpPr/>
            <p:nvPr/>
          </p:nvSpPr>
          <p:spPr>
            <a:xfrm rot="13770000">
              <a:off x="4782960" y="4115160"/>
              <a:ext cx="1015920" cy="19620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dddddd"/>
                </a:gs>
                <a:gs pos="100000">
                  <a:srgbClr val="c0c0c0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20856000">
              <a:off x="2755800" y="3632400"/>
              <a:ext cx="1035720" cy="18252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dfdfdf"/>
                </a:gs>
                <a:gs pos="100000">
                  <a:srgbClr val="c0c0c0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18394200">
              <a:off x="4917960" y="2476080"/>
              <a:ext cx="631440" cy="1360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ebebeb"/>
                </a:gs>
                <a:gs pos="100000">
                  <a:srgbClr val="c0c0c0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3719880" y="2509200"/>
              <a:ext cx="1652400" cy="1684080"/>
              <a:chOff x="3719880" y="2509200"/>
              <a:chExt cx="1652400" cy="168408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3719880" y="2509200"/>
                <a:ext cx="1652400" cy="1684080"/>
                <a:chOff x="3719880" y="2509200"/>
                <a:chExt cx="1652400" cy="168408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3719880" y="2509200"/>
                  <a:ext cx="1652400" cy="168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cc769"/>
                    </a:gs>
                    <a:gs pos="100000">
                      <a:srgbClr val="25301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3908520" y="2536920"/>
                  <a:ext cx="1274760" cy="635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cc76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0" name=""/>
              <p:cNvSpPr/>
              <p:nvPr/>
            </p:nvSpPr>
            <p:spPr>
              <a:xfrm>
                <a:off x="3826440" y="324144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5165640" y="1527120"/>
              <a:ext cx="925200" cy="911880"/>
              <a:chOff x="5165640" y="1527120"/>
              <a:chExt cx="925200" cy="911880"/>
            </a:xfrm>
          </p:grpSpPr>
          <p:grpSp>
            <p:nvGrpSpPr>
              <p:cNvPr id="272" name=""/>
              <p:cNvGrpSpPr/>
              <p:nvPr/>
            </p:nvGrpSpPr>
            <p:grpSpPr>
              <a:xfrm>
                <a:off x="5165640" y="1527120"/>
                <a:ext cx="894960" cy="911880"/>
                <a:chOff x="5165640" y="1527120"/>
                <a:chExt cx="894960" cy="91188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165640" y="1527120"/>
                  <a:ext cx="894960" cy="911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987e3"/>
                    </a:gs>
                    <a:gs pos="100000">
                      <a:srgbClr val="11203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5267880" y="1542240"/>
                  <a:ext cx="690480" cy="344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987e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5" name=""/>
              <p:cNvSpPr/>
              <p:nvPr/>
            </p:nvSpPr>
            <p:spPr>
              <a:xfrm>
                <a:off x="5181480" y="1877760"/>
                <a:ext cx="909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1447920" y="2860200"/>
              <a:ext cx="1790280" cy="1894680"/>
              <a:chOff x="1447920" y="2860200"/>
              <a:chExt cx="1790280" cy="1894680"/>
            </a:xfrm>
          </p:grpSpPr>
          <p:grpSp>
            <p:nvGrpSpPr>
              <p:cNvPr id="277" name=""/>
              <p:cNvGrpSpPr/>
              <p:nvPr/>
            </p:nvGrpSpPr>
            <p:grpSpPr>
              <a:xfrm>
                <a:off x="1447920" y="2860200"/>
                <a:ext cx="1790280" cy="1894680"/>
                <a:chOff x="1447920" y="2860200"/>
                <a:chExt cx="1790280" cy="189468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1447920" y="2860200"/>
                  <a:ext cx="1790280" cy="189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9520f"/>
                    </a:gs>
                    <a:gs pos="100000">
                      <a:srgbClr val="89330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652400" y="2891520"/>
                  <a:ext cx="1380960" cy="7149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9520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0" name=""/>
              <p:cNvSpPr/>
              <p:nvPr/>
            </p:nvSpPr>
            <p:spPr>
              <a:xfrm>
                <a:off x="1563840" y="370224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5097240" y="4263840"/>
              <a:ext cx="2065320" cy="2105280"/>
              <a:chOff x="5097240" y="4263840"/>
              <a:chExt cx="2065320" cy="2105280"/>
            </a:xfrm>
          </p:grpSpPr>
          <p:grpSp>
            <p:nvGrpSpPr>
              <p:cNvPr id="282" name=""/>
              <p:cNvGrpSpPr/>
              <p:nvPr/>
            </p:nvGrpSpPr>
            <p:grpSpPr>
              <a:xfrm>
                <a:off x="5097240" y="4263840"/>
                <a:ext cx="2065320" cy="2105280"/>
                <a:chOff x="5097240" y="4263840"/>
                <a:chExt cx="2065320" cy="21052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5097240" y="4263840"/>
                  <a:ext cx="2065320" cy="2105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6a1b6"/>
                    </a:gs>
                    <a:gs pos="100000">
                      <a:srgbClr val="1b525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5333040" y="4298760"/>
                  <a:ext cx="1593360" cy="7945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36a1b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5" name=""/>
              <p:cNvSpPr/>
              <p:nvPr/>
            </p:nvSpPr>
            <p:spPr>
              <a:xfrm>
                <a:off x="5412240" y="517608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1654200" y="4825440"/>
              <a:ext cx="1454400" cy="48816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58039"/>
                  </a:srgbClr>
                </a:gs>
                <a:gs pos="100000">
                  <a:srgbClr val="b4b4b4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857760" y="4196880"/>
              <a:ext cx="1455840" cy="48816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58039"/>
                  </a:srgbClr>
                </a:gs>
                <a:gs pos="100000">
                  <a:srgbClr val="b4b4b4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441400" y="6369480"/>
              <a:ext cx="1454040" cy="48816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58039"/>
                  </a:srgbClr>
                </a:gs>
                <a:gs pos="100000">
                  <a:srgbClr val="b4b4b4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303880" y="2509200"/>
              <a:ext cx="666720" cy="24372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58039"/>
                  </a:srgbClr>
                </a:gs>
                <a:gs pos="100000">
                  <a:srgbClr val="b4b4b4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rot="17973000">
            <a:off x="4882320" y="267552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4987e3"/>
              </a:gs>
              <a:gs pos="100000">
                <a:srgbClr val="4077c9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rot="3465600">
            <a:off x="4881600" y="48394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4987e3"/>
              </a:gs>
              <a:gs pos="100000">
                <a:srgbClr val="4077c9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rot="14368800">
            <a:off x="3662640" y="275112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4987e3"/>
              </a:gs>
              <a:gs pos="100000">
                <a:srgbClr val="4077c9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7534800">
            <a:off x="3624840" y="48060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4987e3"/>
              </a:gs>
              <a:gs pos="100000">
                <a:srgbClr val="4077c9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460840" y="380376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4987e3"/>
              </a:gs>
              <a:gs pos="100000">
                <a:srgbClr val="4077c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rot="10800000">
            <a:off x="3050640" y="379692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4987e3"/>
              </a:gs>
              <a:gs pos="100000">
                <a:srgbClr val="4077c9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771640" y="2046240"/>
            <a:ext cx="3743640" cy="3745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3533760" y="2093760"/>
            <a:ext cx="360360" cy="360360"/>
            <a:chOff x="3533760" y="2093760"/>
            <a:chExt cx="360360" cy="360360"/>
          </a:xfrm>
        </p:grpSpPr>
        <p:sp>
          <p:nvSpPr>
            <p:cNvPr id="299" name=""/>
            <p:cNvSpPr/>
            <p:nvPr/>
          </p:nvSpPr>
          <p:spPr>
            <a:xfrm>
              <a:off x="3533760" y="2093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1c3ad"/>
                </a:gs>
                <a:gs pos="100000">
                  <a:srgbClr val="d9520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549600" y="2124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3ad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2589120" y="3749760"/>
            <a:ext cx="360360" cy="360360"/>
            <a:chOff x="2589120" y="3749760"/>
            <a:chExt cx="360360" cy="360360"/>
          </a:xfrm>
        </p:grpSpPr>
        <p:sp>
          <p:nvSpPr>
            <p:cNvPr id="302" name=""/>
            <p:cNvSpPr/>
            <p:nvPr/>
          </p:nvSpPr>
          <p:spPr>
            <a:xfrm>
              <a:off x="258912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1c3ad"/>
                </a:gs>
                <a:gs pos="100000">
                  <a:srgbClr val="d9520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60496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3ad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3452760" y="5292720"/>
            <a:ext cx="360360" cy="360360"/>
            <a:chOff x="3452760" y="5292720"/>
            <a:chExt cx="360360" cy="360360"/>
          </a:xfrm>
        </p:grpSpPr>
        <p:sp>
          <p:nvSpPr>
            <p:cNvPr id="305" name=""/>
            <p:cNvSpPr/>
            <p:nvPr/>
          </p:nvSpPr>
          <p:spPr>
            <a:xfrm>
              <a:off x="3452760" y="5292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1c3ad"/>
                </a:gs>
                <a:gs pos="100000">
                  <a:srgbClr val="d9520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468600" y="5322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3ad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5383080" y="2073240"/>
            <a:ext cx="360360" cy="360360"/>
            <a:chOff x="5383080" y="2073240"/>
            <a:chExt cx="360360" cy="360360"/>
          </a:xfrm>
        </p:grpSpPr>
        <p:sp>
          <p:nvSpPr>
            <p:cNvPr id="308" name=""/>
            <p:cNvSpPr/>
            <p:nvPr/>
          </p:nvSpPr>
          <p:spPr>
            <a:xfrm>
              <a:off x="5383080" y="2073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1c3ad"/>
                </a:gs>
                <a:gs pos="100000">
                  <a:srgbClr val="d9520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398920" y="2103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3ad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6332400" y="3749760"/>
            <a:ext cx="360360" cy="360360"/>
            <a:chOff x="6332400" y="3749760"/>
            <a:chExt cx="360360" cy="360360"/>
          </a:xfrm>
        </p:grpSpPr>
        <p:sp>
          <p:nvSpPr>
            <p:cNvPr id="311" name=""/>
            <p:cNvSpPr/>
            <p:nvPr/>
          </p:nvSpPr>
          <p:spPr>
            <a:xfrm>
              <a:off x="633240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1c3ad"/>
                </a:gs>
                <a:gs pos="100000">
                  <a:srgbClr val="d9520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34824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3ad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5438880" y="5349960"/>
            <a:ext cx="360360" cy="360360"/>
            <a:chOff x="5438880" y="5349960"/>
            <a:chExt cx="360360" cy="360360"/>
          </a:xfrm>
        </p:grpSpPr>
        <p:sp>
          <p:nvSpPr>
            <p:cNvPr id="314" name=""/>
            <p:cNvSpPr/>
            <p:nvPr/>
          </p:nvSpPr>
          <p:spPr>
            <a:xfrm>
              <a:off x="5438880" y="5349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1c3ad"/>
                </a:gs>
                <a:gs pos="100000">
                  <a:srgbClr val="d9520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454720" y="537984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f1c3ad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3728880" y="29876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6a1b6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722760" y="29718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184a53"/>
              </a:gs>
              <a:gs pos="100000">
                <a:srgbClr val="36a1b6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855960" y="311472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1d5662"/>
              </a:gs>
              <a:gs pos="50000">
                <a:srgbClr val="36a1b6"/>
              </a:gs>
              <a:gs pos="100000">
                <a:srgbClr val="1d566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838680" y="30877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36a1b6">
                  <a:alpha val="0"/>
                </a:srgbClr>
              </a:gs>
              <a:gs pos="100000">
                <a:srgbClr val="22657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940200" y="3198960"/>
            <a:ext cx="152244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962520" y="3218040"/>
            <a:ext cx="1471320" cy="147312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979800" y="3227400"/>
            <a:ext cx="1438200" cy="14349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995640" y="3241800"/>
            <a:ext cx="1366920" cy="134136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076640" y="3278160"/>
            <a:ext cx="1214640" cy="1090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69240" y="368784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823360" y="202104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933920" y="202104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737760" y="37735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823360" y="53737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019520" y="37735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857600" y="531180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1371600" y="1981080"/>
            <a:ext cx="6436440" cy="3729960"/>
            <a:chOff x="1371600" y="1981080"/>
            <a:chExt cx="6436440" cy="3729960"/>
          </a:xfrm>
        </p:grpSpPr>
        <p:grpSp>
          <p:nvGrpSpPr>
            <p:cNvPr id="334" name=""/>
            <p:cNvGrpSpPr/>
            <p:nvPr/>
          </p:nvGrpSpPr>
          <p:grpSpPr>
            <a:xfrm>
              <a:off x="1371600" y="1981080"/>
              <a:ext cx="2025720" cy="3729960"/>
              <a:chOff x="1371600" y="1981080"/>
              <a:chExt cx="2025720" cy="372996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1371600" y="2265120"/>
                <a:ext cx="2025720" cy="3445920"/>
                <a:chOff x="1371600" y="2265120"/>
                <a:chExt cx="2025720" cy="344592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1371600" y="2265120"/>
                  <a:ext cx="2019600" cy="2641320"/>
                </a:xfrm>
                <a:custGeom>
                  <a:avLst/>
                  <a:gdLst>
                    <a:gd name="textAreaLeft" fmla="*/ 103320 w 2019600"/>
                    <a:gd name="textAreaRight" fmla="*/ 1916280 w 2019600"/>
                    <a:gd name="textAreaTop" fmla="*/ 103320 h 2641320"/>
                    <a:gd name="textAreaBottom" fmla="*/ 2538000 h 2641320"/>
                  </a:gdLst>
                  <a:ahLst/>
                  <a:rect l="textAreaLeft" t="textAreaTop" r="textAreaRight" b="textAreaBottom"/>
                  <a:pathLst>
                    <a:path w="21600" h="28248">
                      <a:moveTo>
                        <a:pt x="3782" y="0"/>
                      </a:moveTo>
                      <a:arcTo wR="3782" hR="3782" stAng="16200000" swAng="-5400000"/>
                      <a:lnTo>
                        <a:pt x="0" y="24466"/>
                      </a:lnTo>
                      <a:arcTo wR="3782" hR="3782" stAng="10800000" swAng="-5400000"/>
                      <a:lnTo>
                        <a:pt x="17818" y="28248"/>
                      </a:lnTo>
                      <a:arcTo wR="3782" hR="3782" stAng="5400000" swAng="-5400000"/>
                      <a:lnTo>
                        <a:pt x="21600" y="3782"/>
                      </a:lnTo>
                      <a:arcTo wR="3782" hR="3782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3477a4"/>
                    </a:gs>
                    <a:gs pos="100000">
                      <a:srgbClr val="4e91d4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1402560" y="2272320"/>
                  <a:ext cx="1959120" cy="2591280"/>
                </a:xfrm>
                <a:custGeom>
                  <a:avLst/>
                  <a:gdLst>
                    <a:gd name="textAreaLeft" fmla="*/ 95400 w 1959120"/>
                    <a:gd name="textAreaRight" fmla="*/ 1863720 w 1959120"/>
                    <a:gd name="textAreaTop" fmla="*/ 95400 h 2591280"/>
                    <a:gd name="textAreaBottom" fmla="*/ 2495880 h 2591280"/>
                  </a:gdLst>
                  <a:ahLst/>
                  <a:rect l="textAreaLeft" t="textAreaTop" r="textAreaRight" b="textAreaBottom"/>
                  <a:pathLst>
                    <a:path w="21600" h="28569">
                      <a:moveTo>
                        <a:pt x="3600" y="0"/>
                      </a:moveTo>
                      <a:arcTo wR="3600" hR="3600" stAng="16200000" swAng="-5400000"/>
                      <a:lnTo>
                        <a:pt x="0" y="24969"/>
                      </a:lnTo>
                      <a:arcTo wR="3600" hR="3600" stAng="10800000" swAng="-5400000"/>
                      <a:lnTo>
                        <a:pt x="18000" y="2856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80d4f2"/>
                    </a:gs>
                    <a:gs pos="100000">
                      <a:srgbClr val="3ca1e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1418760" y="4180680"/>
                  <a:ext cx="1932120" cy="654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d4f2">
                        <a:alpha val="0"/>
                      </a:srgbClr>
                    </a:gs>
                    <a:gs pos="100000">
                      <a:srgbClr val="8ed8f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1418760" y="2292840"/>
                  <a:ext cx="1932120" cy="654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d3eff9"/>
                    </a:gs>
                    <a:gs pos="100000">
                      <a:srgbClr val="80d4f2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1377720" y="4906440"/>
                  <a:ext cx="2019600" cy="804600"/>
                </a:xfrm>
                <a:prstGeom prst="roundRect">
                  <a:avLst>
                    <a:gd name="adj" fmla="val 40389"/>
                  </a:avLst>
                </a:prstGeom>
                <a:gradFill rotWithShape="0">
                  <a:gsLst>
                    <a:gs pos="0">
                      <a:srgbClr val="3477a4">
                        <a:alpha val="50196"/>
                      </a:srgbClr>
                    </a:gs>
                    <a:gs pos="100000">
                      <a:srgbClr val="17364b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1418760" y="4928400"/>
                  <a:ext cx="1932120" cy="654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d3eff9">
                        <a:alpha val="50196"/>
                      </a:srgbClr>
                    </a:gs>
                    <a:gs pos="100000">
                      <a:srgbClr val="80d4f2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2066040" y="1981080"/>
                <a:ext cx="600480" cy="594720"/>
                <a:chOff x="2066040" y="1981080"/>
                <a:chExt cx="600480" cy="59472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2066040" y="1981080"/>
                  <a:ext cx="600480" cy="59472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2072160" y="1985400"/>
                  <a:ext cx="580680" cy="576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2079360" y="1989000"/>
                  <a:ext cx="567360" cy="561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2085480" y="1994400"/>
                  <a:ext cx="539280" cy="52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2117160" y="2008440"/>
                  <a:ext cx="479160" cy="42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8" name=""/>
            <p:cNvSpPr/>
            <p:nvPr/>
          </p:nvSpPr>
          <p:spPr>
            <a:xfrm>
              <a:off x="2185560" y="2066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442520" y="2685600"/>
              <a:ext cx="19209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0" name=""/>
            <p:cNvGrpSpPr/>
            <p:nvPr/>
          </p:nvGrpSpPr>
          <p:grpSpPr>
            <a:xfrm>
              <a:off x="3576960" y="1981080"/>
              <a:ext cx="2025720" cy="3729960"/>
              <a:chOff x="3576960" y="1981080"/>
              <a:chExt cx="2025720" cy="3729960"/>
            </a:xfrm>
          </p:grpSpPr>
          <p:grpSp>
            <p:nvGrpSpPr>
              <p:cNvPr id="351" name=""/>
              <p:cNvGrpSpPr/>
              <p:nvPr/>
            </p:nvGrpSpPr>
            <p:grpSpPr>
              <a:xfrm>
                <a:off x="3576960" y="2265120"/>
                <a:ext cx="2025720" cy="3445920"/>
                <a:chOff x="3576960" y="2265120"/>
                <a:chExt cx="2025720" cy="344592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3576960" y="2265120"/>
                  <a:ext cx="2019600" cy="2641320"/>
                </a:xfrm>
                <a:custGeom>
                  <a:avLst/>
                  <a:gdLst>
                    <a:gd name="textAreaLeft" fmla="*/ 103320 w 2019600"/>
                    <a:gd name="textAreaRight" fmla="*/ 1916280 w 2019600"/>
                    <a:gd name="textAreaTop" fmla="*/ 103320 h 2641320"/>
                    <a:gd name="textAreaBottom" fmla="*/ 2538000 h 2641320"/>
                  </a:gdLst>
                  <a:ahLst/>
                  <a:rect l="textAreaLeft" t="textAreaTop" r="textAreaRight" b="textAreaBottom"/>
                  <a:pathLst>
                    <a:path w="21600" h="28248">
                      <a:moveTo>
                        <a:pt x="3782" y="0"/>
                      </a:moveTo>
                      <a:arcTo wR="3782" hR="3782" stAng="16200000" swAng="-5400000"/>
                      <a:lnTo>
                        <a:pt x="0" y="24466"/>
                      </a:lnTo>
                      <a:arcTo wR="3782" hR="3782" stAng="10800000" swAng="-5400000"/>
                      <a:lnTo>
                        <a:pt x="17818" y="28248"/>
                      </a:lnTo>
                      <a:arcTo wR="3782" hR="3782" stAng="5400000" swAng="-5400000"/>
                      <a:lnTo>
                        <a:pt x="21600" y="3782"/>
                      </a:lnTo>
                      <a:arcTo wR="3782" hR="3782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3f8b4a"/>
                    </a:gs>
                    <a:gs pos="100000">
                      <a:srgbClr val="34b034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3607920" y="2272320"/>
                  <a:ext cx="1959120" cy="2591280"/>
                </a:xfrm>
                <a:custGeom>
                  <a:avLst/>
                  <a:gdLst>
                    <a:gd name="textAreaLeft" fmla="*/ 95400 w 1959120"/>
                    <a:gd name="textAreaRight" fmla="*/ 1863720 w 1959120"/>
                    <a:gd name="textAreaTop" fmla="*/ 95400 h 2591280"/>
                    <a:gd name="textAreaBottom" fmla="*/ 2495880 h 2591280"/>
                  </a:gdLst>
                  <a:ahLst/>
                  <a:rect l="textAreaLeft" t="textAreaTop" r="textAreaRight" b="textAreaBottom"/>
                  <a:pathLst>
                    <a:path w="21600" h="28569">
                      <a:moveTo>
                        <a:pt x="3600" y="0"/>
                      </a:moveTo>
                      <a:arcTo wR="3600" hR="3600" stAng="16200000" swAng="-5400000"/>
                      <a:lnTo>
                        <a:pt x="0" y="24969"/>
                      </a:lnTo>
                      <a:arcTo wR="3600" hR="3600" stAng="10800000" swAng="-5400000"/>
                      <a:lnTo>
                        <a:pt x="18000" y="2856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88ea91"/>
                    </a:gs>
                    <a:gs pos="100000">
                      <a:srgbClr val="21d34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3624120" y="4180680"/>
                  <a:ext cx="1932120" cy="654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8ea91">
                        <a:alpha val="0"/>
                      </a:srgbClr>
                    </a:gs>
                    <a:gs pos="100000">
                      <a:srgbClr val="95eb9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3624120" y="2292840"/>
                  <a:ext cx="1932120" cy="654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d6f7d9"/>
                    </a:gs>
                    <a:gs pos="100000">
                      <a:srgbClr val="88ea91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3583080" y="4906440"/>
                  <a:ext cx="2019600" cy="804600"/>
                </a:xfrm>
                <a:prstGeom prst="roundRect">
                  <a:avLst>
                    <a:gd name="adj" fmla="val 40389"/>
                  </a:avLst>
                </a:prstGeom>
                <a:gradFill rotWithShape="0">
                  <a:gsLst>
                    <a:gs pos="0">
                      <a:srgbClr val="3477a4">
                        <a:alpha val="50196"/>
                      </a:srgbClr>
                    </a:gs>
                    <a:gs pos="100000">
                      <a:srgbClr val="17364b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3624120" y="4928400"/>
                  <a:ext cx="1932120" cy="654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b4efc0">
                        <a:alpha val="50196"/>
                      </a:srgbClr>
                    </a:gs>
                    <a:gs pos="100000">
                      <a:srgbClr val="21d347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4271400" y="1981080"/>
                <a:ext cx="600480" cy="594720"/>
                <a:chOff x="4271400" y="1981080"/>
                <a:chExt cx="600480" cy="59472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4271400" y="1981080"/>
                  <a:ext cx="600480" cy="59472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4277520" y="1985400"/>
                  <a:ext cx="580680" cy="576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4284720" y="1989000"/>
                  <a:ext cx="567360" cy="561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4290840" y="1994400"/>
                  <a:ext cx="539280" cy="52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4322520" y="2008440"/>
                  <a:ext cx="479160" cy="42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4" name=""/>
            <p:cNvSpPr/>
            <p:nvPr/>
          </p:nvSpPr>
          <p:spPr>
            <a:xfrm>
              <a:off x="4391280" y="2066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647880" y="2685600"/>
              <a:ext cx="19209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6" name=""/>
            <p:cNvGrpSpPr/>
            <p:nvPr/>
          </p:nvGrpSpPr>
          <p:grpSpPr>
            <a:xfrm>
              <a:off x="5782320" y="1981080"/>
              <a:ext cx="2025720" cy="3729960"/>
              <a:chOff x="5782320" y="1981080"/>
              <a:chExt cx="2025720" cy="3729960"/>
            </a:xfrm>
          </p:grpSpPr>
          <p:grpSp>
            <p:nvGrpSpPr>
              <p:cNvPr id="367" name=""/>
              <p:cNvGrpSpPr/>
              <p:nvPr/>
            </p:nvGrpSpPr>
            <p:grpSpPr>
              <a:xfrm>
                <a:off x="5782320" y="2265120"/>
                <a:ext cx="2025720" cy="3445920"/>
                <a:chOff x="5782320" y="2265120"/>
                <a:chExt cx="2025720" cy="344592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5782320" y="2265120"/>
                  <a:ext cx="2019600" cy="2641320"/>
                </a:xfrm>
                <a:custGeom>
                  <a:avLst/>
                  <a:gdLst>
                    <a:gd name="textAreaLeft" fmla="*/ 103320 w 2019600"/>
                    <a:gd name="textAreaRight" fmla="*/ 1916280 w 2019600"/>
                    <a:gd name="textAreaTop" fmla="*/ 103320 h 2641320"/>
                    <a:gd name="textAreaBottom" fmla="*/ 2538000 h 2641320"/>
                  </a:gdLst>
                  <a:ahLst/>
                  <a:rect l="textAreaLeft" t="textAreaTop" r="textAreaRight" b="textAreaBottom"/>
                  <a:pathLst>
                    <a:path w="21600" h="28248">
                      <a:moveTo>
                        <a:pt x="3782" y="0"/>
                      </a:moveTo>
                      <a:arcTo wR="3782" hR="3782" stAng="16200000" swAng="-5400000"/>
                      <a:lnTo>
                        <a:pt x="0" y="24466"/>
                      </a:lnTo>
                      <a:arcTo wR="3782" hR="3782" stAng="10800000" swAng="-5400000"/>
                      <a:lnTo>
                        <a:pt x="17818" y="28248"/>
                      </a:lnTo>
                      <a:arcTo wR="3782" hR="3782" stAng="5400000" swAng="-5400000"/>
                      <a:lnTo>
                        <a:pt x="21600" y="3782"/>
                      </a:lnTo>
                      <a:arcTo wR="3782" hR="3782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8f8849"/>
                    </a:gs>
                    <a:gs pos="100000">
                      <a:srgbClr val="b59f43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5813280" y="2272320"/>
                  <a:ext cx="1959120" cy="2591280"/>
                </a:xfrm>
                <a:custGeom>
                  <a:avLst/>
                  <a:gdLst>
                    <a:gd name="textAreaLeft" fmla="*/ 95400 w 1959120"/>
                    <a:gd name="textAreaRight" fmla="*/ 1863720 w 1959120"/>
                    <a:gd name="textAreaTop" fmla="*/ 95400 h 2591280"/>
                    <a:gd name="textAreaBottom" fmla="*/ 2495880 h 2591280"/>
                  </a:gdLst>
                  <a:ahLst/>
                  <a:rect l="textAreaLeft" t="textAreaTop" r="textAreaRight" b="textAreaBottom"/>
                  <a:pathLst>
                    <a:path w="21600" h="28569">
                      <a:moveTo>
                        <a:pt x="3600" y="0"/>
                      </a:moveTo>
                      <a:arcTo wR="3600" hR="3600" stAng="16200000" swAng="-5400000"/>
                      <a:lnTo>
                        <a:pt x="0" y="24969"/>
                      </a:lnTo>
                      <a:arcTo wR="3600" hR="3600" stAng="10800000" swAng="-5400000"/>
                      <a:lnTo>
                        <a:pt x="18000" y="2856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eaec86"/>
                    </a:gs>
                    <a:gs pos="100000">
                      <a:srgbClr val="dcce4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5829480" y="4180680"/>
                  <a:ext cx="1932120" cy="654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eaec86">
                        <a:alpha val="0"/>
                      </a:srgbClr>
                    </a:gs>
                    <a:gs pos="100000">
                      <a:srgbClr val="ebed9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5829480" y="2292840"/>
                  <a:ext cx="1932120" cy="654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7f7d5"/>
                    </a:gs>
                    <a:gs pos="100000">
                      <a:srgbClr val="eaec86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5788440" y="4906440"/>
                  <a:ext cx="2019600" cy="804600"/>
                </a:xfrm>
                <a:prstGeom prst="roundRect">
                  <a:avLst>
                    <a:gd name="adj" fmla="val 40389"/>
                  </a:avLst>
                </a:prstGeom>
                <a:gradFill rotWithShape="0">
                  <a:gsLst>
                    <a:gs pos="0">
                      <a:srgbClr val="3477a4">
                        <a:alpha val="50196"/>
                      </a:srgbClr>
                    </a:gs>
                    <a:gs pos="100000">
                      <a:srgbClr val="17364b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5829480" y="4928400"/>
                  <a:ext cx="1932120" cy="654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7f7d5">
                        <a:alpha val="50196"/>
                      </a:srgbClr>
                    </a:gs>
                    <a:gs pos="100000">
                      <a:srgbClr val="eaec86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6476760" y="1981080"/>
                <a:ext cx="600480" cy="594720"/>
                <a:chOff x="6476760" y="1981080"/>
                <a:chExt cx="600480" cy="59472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6476760" y="1981080"/>
                  <a:ext cx="600480" cy="59472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6482880" y="1985400"/>
                  <a:ext cx="580680" cy="576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6490080" y="1989000"/>
                  <a:ext cx="567360" cy="561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6496200" y="1994400"/>
                  <a:ext cx="539280" cy="52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6527880" y="2008440"/>
                  <a:ext cx="479160" cy="42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0" name=""/>
            <p:cNvSpPr/>
            <p:nvPr/>
          </p:nvSpPr>
          <p:spPr>
            <a:xfrm>
              <a:off x="6598440" y="2066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852160" y="2685600"/>
              <a:ext cx="192348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384" name="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387" name="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388" name="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391" name="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3" name="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394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400" name="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4" name="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05" name="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06" name="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09" name="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1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17" name="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422" name="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423" name="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426" name="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8" name="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29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4" name="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435" name="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9" name="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40" name="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41" name="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44" name="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6" name="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47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2" name="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453" name="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7" name="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1101600" y="2031840"/>
            <a:ext cx="6057000" cy="407880"/>
            <a:chOff x="1101600" y="2031840"/>
            <a:chExt cx="6057000" cy="407880"/>
          </a:xfrm>
        </p:grpSpPr>
        <p:sp>
          <p:nvSpPr>
            <p:cNvPr id="466" name=""/>
            <p:cNvSpPr/>
            <p:nvPr/>
          </p:nvSpPr>
          <p:spPr>
            <a:xfrm>
              <a:off x="1101600" y="20714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855880" y="20714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602240" y="20714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392520" y="203184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70" name=""/>
            <p:cNvCxnSpPr>
              <a:stCxn id="466" idx="3"/>
              <a:endCxn id="467" idx="1"/>
            </p:cNvCxnSpPr>
            <p:nvPr/>
          </p:nvCxnSpPr>
          <p:spPr>
            <a:xfrm>
              <a:off x="1838520" y="2255400"/>
              <a:ext cx="986400" cy="1080"/>
            </a:xfrm>
            <a:prstGeom prst="straightConnector1">
              <a:avLst/>
            </a:prstGeom>
            <a:ln w="9360">
              <a:solidFill>
                <a:srgbClr val="364eb6"/>
              </a:solidFill>
              <a:miter/>
              <a:tailEnd len="med" type="triangle" w="med"/>
            </a:ln>
          </p:spPr>
        </p:cxnSp>
        <p:cxnSp>
          <p:nvCxnSpPr>
            <p:cNvPr id="471" name=""/>
            <p:cNvCxnSpPr>
              <a:stCxn id="467" idx="3"/>
              <a:endCxn id="468" idx="1"/>
            </p:cNvCxnSpPr>
            <p:nvPr/>
          </p:nvCxnSpPr>
          <p:spPr>
            <a:xfrm>
              <a:off x="3592080" y="2255400"/>
              <a:ext cx="978840" cy="1080"/>
            </a:xfrm>
            <a:prstGeom prst="straightConnector1">
              <a:avLst/>
            </a:prstGeom>
            <a:ln w="9360">
              <a:solidFill>
                <a:srgbClr val="364eb6"/>
              </a:solidFill>
              <a:miter/>
              <a:tailEnd len="med" type="triangle" w="med"/>
            </a:ln>
          </p:spPr>
        </p:cxnSp>
        <p:cxnSp>
          <p:nvCxnSpPr>
            <p:cNvPr id="472" name=""/>
            <p:cNvCxnSpPr/>
            <p:nvPr/>
          </p:nvCxnSpPr>
          <p:spPr>
            <a:xfrm>
              <a:off x="5338800" y="2260080"/>
              <a:ext cx="978480" cy="1080"/>
            </a:xfrm>
            <a:prstGeom prst="straightConnector1">
              <a:avLst/>
            </a:prstGeom>
            <a:ln w="9360">
              <a:solidFill>
                <a:srgbClr val="364eb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1676520" y="1793880"/>
            <a:ext cx="5867280" cy="1301760"/>
            <a:chOff x="1676520" y="1793880"/>
            <a:chExt cx="5867280" cy="1301760"/>
          </a:xfrm>
        </p:grpSpPr>
        <p:sp>
          <p:nvSpPr>
            <p:cNvPr id="475" name=""/>
            <p:cNvSpPr/>
            <p:nvPr/>
          </p:nvSpPr>
          <p:spPr>
            <a:xfrm>
              <a:off x="1676520" y="17938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6" name=""/>
            <p:cNvGrpSpPr/>
            <p:nvPr/>
          </p:nvGrpSpPr>
          <p:grpSpPr>
            <a:xfrm>
              <a:off x="1804320" y="1913400"/>
              <a:ext cx="1131120" cy="1064520"/>
              <a:chOff x="1804320" y="1913400"/>
              <a:chExt cx="1131120" cy="1064520"/>
            </a:xfrm>
          </p:grpSpPr>
          <p:sp>
            <p:nvSpPr>
              <p:cNvPr id="477" name=""/>
              <p:cNvSpPr/>
              <p:nvPr/>
            </p:nvSpPr>
            <p:spPr>
              <a:xfrm>
                <a:off x="1804320" y="191340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4987e3"/>
                  </a:gs>
                  <a:gs pos="100000">
                    <a:srgbClr val="325d9d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874880" y="1981800"/>
                <a:ext cx="563760" cy="5320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bcee"/>
                  </a:gs>
                  <a:gs pos="50000">
                    <a:srgbClr val="4987e3">
                      <a:alpha val="0"/>
                    </a:srgbClr>
                  </a:gs>
                  <a:gs pos="100000">
                    <a:srgbClr val="9bbce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931040" y="220320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0" name=""/>
            <p:cNvSpPr/>
            <p:nvPr/>
          </p:nvSpPr>
          <p:spPr>
            <a:xfrm>
              <a:off x="3090240" y="19951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1676520" y="3241800"/>
            <a:ext cx="5867280" cy="1301760"/>
            <a:chOff x="1676520" y="3241800"/>
            <a:chExt cx="5867280" cy="1301760"/>
          </a:xfrm>
        </p:grpSpPr>
        <p:sp>
          <p:nvSpPr>
            <p:cNvPr id="482" name=""/>
            <p:cNvSpPr/>
            <p:nvPr/>
          </p:nvSpPr>
          <p:spPr>
            <a:xfrm>
              <a:off x="1676520" y="324180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0f0f0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"/>
            <p:cNvGrpSpPr/>
            <p:nvPr/>
          </p:nvGrpSpPr>
          <p:grpSpPr>
            <a:xfrm>
              <a:off x="1804320" y="3361320"/>
              <a:ext cx="1131120" cy="1064520"/>
              <a:chOff x="1804320" y="3361320"/>
              <a:chExt cx="1131120" cy="1064520"/>
            </a:xfrm>
          </p:grpSpPr>
          <p:sp>
            <p:nvSpPr>
              <p:cNvPr id="484" name=""/>
              <p:cNvSpPr/>
              <p:nvPr/>
            </p:nvSpPr>
            <p:spPr>
              <a:xfrm>
                <a:off x="1804320" y="336132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6cbac9"/>
                  </a:gs>
                  <a:gs pos="100000">
                    <a:srgbClr val="36a1b6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874880" y="3429720"/>
                <a:ext cx="563760" cy="5320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6a1b6">
                      <a:alpha val="0"/>
                    </a:srgbClr>
                  </a:gs>
                  <a:gs pos="100000">
                    <a:srgbClr val="a9d6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931040" y="365220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7" name=""/>
            <p:cNvSpPr/>
            <p:nvPr/>
          </p:nvSpPr>
          <p:spPr>
            <a:xfrm>
              <a:off x="3090240" y="342000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1676520" y="4718160"/>
            <a:ext cx="5867280" cy="1301760"/>
            <a:chOff x="1676520" y="4718160"/>
            <a:chExt cx="5867280" cy="1301760"/>
          </a:xfrm>
        </p:grpSpPr>
        <p:sp>
          <p:nvSpPr>
            <p:cNvPr id="489" name=""/>
            <p:cNvSpPr/>
            <p:nvPr/>
          </p:nvSpPr>
          <p:spPr>
            <a:xfrm>
              <a:off x="1676520" y="471816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deded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0" name=""/>
            <p:cNvGrpSpPr/>
            <p:nvPr/>
          </p:nvGrpSpPr>
          <p:grpSpPr>
            <a:xfrm>
              <a:off x="1804320" y="4837680"/>
              <a:ext cx="1131120" cy="1064520"/>
              <a:chOff x="1804320" y="4837680"/>
              <a:chExt cx="1131120" cy="1064520"/>
            </a:xfrm>
          </p:grpSpPr>
          <p:sp>
            <p:nvSpPr>
              <p:cNvPr id="491" name=""/>
              <p:cNvSpPr/>
              <p:nvPr/>
            </p:nvSpPr>
            <p:spPr>
              <a:xfrm>
                <a:off x="1804320" y="483768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bfda9f"/>
                  </a:gs>
                  <a:gs pos="100000">
                    <a:srgbClr val="9cc769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874880" y="4906080"/>
                <a:ext cx="563760" cy="5320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c769">
                      <a:alpha val="0"/>
                    </a:srgbClr>
                  </a:gs>
                  <a:gs pos="100000">
                    <a:srgbClr val="cee2b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931040" y="512856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4" name=""/>
            <p:cNvSpPr/>
            <p:nvPr/>
          </p:nvSpPr>
          <p:spPr>
            <a:xfrm>
              <a:off x="3090240" y="489636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rot="3418800">
            <a:off x="7265520" y="1560240"/>
            <a:ext cx="923760" cy="1003320"/>
          </a:xfrm>
          <a:prstGeom prst="rect">
            <a:avLst/>
          </a:prstGeom>
          <a:gradFill rotWithShape="0">
            <a:gsLst>
              <a:gs pos="0">
                <a:srgbClr val="9cc769"/>
              </a:gs>
              <a:gs pos="100000">
                <a:srgbClr val="475b30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775560" y="29052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rot="3418800">
            <a:off x="1410840" y="2268360"/>
            <a:ext cx="923760" cy="1003320"/>
          </a:xfrm>
          <a:prstGeom prst="rect">
            <a:avLst/>
          </a:prstGeom>
          <a:gradFill rotWithShape="0">
            <a:gsLst>
              <a:gs pos="0">
                <a:srgbClr val="4987e3"/>
              </a:gs>
              <a:gs pos="100000">
                <a:srgbClr val="213e68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507680" y="2627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rot="3418800">
            <a:off x="2845800" y="4173480"/>
            <a:ext cx="924120" cy="1003320"/>
          </a:xfrm>
          <a:prstGeom prst="rect">
            <a:avLst/>
          </a:prstGeom>
          <a:gradFill rotWithShape="0">
            <a:gsLst>
              <a:gs pos="0">
                <a:srgbClr val="d9520f"/>
              </a:gs>
              <a:gs pos="100000">
                <a:srgbClr val="642506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942640" y="45324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rot="3418800">
            <a:off x="4916160" y="3020760"/>
            <a:ext cx="923760" cy="1003320"/>
          </a:xfrm>
          <a:prstGeom prst="rect">
            <a:avLst/>
          </a:prstGeom>
          <a:gradFill rotWithShape="0">
            <a:gsLst>
              <a:gs pos="0">
                <a:srgbClr val="36a1b6"/>
              </a:gs>
              <a:gs pos="100000">
                <a:srgbClr val="184a53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013000" y="3379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362360" y="1919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209680" y="3222720"/>
            <a:ext cx="762120" cy="106668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3809880" y="3755880"/>
            <a:ext cx="1067040" cy="60984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5943600" y="2371680"/>
            <a:ext cx="1295280" cy="77472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514600" y="18064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ny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432160" y="549576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718160" y="442908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98440" y="35910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Ta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1049400" y="2438280"/>
          <a:ext cx="7121520" cy="2911320"/>
        </p:xfrm>
        <a:graphic>
          <a:graphicData uri="http://schemas.openxmlformats.org/drawingml/2006/table">
            <a:tbl>
              <a:tblPr/>
              <a:tblGrid>
                <a:gridCol w="1606320"/>
                <a:gridCol w="1121040"/>
                <a:gridCol w="1098360"/>
                <a:gridCol w="1095480"/>
                <a:gridCol w="1104840"/>
                <a:gridCol w="1095480"/>
              </a:tblGrid>
              <a:tr h="416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987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987e3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987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987e3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987e3"/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362320" y="609480"/>
            <a:ext cx="62481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3-D Pie Cha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824040" y="732600"/>
            <a:ext cx="7380720" cy="5582160"/>
            <a:chOff x="824040" y="732600"/>
            <a:chExt cx="7380720" cy="5582160"/>
          </a:xfrm>
        </p:grpSpPr>
        <p:sp>
          <p:nvSpPr>
            <p:cNvPr id="516" name=""/>
            <p:cNvSpPr/>
            <p:nvPr/>
          </p:nvSpPr>
          <p:spPr>
            <a:xfrm>
              <a:off x="2362320" y="4519440"/>
              <a:ext cx="5562360" cy="1325880"/>
            </a:xfrm>
            <a:prstGeom prst="ellipse">
              <a:avLst/>
            </a:prstGeom>
            <a:gradFill rotWithShape="0">
              <a:gsLst>
                <a:gs pos="0">
                  <a:srgbClr val="121212">
                    <a:alpha val="0"/>
                  </a:srgbClr>
                </a:gs>
                <a:gs pos="100000">
                  <a:srgbClr val="292929">
                    <a:alpha val="7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 rot="20601600">
              <a:off x="1672920" y="2408400"/>
              <a:ext cx="5686200" cy="3016080"/>
            </a:xfrm>
            <a:prstGeom prst="ellipse">
              <a:avLst/>
            </a:prstGeom>
            <a:gradFill rotWithShape="0">
              <a:gsLst>
                <a:gs pos="0">
                  <a:srgbClr val="4b4b4b"/>
                </a:gs>
                <a:gs pos="50000">
                  <a:srgbClr val="c0c0c0"/>
                </a:gs>
                <a:gs pos="100000">
                  <a:srgbClr val="4b4b4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 rot="20601600">
              <a:off x="1692000" y="2244600"/>
              <a:ext cx="5564160" cy="2922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20601600">
              <a:off x="1610280" y="2229840"/>
              <a:ext cx="5698440" cy="2924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78bfcd"/>
                </a:gs>
                <a:gs pos="100000">
                  <a:srgbClr val="36a1b6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 rot="20602200">
              <a:off x="1658520" y="2229840"/>
              <a:ext cx="564408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2c5189"/>
                </a:gs>
                <a:gs pos="100000">
                  <a:srgbClr val="4987e3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rot="20601600">
              <a:off x="1616400" y="2242440"/>
              <a:ext cx="568152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587" y="1342"/>
                  </a:moveTo>
                  <a:arcTo wR="10800" hR="10800" stAng="-7131749" swAng="4032112"/>
                  <a:lnTo>
                    <a:pt x="10800" y="10800"/>
                  </a:lnTo>
                  <a:close/>
                </a:path>
                <a:path fill="none" w="21600" h="21600">
                  <a:moveTo>
                    <a:pt x="5587" y="1342"/>
                  </a:moveTo>
                  <a:arcTo wR="10800" hR="10800" stAng="-7131749" swAng="4032112"/>
                </a:path>
              </a:pathLst>
            </a:custGeom>
            <a:gradFill rotWithShape="0">
              <a:gsLst>
                <a:gs pos="0">
                  <a:srgbClr val="1c285f"/>
                </a:gs>
                <a:gs pos="100000">
                  <a:srgbClr val="364eb6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 rot="20602200">
              <a:off x="1626480" y="2223000"/>
              <a:ext cx="5698440" cy="297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674" y="719"/>
                  </a:moveTo>
                  <a:arcTo wR="10800" hR="10800" stAng="-4138599" swAng="58879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4674" y="719"/>
                  </a:moveTo>
                  <a:arcTo wR="10800" hR="10800" stAng="-4138599" swAng="5887996"/>
                </a:path>
              </a:pathLst>
            </a:custGeom>
            <a:gradFill rotWithShape="0">
              <a:gsLst>
                <a:gs pos="0">
                  <a:srgbClr val="752c08"/>
                </a:gs>
                <a:gs pos="100000">
                  <a:srgbClr val="d9520f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 rot="20601600">
              <a:off x="3154320" y="2958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eeeeee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145240" y="3638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050360" y="2419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879160" y="2724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7" name=""/>
            <p:cNvGrpSpPr/>
            <p:nvPr/>
          </p:nvGrpSpPr>
          <p:grpSpPr>
            <a:xfrm>
              <a:off x="824040" y="732600"/>
              <a:ext cx="7380720" cy="5582160"/>
              <a:chOff x="824040" y="732600"/>
              <a:chExt cx="7380720" cy="5582160"/>
            </a:xfrm>
          </p:grpSpPr>
          <p:sp>
            <p:nvSpPr>
              <p:cNvPr id="528" name=""/>
              <p:cNvSpPr/>
              <p:nvPr/>
            </p:nvSpPr>
            <p:spPr>
              <a:xfrm>
                <a:off x="5668920" y="3676680"/>
                <a:ext cx="1773360" cy="1776240"/>
              </a:xfrm>
              <a:custGeom>
                <a:avLst/>
                <a:gdLst/>
                <a:ahLst/>
                <a:rect l="l" t="t" r="r" b="b"/>
                <a:pathLst>
                  <a:path w="1117" h="1119">
                    <a:moveTo>
                      <a:pt x="21" y="888"/>
                    </a:moveTo>
                    <a:lnTo>
                      <a:pt x="1117" y="0"/>
                    </a:lnTo>
                    <a:lnTo>
                      <a:pt x="1093" y="256"/>
                    </a:lnTo>
                    <a:cubicBezTo>
                      <a:pt x="1026" y="373"/>
                      <a:pt x="896" y="560"/>
                      <a:pt x="717" y="704"/>
                    </a:cubicBezTo>
                    <a:cubicBezTo>
                      <a:pt x="538" y="848"/>
                      <a:pt x="133" y="1088"/>
                      <a:pt x="17" y="1119"/>
                    </a:cubicBezTo>
                    <a:cubicBezTo>
                      <a:pt x="0" y="1037"/>
                      <a:pt x="21" y="888"/>
                      <a:pt x="21" y="88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cc769"/>
                  </a:gs>
                  <a:gs pos="100000">
                    <a:srgbClr val="5e783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rot="20539200">
                <a:off x="1242360" y="1636920"/>
                <a:ext cx="6543720" cy="3773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808" y="16758"/>
                    </a:moveTo>
                    <a:arcTo wR="10800" hR="10800" stAng="2008784" swAng="28002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808" y="16758"/>
                    </a:moveTo>
                    <a:arcTo wR="10800" hR="10800" stAng="2008784" swAng="2800242"/>
                  </a:path>
                </a:pathLst>
              </a:custGeom>
              <a:gradFill rotWithShape="0">
                <a:gsLst>
                  <a:gs pos="0">
                    <a:srgbClr val="475b30"/>
                  </a:gs>
                  <a:gs pos="100000">
                    <a:srgbClr val="9cc769"/>
                  </a:gs>
                </a:gsLst>
                <a:lin ang="1186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803840" y="4152960"/>
                <a:ext cx="923760" cy="1311120"/>
              </a:xfrm>
              <a:custGeom>
                <a:avLst/>
                <a:gdLst/>
                <a:ahLst/>
                <a:rect l="l" t="t" r="r" b="b"/>
                <a:pathLst>
                  <a:path w="582" h="826">
                    <a:moveTo>
                      <a:pt x="582" y="572"/>
                    </a:moveTo>
                    <a:lnTo>
                      <a:pt x="562" y="826"/>
                    </a:lnTo>
                    <a:lnTo>
                      <a:pt x="0" y="42"/>
                    </a:lnTo>
                    <a:lnTo>
                      <a:pt x="90" y="0"/>
                    </a:lnTo>
                    <a:lnTo>
                      <a:pt x="582" y="5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75b30"/>
                  </a:gs>
                  <a:gs pos="100000">
                    <a:srgbClr val="9cc76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574240" y="394344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</a:rPr>
                  <a:t>Text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2" name=""/>
            <p:cNvSpPr/>
            <p:nvPr/>
          </p:nvSpPr>
          <p:spPr>
            <a:xfrm>
              <a:off x="3364560" y="4629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648320" y="4219560"/>
              <a:ext cx="838080" cy="110808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36a1b6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20601600">
              <a:off x="3257640" y="3209760"/>
              <a:ext cx="2587680" cy="1113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Block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905120" y="251460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4987e3"/>
              </a:gs>
              <a:gs pos="100000">
                <a:srgbClr val="b6cff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362320" y="1828800"/>
            <a:ext cx="457200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64eb6"/>
              </a:gs>
              <a:gs pos="50000">
                <a:srgbClr val="7d8ccf"/>
              </a:gs>
              <a:gs pos="100000">
                <a:srgbClr val="364eb6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656160" y="312408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914400" y="4387680"/>
            <a:ext cx="1485720" cy="1989000"/>
            <a:chOff x="914400" y="4387680"/>
            <a:chExt cx="1485720" cy="1989000"/>
          </a:xfrm>
        </p:grpSpPr>
        <p:grpSp>
          <p:nvGrpSpPr>
            <p:cNvPr id="540" name=""/>
            <p:cNvGrpSpPr/>
            <p:nvPr/>
          </p:nvGrpSpPr>
          <p:grpSpPr>
            <a:xfrm>
              <a:off x="914400" y="4387680"/>
              <a:ext cx="1485720" cy="1514520"/>
              <a:chOff x="914400" y="4387680"/>
              <a:chExt cx="1485720" cy="1514520"/>
            </a:xfrm>
          </p:grpSpPr>
          <p:grpSp>
            <p:nvGrpSpPr>
              <p:cNvPr id="541" name=""/>
              <p:cNvGrpSpPr/>
              <p:nvPr/>
            </p:nvGrpSpPr>
            <p:grpSpPr>
              <a:xfrm>
                <a:off x="914400" y="4387680"/>
                <a:ext cx="1485720" cy="1514520"/>
                <a:chOff x="914400" y="4387680"/>
                <a:chExt cx="1485720" cy="1514520"/>
              </a:xfrm>
            </p:grpSpPr>
            <p:sp>
              <p:nvSpPr>
                <p:cNvPr id="542" name=""/>
                <p:cNvSpPr/>
                <p:nvPr/>
              </p:nvSpPr>
              <p:spPr>
                <a:xfrm>
                  <a:off x="914400" y="4387680"/>
                  <a:ext cx="1485720" cy="151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9520f"/>
                    </a:gs>
                    <a:gs pos="100000">
                      <a:srgbClr val="89330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1083960" y="4412520"/>
                  <a:ext cx="1146240" cy="571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9520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4" name=""/>
              <p:cNvSpPr/>
              <p:nvPr/>
            </p:nvSpPr>
            <p:spPr>
              <a:xfrm>
                <a:off x="1072080" y="515880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5" name=""/>
            <p:cNvSpPr/>
            <p:nvPr/>
          </p:nvSpPr>
          <p:spPr>
            <a:xfrm>
              <a:off x="1066680" y="5987880"/>
              <a:ext cx="1206360" cy="38880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58039"/>
                  </a:srgbClr>
                </a:gs>
                <a:gs pos="100000">
                  <a:srgbClr val="b4b4b4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6781680" y="4343400"/>
            <a:ext cx="1524240" cy="2066760"/>
            <a:chOff x="6781680" y="4343400"/>
            <a:chExt cx="1524240" cy="2066760"/>
          </a:xfrm>
        </p:grpSpPr>
        <p:grpSp>
          <p:nvGrpSpPr>
            <p:cNvPr id="547" name=""/>
            <p:cNvGrpSpPr/>
            <p:nvPr/>
          </p:nvGrpSpPr>
          <p:grpSpPr>
            <a:xfrm>
              <a:off x="6781680" y="4343400"/>
              <a:ext cx="1524240" cy="1531800"/>
              <a:chOff x="6781680" y="4343400"/>
              <a:chExt cx="1524240" cy="1531800"/>
            </a:xfrm>
          </p:grpSpPr>
          <p:grpSp>
            <p:nvGrpSpPr>
              <p:cNvPr id="548" name=""/>
              <p:cNvGrpSpPr/>
              <p:nvPr/>
            </p:nvGrpSpPr>
            <p:grpSpPr>
              <a:xfrm>
                <a:off x="6781680" y="4343400"/>
                <a:ext cx="1524240" cy="1531800"/>
                <a:chOff x="6781680" y="4343400"/>
                <a:chExt cx="1524240" cy="153180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6781680" y="4343400"/>
                  <a:ext cx="1524240" cy="153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cc769"/>
                    </a:gs>
                    <a:gs pos="100000">
                      <a:srgbClr val="25301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6955920" y="4368600"/>
                  <a:ext cx="1175760" cy="578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cc76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1" name=""/>
              <p:cNvSpPr/>
              <p:nvPr/>
            </p:nvSpPr>
            <p:spPr>
              <a:xfrm>
                <a:off x="6924960" y="505728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2" name=""/>
            <p:cNvSpPr/>
            <p:nvPr/>
          </p:nvSpPr>
          <p:spPr>
            <a:xfrm>
              <a:off x="6824520" y="5922720"/>
              <a:ext cx="1455840" cy="48744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58039"/>
                  </a:srgbClr>
                </a:gs>
                <a:gs pos="100000">
                  <a:srgbClr val="b4b4b4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2819520" y="4387680"/>
            <a:ext cx="1523880" cy="2089080"/>
            <a:chOff x="2819520" y="4387680"/>
            <a:chExt cx="1523880" cy="2089080"/>
          </a:xfrm>
        </p:grpSpPr>
        <p:grpSp>
          <p:nvGrpSpPr>
            <p:cNvPr id="554" name=""/>
            <p:cNvGrpSpPr/>
            <p:nvPr/>
          </p:nvGrpSpPr>
          <p:grpSpPr>
            <a:xfrm>
              <a:off x="2819520" y="4387680"/>
              <a:ext cx="1523880" cy="1520640"/>
              <a:chOff x="2819520" y="4387680"/>
              <a:chExt cx="1523880" cy="1520640"/>
            </a:xfrm>
          </p:grpSpPr>
          <p:sp>
            <p:nvSpPr>
              <p:cNvPr id="555" name=""/>
              <p:cNvSpPr/>
              <p:nvPr/>
            </p:nvSpPr>
            <p:spPr>
              <a:xfrm>
                <a:off x="2819520" y="438768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36a1b6"/>
                  </a:gs>
                  <a:gs pos="100000">
                    <a:srgbClr val="1b52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2993760" y="441288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36a1b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"/>
            <p:cNvSpPr/>
            <p:nvPr/>
          </p:nvSpPr>
          <p:spPr>
            <a:xfrm>
              <a:off x="2895480" y="5117760"/>
              <a:ext cx="137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819520" y="5987880"/>
              <a:ext cx="1454040" cy="4888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58039"/>
                  </a:srgbClr>
                </a:gs>
                <a:gs pos="100000">
                  <a:srgbClr val="b4b4b4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4876920" y="4343400"/>
            <a:ext cx="1523880" cy="2089080"/>
            <a:chOff x="4876920" y="4343400"/>
            <a:chExt cx="1523880" cy="2089080"/>
          </a:xfrm>
        </p:grpSpPr>
        <p:grpSp>
          <p:nvGrpSpPr>
            <p:cNvPr id="560" name=""/>
            <p:cNvGrpSpPr/>
            <p:nvPr/>
          </p:nvGrpSpPr>
          <p:grpSpPr>
            <a:xfrm>
              <a:off x="4876920" y="4343400"/>
              <a:ext cx="1523880" cy="1520640"/>
              <a:chOff x="4876920" y="4343400"/>
              <a:chExt cx="1523880" cy="1520640"/>
            </a:xfrm>
          </p:grpSpPr>
          <p:sp>
            <p:nvSpPr>
              <p:cNvPr id="561" name=""/>
              <p:cNvSpPr/>
              <p:nvPr/>
            </p:nvSpPr>
            <p:spPr>
              <a:xfrm>
                <a:off x="4876920" y="434340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4987e3"/>
                  </a:gs>
                  <a:gs pos="100000">
                    <a:srgbClr val="25457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051160" y="436860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4987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3" name=""/>
            <p:cNvSpPr/>
            <p:nvPr/>
          </p:nvSpPr>
          <p:spPr>
            <a:xfrm>
              <a:off x="4952880" y="5073480"/>
              <a:ext cx="137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876920" y="5943600"/>
              <a:ext cx="1454040" cy="4888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58039"/>
                  </a:srgbClr>
                </a:gs>
                <a:gs pos="100000">
                  <a:srgbClr val="b4b4b4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88" name="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9520f"/>
                </a:gs>
                <a:gs pos="50000">
                  <a:srgbClr val="f5d9cb"/>
                </a:gs>
                <a:gs pos="100000">
                  <a:srgbClr val="d9520f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d9520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289600" y="200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93" name="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987e3"/>
                </a:gs>
                <a:gs pos="50000">
                  <a:srgbClr val="d7e4f8"/>
                </a:gs>
                <a:gs pos="100000">
                  <a:srgbClr val="4987e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4987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289600" y="2841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98" name="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64eb6"/>
                </a:gs>
                <a:gs pos="50000">
                  <a:srgbClr val="d3d8ee"/>
                </a:gs>
                <a:gs pos="100000">
                  <a:srgbClr val="364eb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364eb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289600" y="367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03" name="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cc769"/>
                </a:gs>
                <a:gs pos="50000">
                  <a:srgbClr val="e9f2de"/>
                </a:gs>
                <a:gs pos="100000">
                  <a:srgbClr val="9cc76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9cc76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89600" y="459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 txBox="1"/>
          <p:nvPr/>
        </p:nvSpPr>
        <p:spPr>
          <a:xfrm>
            <a:off x="609480" y="1481040"/>
            <a:ext cx="48006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64eb6"/>
                    </a:gs>
                    <a:gs pos="100000">
                      <a:srgbClr val="4987e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64eb6"/>
                  </a:gs>
                  <a:gs pos="100000">
                    <a:srgbClr val="4987e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Hot Ti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73080" y="1889280"/>
            <a:ext cx="734544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4eb6"/>
                </a:solidFill>
                <a:latin typeface="Arial"/>
                <a:ea typeface="宋体"/>
              </a:rPr>
              <a:t>On the </a:t>
            </a:r>
            <a:r>
              <a:rPr b="0" lang="en-US" sz="2000" spc="-1" strike="noStrike">
                <a:solidFill>
                  <a:srgbClr val="4987e3"/>
                </a:solidFill>
                <a:latin typeface="Arial"/>
                <a:ea typeface="宋体"/>
              </a:rPr>
              <a:t>[View]</a:t>
            </a:r>
            <a:r>
              <a:rPr b="0" lang="en-US" sz="2000" spc="-1" strike="noStrike">
                <a:solidFill>
                  <a:srgbClr val="364eb6"/>
                </a:solidFill>
                <a:latin typeface="Arial"/>
                <a:ea typeface="宋体"/>
              </a:rPr>
              <a:t> menu, point to </a:t>
            </a:r>
            <a:r>
              <a:rPr b="0" lang="en-US" sz="2000" spc="-1" strike="noStrike">
                <a:solidFill>
                  <a:srgbClr val="4987e3"/>
                </a:solidFill>
                <a:latin typeface="Arial"/>
                <a:ea typeface="宋体"/>
              </a:rPr>
              <a:t>[Master],</a:t>
            </a:r>
            <a:r>
              <a:rPr b="0" lang="en-US" sz="2000" spc="-1" strike="noStrike">
                <a:solidFill>
                  <a:srgbClr val="364eb6"/>
                </a:solidFill>
                <a:latin typeface="Arial"/>
                <a:ea typeface="宋体"/>
              </a:rPr>
              <a:t> and then click </a:t>
            </a:r>
            <a:r>
              <a:rPr b="0" lang="en-US" sz="2000" spc="-1" strike="noStrike">
                <a:solidFill>
                  <a:srgbClr val="4987e3"/>
                </a:solidFill>
                <a:latin typeface="Arial"/>
                <a:ea typeface="宋体"/>
              </a:rPr>
              <a:t>[Slide Master]</a:t>
            </a:r>
            <a:r>
              <a:rPr b="0" lang="en-US" sz="2000" spc="-1" strike="noStrike">
                <a:solidFill>
                  <a:srgbClr val="364eb6"/>
                </a:solidFill>
                <a:latin typeface="Arial"/>
                <a:ea typeface="宋体"/>
              </a:rPr>
              <a:t> or </a:t>
            </a:r>
            <a:r>
              <a:rPr b="0" lang="en-US" sz="2000" spc="-1" strike="noStrike">
                <a:solidFill>
                  <a:srgbClr val="4987e3"/>
                </a:solidFill>
                <a:latin typeface="Arial"/>
                <a:ea typeface="宋体"/>
              </a:rPr>
              <a:t>[Notes Master].</a:t>
            </a:r>
            <a:r>
              <a:rPr b="0" lang="en-US" sz="2000" spc="-1" strike="noStrike">
                <a:solidFill>
                  <a:srgbClr val="364eb6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br>
              <a:rPr sz="2000"/>
            </a:br>
            <a:r>
              <a:rPr b="0" lang="en-US" sz="2000" spc="-1" strike="noStrike">
                <a:solidFill>
                  <a:srgbClr val="364eb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[Image information in product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●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Title Image – 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●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Note to customers: This image has been licensed to be used within this PowerPoint template on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You may not  extract the image for any other u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62720" y="317196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715000" y="3367080"/>
            <a:ext cx="2057400" cy="16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uild Desig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one of aligned company with Microsoft Ltd, and we develop and provide the design templates for Office 97, 2000, and X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317196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38400" y="337176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e59066"/>
              </a:gs>
              <a:gs pos="100000">
                <a:srgbClr val="d9520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ee0e6"/>
              </a:gs>
              <a:gs pos="100000">
                <a:srgbClr val="36a1b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048120" y="1447920"/>
            <a:ext cx="2998440" cy="1600920"/>
            <a:chOff x="3048120" y="1447920"/>
            <a:chExt cx="2998440" cy="1600920"/>
          </a:xfrm>
        </p:grpSpPr>
        <p:grpSp>
          <p:nvGrpSpPr>
            <p:cNvPr id="117" name=""/>
            <p:cNvGrpSpPr/>
            <p:nvPr/>
          </p:nvGrpSpPr>
          <p:grpSpPr>
            <a:xfrm>
              <a:off x="3048120" y="1590480"/>
              <a:ext cx="2998440" cy="1458360"/>
              <a:chOff x="3048120" y="1590480"/>
              <a:chExt cx="2998440" cy="1458360"/>
            </a:xfrm>
          </p:grpSpPr>
          <p:sp>
            <p:nvSpPr>
              <p:cNvPr id="118" name=""/>
              <p:cNvSpPr/>
              <p:nvPr/>
            </p:nvSpPr>
            <p:spPr>
              <a:xfrm>
                <a:off x="3080880" y="163692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1a4d58"/>
                  </a:gs>
                  <a:gs pos="100000">
                    <a:srgbClr val="36a1b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048120" y="159048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36a1b6"/>
                  </a:gs>
                  <a:gs pos="100000">
                    <a:srgbClr val="a5d4d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3189600" y="144792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213e6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24520" y="145548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bed4f4"/>
                </a:gs>
                <a:gs pos="100000">
                  <a:srgbClr val="4987e3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251520" y="146844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4987e3">
                    <a:alpha val="48235"/>
                  </a:srgbClr>
                </a:gs>
                <a:gs pos="100000">
                  <a:srgbClr val="396ab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383280" y="149544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4987e3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3882960" y="164772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Cycle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762120" y="1722240"/>
            <a:ext cx="6956280" cy="4583520"/>
            <a:chOff x="762120" y="1722240"/>
            <a:chExt cx="6956280" cy="4583520"/>
          </a:xfrm>
        </p:grpSpPr>
        <p:sp>
          <p:nvSpPr>
            <p:cNvPr id="127" name="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ebebeb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36a1b6"/>
                </a:gs>
                <a:gs pos="100000">
                  <a:srgbClr val="12373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162a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4d1d0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4444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9cc769"/>
                </a:gs>
                <a:gs pos="100000">
                  <a:srgbClr val="35442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766160" y="3741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069800" y="2424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679440" y="26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087160" y="466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77240" y="5202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0" name="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1" name="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44" name="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5b30"/>
                </a:gs>
                <a:gs pos="50000">
                  <a:srgbClr val="9cc769"/>
                </a:gs>
                <a:gs pos="100000">
                  <a:srgbClr val="475b3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5b30"/>
                </a:gs>
                <a:gs pos="50000">
                  <a:srgbClr val="9cc769"/>
                </a:gs>
                <a:gs pos="100000">
                  <a:srgbClr val="475b3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5b30"/>
                </a:gs>
                <a:gs pos="50000">
                  <a:srgbClr val="9cc769"/>
                </a:gs>
                <a:gs pos="100000">
                  <a:srgbClr val="475b3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585858">
                    <a:alpha val="12156"/>
                  </a:srgbClr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364e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364e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85858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213e68"/>
                </a:gs>
                <a:gs pos="50000">
                  <a:srgbClr val="4987e3"/>
                </a:gs>
                <a:gs pos="100000">
                  <a:srgbClr val="213e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6d6d6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84a53"/>
                </a:gs>
                <a:gs pos="50000">
                  <a:srgbClr val="36a1b6"/>
                </a:gs>
                <a:gs pos="100000">
                  <a:srgbClr val="184a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6d6d6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64" name=""/>
            <p:cNvGrpSpPr/>
            <p:nvPr/>
          </p:nvGrpSpPr>
          <p:grpSpPr>
            <a:xfrm>
              <a:off x="3008520" y="2209680"/>
              <a:ext cx="2900520" cy="2705400"/>
              <a:chOff x="3008520" y="2209680"/>
              <a:chExt cx="2900520" cy="2705400"/>
            </a:xfrm>
          </p:grpSpPr>
          <p:sp>
            <p:nvSpPr>
              <p:cNvPr id="165" name=""/>
              <p:cNvSpPr/>
              <p:nvPr/>
            </p:nvSpPr>
            <p:spPr>
              <a:xfrm flipH="1" rot="16200000">
                <a:off x="2926800" y="3259800"/>
                <a:ext cx="45900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fb8e1"/>
                  </a:gs>
                  <a:gs pos="100000">
                    <a:srgbClr val="364eb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 rot="5400000">
                <a:off x="5531040" y="3209040"/>
                <a:ext cx="4586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fb8e1"/>
                  </a:gs>
                  <a:gs pos="100000">
                    <a:srgbClr val="364eb6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H="1" rot="10800000">
                <a:off x="423756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fb8e1"/>
                  </a:gs>
                  <a:gs pos="100000">
                    <a:srgbClr val="364eb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305520" y="2209680"/>
                <a:ext cx="232596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438360" y="2345040"/>
                <a:ext cx="205920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55932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6a1b6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55932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67884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1d5662"/>
                  </a:gs>
                  <a:gs pos="50000">
                    <a:srgbClr val="36a1b6"/>
                  </a:gs>
                  <a:gs pos="100000">
                    <a:srgbClr val="1d566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67884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5b30"/>
                </a:gs>
                <a:gs pos="50000">
                  <a:srgbClr val="9cc769"/>
                </a:gs>
                <a:gs pos="100000">
                  <a:srgbClr val="475b3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143000" y="320832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5b30"/>
                </a:gs>
                <a:gs pos="50000">
                  <a:srgbClr val="9cc769"/>
                </a:gs>
                <a:gs pos="100000">
                  <a:srgbClr val="475b3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143000" y="270900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5b30"/>
                </a:gs>
                <a:gs pos="50000">
                  <a:srgbClr val="9cc769"/>
                </a:gs>
                <a:gs pos="100000">
                  <a:srgbClr val="475b3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13e68"/>
                </a:gs>
                <a:gs pos="50000">
                  <a:srgbClr val="4987e3"/>
                </a:gs>
                <a:gs pos="100000">
                  <a:srgbClr val="213e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120360" y="320832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13e68"/>
                </a:gs>
                <a:gs pos="50000">
                  <a:srgbClr val="4987e3"/>
                </a:gs>
                <a:gs pos="100000">
                  <a:srgbClr val="213e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20360" y="270900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13e68"/>
                </a:gs>
                <a:gs pos="50000">
                  <a:srgbClr val="4987e3"/>
                </a:gs>
                <a:gs pos="100000">
                  <a:srgbClr val="213e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364e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03" name="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642506"/>
                </a:gs>
                <a:gs pos="50000">
                  <a:srgbClr val="d9520f"/>
                </a:gs>
                <a:gs pos="100000">
                  <a:srgbClr val="6425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d952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184a53"/>
                </a:gs>
                <a:gs pos="50000">
                  <a:srgbClr val="36a1b6"/>
                </a:gs>
                <a:gs pos="100000">
                  <a:srgbClr val="184a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36a1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75b30"/>
                </a:gs>
                <a:gs pos="50000">
                  <a:srgbClr val="9cc769"/>
                </a:gs>
                <a:gs pos="100000">
                  <a:srgbClr val="475b3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213e68"/>
                </a:gs>
                <a:gs pos="50000">
                  <a:srgbClr val="4987e3"/>
                </a:gs>
                <a:gs pos="100000">
                  <a:srgbClr val="213e6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4987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9c3b0a"/>
                </a:gs>
                <a:gs pos="50000">
                  <a:srgbClr val="d9520f"/>
                </a:gs>
                <a:gs pos="100000">
                  <a:srgbClr val="9c3b0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277483"/>
                </a:gs>
                <a:gs pos="50000">
                  <a:srgbClr val="36a1b6"/>
                </a:gs>
                <a:gs pos="100000">
                  <a:srgbClr val="27748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9cc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708f4b"/>
                </a:gs>
                <a:gs pos="50000">
                  <a:srgbClr val="9cc769"/>
                </a:gs>
                <a:gs pos="100000">
                  <a:srgbClr val="708f4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3461a4"/>
                </a:gs>
                <a:gs pos="50000">
                  <a:srgbClr val="4987e3"/>
                </a:gs>
                <a:gs pos="100000">
                  <a:srgbClr val="3461a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4987e3"/>
              </a:gs>
              <a:gs pos="100000">
                <a:srgbClr val="fefefe">
                  <a:alpha val="24313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d9520f"/>
              </a:gs>
              <a:gs pos="100000">
                <a:srgbClr val="e3855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621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5b98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621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36a1b6"/>
              </a:gs>
              <a:gs pos="100000">
                <a:srgbClr val="72bcc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5T08:08:48Z</dcterms:created>
  <dc:creator>Sung Ha, Park</dc:creator>
  <dc:description/>
  <dc:language>en-US</dc:language>
  <cp:lastModifiedBy>雨林木风</cp:lastModifiedBy>
  <dcterms:modified xsi:type="dcterms:W3CDTF">2009-11-30T09:33:07Z</dcterms:modified>
  <cp:revision>3</cp:revision>
  <dc:subject/>
  <dc:title>PowerPoint Template</dc:title>
</cp:coreProperties>
</file>