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CE4-25AA-43CA-A557-FD552CE3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B797-C3A5-4241-B229-485C7DE2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5D2-8EC0-4741-A9DF-BFA63940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BD7-3DAE-4401-A038-37F98D97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7CF-3910-4B43-81A6-E12AFABC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C6A-02EF-464E-BDE2-37595278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7A9-3B4D-4E96-A095-CB6EFE2E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032-BB1D-4926-99E3-D3993927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FF9-2A58-4600-8D93-956D6FC6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61B-7F31-4C77-BC06-2E8EA2F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E78-0E05-4262-9669-0D30B6ED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597-A6A5-4D1C-84AF-B05EC8AC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820F-D9E3-4F75-AE34-D8ADA7436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4:03:06Z</dcterms:created>
  <dc:creator>WYC</dc:creator>
  <dc:description/>
  <dc:language>en-US</dc:language>
  <cp:lastModifiedBy>WYC</cp:lastModifiedBy>
  <dcterms:modified xsi:type="dcterms:W3CDTF">2015-07-14T14:03:13Z</dcterms:modified>
  <cp:revision>1</cp:revision>
  <dc:subject/>
  <dc:title>幻灯片 1</dc:title>
</cp:coreProperties>
</file>