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57D-158B-4253-9D24-5E678589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418-00BB-44C6-8490-2CBD3333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3B1-B72E-45B8-BD82-0580B704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6EF-703E-47B6-BAC2-2723CC4A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4937-8607-4B47-A5B6-C2345A80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9381-A67F-4CC9-B4DB-49488560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61E8-6677-4374-B9FD-65927CC7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BCBC-B52F-4044-83AF-9A59683E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CD21-B687-44EA-87C9-C9CC493B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A43A-B653-4448-8580-B6000C70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90F7-5887-461B-A1A8-F6B17A0A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83F-FC14-4F01-BE33-2D52616A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9FCF-8E6E-4671-AD69-0D14711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AB99-FC73-4878-86AE-7AB8C7AA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9E42-D30B-433E-B5B3-00828E0F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7EE8-889E-437E-A7E4-207D6836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AE89-F01D-4E15-9185-DC6737D9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5C5-EF98-41B3-BACD-BE65784F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40A-5CDC-439E-A119-488C6409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D39-201A-4FE7-AB63-B737029D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DB9-99D5-4B0D-890A-D8C23FC7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1EA-AE49-45F4-98DE-F4D1802C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C8D-116C-4EDD-BE4A-1833861F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987-4C2A-41DA-808F-66D2948B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845B-2F6C-41FA-80A4-D6B90EE559FA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3D87-149F-4D5B-A9C1-6719A481A55B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开展分期付款业务的分析报告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579640" y="5661000"/>
            <a:ext cx="3095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市场营销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市场背景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57000"/>
            <a:ext cx="8540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市场动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提前消费，贷款购房，贷款买车、、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期付款这种购买方式将成为一种潮流，扩展到市场的方方面面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提出问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首付与每月付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年限一定时，每月付款随年利率的增大而增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给定时间情况下企业的回款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年限一定时，企业回款额随年利率的增大而增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单变量模拟运算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71640" y="1916280"/>
          <a:ext cx="7272360" cy="3995640"/>
        </p:xfrm>
        <a:graphic>
          <a:graphicData uri="http://schemas.openxmlformats.org/drawingml/2006/table">
            <a:tbl>
              <a:tblPr/>
              <a:tblGrid>
                <a:gridCol w="1554120"/>
                <a:gridCol w="1206720"/>
                <a:gridCol w="949320"/>
                <a:gridCol w="1716120"/>
                <a:gridCol w="184608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宋体"/>
                          <a:ea typeface="黑体"/>
                        </a:rPr>
                        <a:t>年利率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宋体"/>
                          <a:ea typeface="黑体"/>
                        </a:rPr>
                        <a:t>每月支付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宋体"/>
                          <a:ea typeface="黑体"/>
                        </a:rPr>
                        <a:t>公司回款额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宋体"/>
                          <a:ea typeface="黑体"/>
                        </a:rPr>
                        <a:t>别墅总价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650,0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4.23%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￥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-3,090.8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￥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689,498.0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宋体"/>
                          <a:ea typeface="黑体"/>
                        </a:rPr>
                        <a:t>首付款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150,0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5.01%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￥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-3,302.5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￥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760,398.19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宋体"/>
                          <a:ea typeface="黑体"/>
                        </a:rPr>
                        <a:t>贷款金额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500,0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5.31%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￥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-3,386.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￥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789,395.19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宋体"/>
                          <a:ea typeface="黑体"/>
                        </a:rPr>
                        <a:t>年限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5.76%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￥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-3,513.27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￥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834,783.8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宋体"/>
                          <a:ea typeface="黑体"/>
                        </a:rPr>
                        <a:t>回款时间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宋体"/>
                          <a:ea typeface="黑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宋体"/>
                          <a:ea typeface="黑体"/>
                        </a:rPr>
                        <a:t>月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宋体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6.12%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￥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-3,616.8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￥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872,791.38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单变量模拟运算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03280" y="2565360"/>
          <a:ext cx="6337440" cy="2459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2565360"/>
                    <a:ext cx="633744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21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单变量求解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328760" y="1268280"/>
          <a:ext cx="6375240" cy="510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8760" y="1268280"/>
                    <a:ext cx="6375240" cy="51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企业每月回款分析图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71640" y="1341360"/>
          <a:ext cx="7129440" cy="496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341360"/>
                    <a:ext cx="712944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6:19:30Z</dcterms:created>
  <dc:creator>xinquanhua</dc:creator>
  <dc:description/>
  <dc:language>en-US</dc:language>
  <cp:lastModifiedBy>xinquanhua</cp:lastModifiedBy>
  <dcterms:modified xsi:type="dcterms:W3CDTF">2005-10-17T08:12:27Z</dcterms:modified>
  <cp:revision>6</cp:revision>
  <dc:subject/>
  <dc:title>幻灯片 1</dc:title>
</cp:coreProperties>
</file>