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A5A-DB2A-4492-8430-A5DD5149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EC6-4010-43FE-BE57-5FAA846E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2C6-4C24-4CC3-93B3-B4956237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615-F50A-4D66-BFE9-049A3158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429-226F-4B5E-920E-61A3E392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09C-0127-43D7-9833-699B8FA8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28F-33F0-4D1E-A4DE-D7A111BF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BBA-FB7F-4AB9-8B91-140D686D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BB2-C298-4AE3-AE12-296392E9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7DF-7D97-4091-BB0E-DBF327E6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808-2532-4D46-B479-954F997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6B1-5D2F-4D40-92E3-E599DAB6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8484-D131-497E-A714-20275E871C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建行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7923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682560" y="1641600"/>
            <a:ext cx="7993080" cy="4135320"/>
            <a:chOff x="682560" y="1641600"/>
            <a:chExt cx="7993080" cy="4135320"/>
          </a:xfrm>
        </p:grpSpPr>
        <p:sp>
          <p:nvSpPr>
            <p:cNvPr id="43" name="AutoShape 4"/>
            <p:cNvSpPr/>
            <p:nvPr/>
          </p:nvSpPr>
          <p:spPr>
            <a:xfrm>
              <a:off x="682560" y="1642680"/>
              <a:ext cx="2595960" cy="1202040"/>
            </a:xfrm>
            <a:prstGeom prst="roundRect">
              <a:avLst>
                <a:gd name="adj" fmla="val 1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682560" y="1642680"/>
              <a:ext cx="259596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支持签约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942120" y="2845080"/>
              <a:ext cx="702000" cy="7905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638737" h="776521">
                  <a:moveTo>
                    <a:pt x="0" y="0"/>
                  </a:moveTo>
                  <a:lnTo>
                    <a:pt x="0" y="776521"/>
                  </a:lnTo>
                  <a:lnTo>
                    <a:pt x="638737" y="776521"/>
                  </a:lnTo>
                </a:path>
              </a:pathLst>
            </a:custGeom>
            <a:noFill/>
            <a:ln w="25560">
              <a:solidFill>
                <a:srgbClr val="94b1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1644120" y="3034800"/>
              <a:ext cx="2261880" cy="1202040"/>
            </a:xfrm>
            <a:prstGeom prst="roundRect">
              <a:avLst>
                <a:gd name="adj" fmla="val 10000"/>
              </a:avLst>
            </a:prstGeom>
            <a:solidFill>
              <a:srgbClr val="ffff99">
                <a:alpha val="89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644120" y="3034800"/>
              <a:ext cx="226188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柜台签约（个人、机构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942120" y="2845080"/>
              <a:ext cx="702000" cy="233064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2330640"/>
                <a:gd name="textAreaBottom" fmla="*/ 2330640 h 2330640"/>
              </a:gdLst>
              <a:ahLst/>
              <a:rect l="textAreaLeft" t="textAreaTop" r="textAreaRight" b="textAreaBottom"/>
              <a:pathLst>
                <a:path w="638737" h="2288680">
                  <a:moveTo>
                    <a:pt x="0" y="0"/>
                  </a:moveTo>
                  <a:lnTo>
                    <a:pt x="0" y="2288680"/>
                  </a:lnTo>
                  <a:lnTo>
                    <a:pt x="638737" y="2288680"/>
                  </a:lnTo>
                </a:path>
              </a:pathLst>
            </a:custGeom>
            <a:noFill/>
            <a:ln w="25560">
              <a:solidFill>
                <a:srgbClr val="94b1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1644120" y="4574880"/>
              <a:ext cx="2235240" cy="1202040"/>
            </a:xfrm>
            <a:prstGeom prst="roundRect">
              <a:avLst>
                <a:gd name="adj" fmla="val 10000"/>
              </a:avLst>
            </a:prstGeom>
            <a:solidFill>
              <a:srgbClr val="ffff99">
                <a:alpha val="89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644120" y="4574880"/>
              <a:ext cx="223524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网银签约（个人、机构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2"/>
            <p:cNvSpPr/>
            <p:nvPr/>
          </p:nvSpPr>
          <p:spPr>
            <a:xfrm>
              <a:off x="5286240" y="1641600"/>
              <a:ext cx="2595960" cy="1202040"/>
            </a:xfrm>
            <a:prstGeom prst="roundRect">
              <a:avLst>
                <a:gd name="adj" fmla="val 1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286240" y="1641600"/>
              <a:ext cx="259596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签约时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45800" y="2843640"/>
              <a:ext cx="294480" cy="7920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67937" h="777867">
                  <a:moveTo>
                    <a:pt x="0" y="0"/>
                  </a:moveTo>
                  <a:lnTo>
                    <a:pt x="0" y="777867"/>
                  </a:lnTo>
                  <a:lnTo>
                    <a:pt x="267937" y="777867"/>
                  </a:lnTo>
                </a:path>
              </a:pathLst>
            </a:custGeom>
            <a:noFill/>
            <a:ln w="25560">
              <a:solidFill>
                <a:srgbClr val="94b1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>
              <a:off x="5840640" y="3034800"/>
              <a:ext cx="2723760" cy="1202040"/>
            </a:xfrm>
            <a:prstGeom prst="roundRect">
              <a:avLst>
                <a:gd name="adj" fmla="val 10000"/>
              </a:avLst>
            </a:prstGeom>
            <a:solidFill>
              <a:srgbClr val="ffff99">
                <a:alpha val="89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5840640" y="3034800"/>
              <a:ext cx="272376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9:00-16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545800" y="2843640"/>
              <a:ext cx="405720" cy="233208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369165" h="2290026">
                  <a:moveTo>
                    <a:pt x="0" y="0"/>
                  </a:moveTo>
                  <a:lnTo>
                    <a:pt x="0" y="2290026"/>
                  </a:lnTo>
                  <a:lnTo>
                    <a:pt x="369165" y="2290026"/>
                  </a:lnTo>
                </a:path>
              </a:pathLst>
            </a:custGeom>
            <a:noFill/>
            <a:ln w="25560">
              <a:solidFill>
                <a:srgbClr val="94b1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8"/>
            <p:cNvSpPr/>
            <p:nvPr/>
          </p:nvSpPr>
          <p:spPr>
            <a:xfrm>
              <a:off x="5951880" y="4574880"/>
              <a:ext cx="2723760" cy="1202040"/>
            </a:xfrm>
            <a:prstGeom prst="roundRect">
              <a:avLst>
                <a:gd name="adj" fmla="val 10000"/>
              </a:avLst>
            </a:prstGeom>
            <a:solidFill>
              <a:srgbClr val="ffff99">
                <a:alpha val="89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5951880" y="4574880"/>
              <a:ext cx="272376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9:00-21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右箭头 12"/>
          <p:cNvSpPr/>
          <p:nvPr/>
        </p:nvSpPr>
        <p:spPr>
          <a:xfrm>
            <a:off x="3492360" y="2133720"/>
            <a:ext cx="1440000" cy="369720"/>
          </a:xfrm>
          <a:prstGeom prst="rightArrow">
            <a:avLst>
              <a:gd name="adj1" fmla="val 50000"/>
              <a:gd name="adj2" fmla="val 778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标题 1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496000" cy="2643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-252360" y="5084640"/>
            <a:ext cx="1366920" cy="2009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1116000" y="5877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建行出入金时间为：交易日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09:00-21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1280" y="43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备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完成签约后，个人交易商可通过建行柜台、交易客户端、网上银行进行出入金。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若客户选择网银入金，则半小时后入金较好，因为网银与交易所数据同步可能存在一个时间差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286080" y="98100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五：提示您的席位成功签约！成功完成本次签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机构交易商网银签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一：用主管帐户登录建设银行企业网上银行，选择“服务管理”下的“产品在线开通”→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管理” →“服务开通”，在“商户编号”和“商户名称”中输入交易所的相应信息（备注：“商户编号”为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5000001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“商户名称”为福建省东南大宗商品交易中心有限公司），点击“查询”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84247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541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二：输入机构交易商相应的席位号（备注：席位号为机构交易商注册的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资金账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席位属性选择“日终清算”，短信通知开通根据机构需要进行选择，行别选择“建行账户”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7867440" cy="2114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395280" y="45086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三：提示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服务开通成功”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2124000" y="5661000"/>
            <a:ext cx="38102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9079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四：主管帐户授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业务给业务员帐户，具体步骤：选择“服务管理”下的“产品在线开通”→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管理” →“指定操作员”，选择操作员后授权输入密码，最后提示“指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功能操作员成功”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69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52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五：建行机构交易商入金有两种方式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登录交易客户端入金；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网上银行入金，具体操作流程：选择业务员帐户登录网上银行，选择“电子商务” →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” →“出入金” →“入金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80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3"/>
          <p:cNvSpPr/>
          <p:nvPr/>
        </p:nvSpPr>
        <p:spPr>
          <a:xfrm>
            <a:off x="395280" y="981000"/>
            <a:ext cx="842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交易商网银解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一：登陆个人网银后，依次单击图中红圈选中的“缴费支付”→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”→“我的席位”，选中【福建省东南大宗商品交易中心有限公司】（如图中红框所示），然后再单击“删除席位”按钮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（机构交易商登陆企业网银→服务管理→产品在线开通→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E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商贸通管理→信息维护，也可删除席位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75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8351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二：完成步骤一后，跳出如下图界面，单击“确认”按钮后将会跳出网银盾密码对话框，输入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网银盾密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确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8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64360" cy="3025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1763640" y="4724280"/>
            <a:ext cx="5977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"/>
          <p:cNvSpPr/>
          <p:nvPr/>
        </p:nvSpPr>
        <p:spPr>
          <a:xfrm>
            <a:off x="468360" y="1197000"/>
            <a:ext cx="65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三：完成上述步骤后跳出如下界面，表示解约成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81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214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88880" y="1285560"/>
            <a:ext cx="833112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责声明</a:t>
            </a:r>
            <a:br>
              <a:rPr sz="2400"/>
            </a:br>
            <a:br>
              <a:rPr sz="2400"/>
            </a:b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件所涉及的内容以交易中心公示的制度为准，该课件更新以后会自动作废，以新课件为准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柜台签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"/>
          <p:cNvSpPr/>
          <p:nvPr/>
        </p:nvSpPr>
        <p:spPr>
          <a:xfrm rot="5400000">
            <a:off x="-253080" y="3285360"/>
            <a:ext cx="3673440" cy="2519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3500000"/>
          </a:gra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6"/>
          <p:cNvSpPr/>
          <p:nvPr/>
        </p:nvSpPr>
        <p:spPr>
          <a:xfrm rot="5400000">
            <a:off x="2844000" y="3212280"/>
            <a:ext cx="3671640" cy="2520720"/>
          </a:xfrm>
          <a:custGeom>
            <a:avLst/>
            <a:gdLst>
              <a:gd name="textAreaLeft" fmla="*/ 0 w 3671640"/>
              <a:gd name="textAreaRight" fmla="*/ 3672000 w 3671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d5e8e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7"/>
          <p:cNvSpPr/>
          <p:nvPr/>
        </p:nvSpPr>
        <p:spPr>
          <a:xfrm rot="5400000">
            <a:off x="5831280" y="3320280"/>
            <a:ext cx="3600360" cy="23763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92d050"/>
          </a:solidFill>
          <a:ln w="936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1403280" y="270828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c00000"/>
                </a:solidFill>
                <a:latin typeface="Arial"/>
              </a:rPr>
              <a:t>1</a:t>
            </a:r>
            <a:endParaRPr b="1" lang="en-US" sz="2800" spc="1" strike="noStrike">
              <a:ln w="0">
                <a:noFill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67" name="WordArt 9"/>
          <p:cNvSpPr txBox="1"/>
          <p:nvPr/>
        </p:nvSpPr>
        <p:spPr>
          <a:xfrm>
            <a:off x="7956720" y="458136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latin typeface="宋体"/>
              </a:rPr>
              <a:t> 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68" name="WordArt 10"/>
          <p:cNvSpPr txBox="1"/>
          <p:nvPr/>
        </p:nvSpPr>
        <p:spPr>
          <a:xfrm>
            <a:off x="4500720" y="2637000"/>
            <a:ext cx="358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92d050"/>
                </a:solidFill>
                <a:latin typeface="Arial"/>
              </a:rPr>
              <a:t>2</a:t>
            </a:r>
            <a:endParaRPr b="1" lang="en-US" sz="2800" spc="1" strike="noStrike">
              <a:ln w="0">
                <a:noFill/>
              </a:ln>
              <a:solidFill>
                <a:srgbClr val="92d050"/>
              </a:solidFill>
              <a:latin typeface="Arial"/>
              <a:ea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6326280" y="2441520"/>
            <a:ext cx="1904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cc00"/>
                </a:solidFill>
                <a:latin typeface="宋体"/>
              </a:rPr>
              <a:t> </a:t>
            </a:r>
            <a:endParaRPr b="1" lang="en-US" sz="2800" spc="1" strike="noStrike">
              <a:ln w="0">
                <a:noFill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70" name="File"/>
          <p:cNvSpPr/>
          <p:nvPr/>
        </p:nvSpPr>
        <p:spPr>
          <a:xfrm>
            <a:off x="395280" y="1700280"/>
            <a:ext cx="2448000" cy="865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96449"/>
                </a:solidFill>
                <a:latin typeface="Arial"/>
              </a:rPr>
              <a:t>个人交易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96449"/>
                </a:solidFill>
                <a:latin typeface="Arial"/>
              </a:rPr>
              <a:t>需提供的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ile"/>
          <p:cNvSpPr/>
          <p:nvPr/>
        </p:nvSpPr>
        <p:spPr>
          <a:xfrm>
            <a:off x="3419640" y="1700280"/>
            <a:ext cx="2520720" cy="865080"/>
          </a:xfrm>
          <a:prstGeom prst="pie">
            <a:avLst/>
          </a:prstGeom>
          <a:solidFill>
            <a:srgbClr val="bbe0e3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会员单位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交易商提供的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ile"/>
          <p:cNvSpPr/>
          <p:nvPr/>
        </p:nvSpPr>
        <p:spPr>
          <a:xfrm>
            <a:off x="6443640" y="1700280"/>
            <a:ext cx="2449440" cy="865080"/>
          </a:xfrm>
          <a:prstGeom prst="pie">
            <a:avLst/>
          </a:prstGeom>
          <a:solidFill>
            <a:srgbClr val="72bfc5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在银行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签约的协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十字形 48"/>
          <p:cNvSpPr/>
          <p:nvPr/>
        </p:nvSpPr>
        <p:spPr>
          <a:xfrm>
            <a:off x="2916360" y="3933720"/>
            <a:ext cx="431640" cy="5032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右箭头 49"/>
          <p:cNvSpPr/>
          <p:nvPr/>
        </p:nvSpPr>
        <p:spPr>
          <a:xfrm>
            <a:off x="6012000" y="3860640"/>
            <a:ext cx="43164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0"/>
          <p:cNvSpPr/>
          <p:nvPr/>
        </p:nvSpPr>
        <p:spPr>
          <a:xfrm>
            <a:off x="395280" y="450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、本人二代身份证 原件及复印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1"/>
          <p:cNvSpPr/>
          <p:nvPr/>
        </p:nvSpPr>
        <p:spPr>
          <a:xfrm>
            <a:off x="395280" y="407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、银行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4"/>
          <p:cNvSpPr/>
          <p:nvPr/>
        </p:nvSpPr>
        <p:spPr>
          <a:xfrm>
            <a:off x="6659640" y="3645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《客户交易结算资金管理账户签约申请表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7524720" y="263700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2060"/>
                </a:solidFill>
                <a:latin typeface="Arial"/>
              </a:rPr>
              <a:t>3</a:t>
            </a:r>
            <a:endParaRPr b="1" lang="en-US" sz="2800" spc="1" strike="noStrike">
              <a:ln w="0">
                <a:noFill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79" name="TextBox 52"/>
          <p:cNvSpPr/>
          <p:nvPr/>
        </p:nvSpPr>
        <p:spPr>
          <a:xfrm>
            <a:off x="3564000" y="3357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《中国建设银行企业级电子商务支付服务会员申请表》（一式三份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《中国建设银行企业级电子商务支付服务三方服务协议》（一式三份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矩形 4" descr=""/>
          <p:cNvPicPr/>
          <p:nvPr/>
        </p:nvPicPr>
        <p:blipFill>
          <a:blip r:embed="rId2"/>
          <a:stretch/>
        </p:blipFill>
        <p:spPr>
          <a:xfrm>
            <a:off x="1889280" y="1847880"/>
            <a:ext cx="5711760" cy="1492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C:\Users\tuweiliang\Desktop\新建文件夹\渐变类商务png图片 (69).png"/>
          <p:cNvPicPr/>
          <p:nvPr/>
        </p:nvPicPr>
        <p:blipFill>
          <a:blip r:embed="rId3"/>
          <a:stretch/>
        </p:blipFill>
        <p:spPr>
          <a:xfrm>
            <a:off x="3635280" y="3068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C:\Users\tuweiliang\Desktop\新建文件夹\渐变类商务png图片 (77).png"/>
          <p:cNvPicPr/>
          <p:nvPr/>
        </p:nvPicPr>
        <p:blipFill>
          <a:blip r:embed="rId4"/>
          <a:stretch/>
        </p:blipFill>
        <p:spPr>
          <a:xfrm>
            <a:off x="728640" y="151596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:\Users\tuweiliang\Desktop\新建文件夹\渐变类商务png图片 (78).png"/>
          <p:cNvPicPr/>
          <p:nvPr/>
        </p:nvPicPr>
        <p:blipFill>
          <a:blip r:embed="rId5"/>
          <a:stretch/>
        </p:blipFill>
        <p:spPr>
          <a:xfrm>
            <a:off x="2549520" y="475452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3" descr="C:\Users\tuweiliang\Desktop\新建文件夹\渐变类商务png图片 (114).png"/>
          <p:cNvPicPr/>
          <p:nvPr/>
        </p:nvPicPr>
        <p:blipFill>
          <a:blip r:embed="rId6"/>
          <a:stretch/>
        </p:blipFill>
        <p:spPr>
          <a:xfrm>
            <a:off x="5940360" y="620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" descr="C:\Users\tuweiliang\Desktop\新建文件夹\渐变类商务png图片 (116).png"/>
          <p:cNvPicPr/>
          <p:nvPr/>
        </p:nvPicPr>
        <p:blipFill>
          <a:blip r:embed="rId7"/>
          <a:stretch/>
        </p:blipFill>
        <p:spPr>
          <a:xfrm>
            <a:off x="7518240" y="310680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 rot="5400000">
            <a:off x="-666000" y="2834280"/>
            <a:ext cx="4464360" cy="277344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2773440"/>
              <a:gd name="textAreaBottom" fmla="*/ 2773800 h 277344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3500000"/>
          </a:gra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"/>
          <p:cNvSpPr/>
          <p:nvPr/>
        </p:nvSpPr>
        <p:spPr>
          <a:xfrm rot="5400000">
            <a:off x="2627280" y="3068640"/>
            <a:ext cx="4392720" cy="237672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376720"/>
              <a:gd name="textAreaBottom" fmla="*/ 2377080 h 237672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d5e8e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 rot="5400000">
            <a:off x="5398920" y="3033000"/>
            <a:ext cx="4464360" cy="237636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2676" h="920">
                <a:moveTo>
                  <a:pt x="2630" y="0"/>
                </a:moveTo>
                <a:cubicBezTo>
                  <a:pt x="45" y="0"/>
                  <a:pt x="45" y="0"/>
                  <a:pt x="45" y="0"/>
                </a:cubicBezTo>
                <a:cubicBezTo>
                  <a:pt x="20" y="0"/>
                  <a:pt x="0" y="20"/>
                  <a:pt x="0" y="45"/>
                </a:cubicBezTo>
                <a:cubicBezTo>
                  <a:pt x="0" y="308"/>
                  <a:pt x="0" y="308"/>
                  <a:pt x="0" y="308"/>
                </a:cubicBezTo>
                <a:cubicBezTo>
                  <a:pt x="157" y="308"/>
                  <a:pt x="157" y="308"/>
                  <a:pt x="157" y="308"/>
                </a:cubicBezTo>
                <a:cubicBezTo>
                  <a:pt x="157" y="130"/>
                  <a:pt x="157" y="130"/>
                  <a:pt x="157" y="130"/>
                </a:cubicBezTo>
                <a:cubicBezTo>
                  <a:pt x="487" y="460"/>
                  <a:pt x="487" y="460"/>
                  <a:pt x="487" y="460"/>
                </a:cubicBezTo>
                <a:cubicBezTo>
                  <a:pt x="158" y="789"/>
                  <a:pt x="158" y="789"/>
                  <a:pt x="158" y="789"/>
                </a:cubicBezTo>
                <a:cubicBezTo>
                  <a:pt x="158" y="611"/>
                  <a:pt x="158" y="611"/>
                  <a:pt x="158" y="611"/>
                </a:cubicBezTo>
                <a:cubicBezTo>
                  <a:pt x="0" y="611"/>
                  <a:pt x="0" y="611"/>
                  <a:pt x="0" y="611"/>
                </a:cubicBezTo>
                <a:cubicBezTo>
                  <a:pt x="0" y="874"/>
                  <a:pt x="0" y="874"/>
                  <a:pt x="0" y="874"/>
                </a:cubicBezTo>
                <a:cubicBezTo>
                  <a:pt x="0" y="899"/>
                  <a:pt x="20" y="920"/>
                  <a:pt x="45" y="920"/>
                </a:cubicBezTo>
                <a:cubicBezTo>
                  <a:pt x="2630" y="920"/>
                  <a:pt x="2630" y="920"/>
                  <a:pt x="2630" y="920"/>
                </a:cubicBezTo>
                <a:cubicBezTo>
                  <a:pt x="2656" y="920"/>
                  <a:pt x="2676" y="899"/>
                  <a:pt x="2676" y="874"/>
                </a:cubicBezTo>
                <a:cubicBezTo>
                  <a:pt x="2676" y="45"/>
                  <a:pt x="2676" y="45"/>
                  <a:pt x="2676" y="45"/>
                </a:cubicBezTo>
                <a:cubicBezTo>
                  <a:pt x="2676" y="20"/>
                  <a:pt x="2656" y="0"/>
                  <a:pt x="2630" y="0"/>
                </a:cubicBezTo>
                <a:close/>
              </a:path>
            </a:pathLst>
          </a:custGeom>
          <a:solidFill>
            <a:srgbClr val="92d050"/>
          </a:solidFill>
          <a:ln w="936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1403280" y="1989000"/>
            <a:ext cx="28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c00000"/>
                </a:solidFill>
                <a:latin typeface="Arial"/>
              </a:rPr>
              <a:t>1</a:t>
            </a:r>
            <a:endParaRPr b="1" lang="en-US" sz="2800" spc="1" strike="noStrike">
              <a:ln w="0">
                <a:noFill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7956720" y="458136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00"/>
                </a:solidFill>
                <a:latin typeface="宋体"/>
              </a:rPr>
              <a:t> </a:t>
            </a:r>
            <a:endParaRPr b="1" lang="en-US" sz="2800" spc="1" strike="noStrike">
              <a:ln w="0">
                <a:noFill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4643280" y="198900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92d050"/>
                </a:solidFill>
                <a:latin typeface="Arial"/>
              </a:rPr>
              <a:t>2</a:t>
            </a:r>
            <a:endParaRPr b="1" lang="en-US" sz="2800" spc="1" strike="noStrike">
              <a:ln w="0">
                <a:noFill/>
              </a:ln>
              <a:solidFill>
                <a:srgbClr val="92d050"/>
              </a:solidFill>
              <a:latin typeface="Arial"/>
              <a:ea typeface="Arial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6326280" y="2441520"/>
            <a:ext cx="1904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cc00"/>
                </a:solidFill>
                <a:latin typeface="宋体"/>
              </a:rPr>
              <a:t> </a:t>
            </a:r>
            <a:endParaRPr b="1" lang="en-US" sz="2800" spc="1" strike="noStrike">
              <a:ln w="0">
                <a:noFill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88" name="File"/>
          <p:cNvSpPr/>
          <p:nvPr/>
        </p:nvSpPr>
        <p:spPr>
          <a:xfrm>
            <a:off x="324000" y="981000"/>
            <a:ext cx="2519280" cy="863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96449"/>
                </a:solidFill>
                <a:latin typeface="Arial"/>
              </a:rPr>
              <a:t>机构交易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96449"/>
                </a:solidFill>
                <a:latin typeface="Arial"/>
              </a:rPr>
              <a:t>需提供的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ile"/>
          <p:cNvSpPr/>
          <p:nvPr/>
        </p:nvSpPr>
        <p:spPr>
          <a:xfrm>
            <a:off x="3635280" y="981000"/>
            <a:ext cx="2449440" cy="863640"/>
          </a:xfrm>
          <a:prstGeom prst="pie">
            <a:avLst/>
          </a:prstGeom>
          <a:solidFill>
            <a:srgbClr val="bbe0e3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会员单位向机构交易商提供的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ile"/>
          <p:cNvSpPr/>
          <p:nvPr/>
        </p:nvSpPr>
        <p:spPr>
          <a:xfrm>
            <a:off x="6443640" y="981000"/>
            <a:ext cx="2449440" cy="863640"/>
          </a:xfrm>
          <a:prstGeom prst="pie">
            <a:avLst/>
          </a:prstGeom>
          <a:solidFill>
            <a:srgbClr val="72bfc5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在银行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签约的协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十字形 48"/>
          <p:cNvSpPr/>
          <p:nvPr/>
        </p:nvSpPr>
        <p:spPr>
          <a:xfrm>
            <a:off x="2987640" y="3789360"/>
            <a:ext cx="647640" cy="5032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右箭头 49"/>
          <p:cNvSpPr/>
          <p:nvPr/>
        </p:nvSpPr>
        <p:spPr>
          <a:xfrm>
            <a:off x="6012000" y="3645000"/>
            <a:ext cx="431640" cy="57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0"/>
          <p:cNvSpPr/>
          <p:nvPr/>
        </p:nvSpPr>
        <p:spPr>
          <a:xfrm>
            <a:off x="250920" y="2781360"/>
            <a:ext cx="2628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营业执照正副本原件及复印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定代表人身份证原件复印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经办人为非法人代表，还需提供经办人身份证件及单位委托授权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组织机构代码证正副本原件及复印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授权代理人有效身份证原件及复印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授权委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章及银行预留印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2"/>
          <p:cNvSpPr/>
          <p:nvPr/>
        </p:nvSpPr>
        <p:spPr>
          <a:xfrm>
            <a:off x="3708360" y="27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《中国建设银行企业级电子商务支付服务会员申请表》（一式三份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《中国建设银行企业级电子商务支付服务三方服务协议》（一式三份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4"/>
          <p:cNvSpPr/>
          <p:nvPr/>
        </p:nvSpPr>
        <p:spPr>
          <a:xfrm>
            <a:off x="6732720" y="3645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客户交易结算资金管理账户签约申请表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7451640" y="191628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2060"/>
                </a:solidFill>
                <a:latin typeface="Arial"/>
              </a:rPr>
              <a:t>3</a:t>
            </a:r>
            <a:endParaRPr b="1" lang="en-US" sz="2800" spc="1" strike="noStrike">
              <a:ln w="0">
                <a:noFill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125360"/>
            <a:ext cx="82072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中国建设银行企业级电子商务支付服务会员申请表》填写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250920" y="2421000"/>
            <a:ext cx="8353080" cy="3844800"/>
            <a:chOff x="250920" y="2421000"/>
            <a:chExt cx="8353080" cy="3844800"/>
          </a:xfrm>
        </p:grpSpPr>
        <p:grpSp>
          <p:nvGrpSpPr>
            <p:cNvPr id="100" name="Group 3"/>
            <p:cNvGrpSpPr/>
            <p:nvPr/>
          </p:nvGrpSpPr>
          <p:grpSpPr>
            <a:xfrm>
              <a:off x="264600" y="2422080"/>
              <a:ext cx="6471000" cy="735840"/>
              <a:chOff x="264600" y="2422080"/>
              <a:chExt cx="6471000" cy="735840"/>
            </a:xfrm>
          </p:grpSpPr>
          <p:sp>
            <p:nvSpPr>
              <p:cNvPr id="101" name="TextBox 6"/>
              <p:cNvSpPr/>
              <p:nvPr/>
            </p:nvSpPr>
            <p:spPr>
              <a:xfrm>
                <a:off x="1330560" y="2562120"/>
                <a:ext cx="540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商户编号：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35000001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圆角矩形​​ 10"/>
              <p:cNvSpPr/>
              <p:nvPr/>
            </p:nvSpPr>
            <p:spPr>
              <a:xfrm>
                <a:off x="264600" y="2422080"/>
                <a:ext cx="951120" cy="647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1"/>
              <p:cNvSpPr/>
              <p:nvPr/>
            </p:nvSpPr>
            <p:spPr>
              <a:xfrm>
                <a:off x="1388520" y="2788560"/>
                <a:ext cx="1378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7"/>
            <p:cNvGrpSpPr/>
            <p:nvPr/>
          </p:nvGrpSpPr>
          <p:grpSpPr>
            <a:xfrm>
              <a:off x="264600" y="3456000"/>
              <a:ext cx="8339400" cy="735840"/>
              <a:chOff x="264600" y="3456000"/>
              <a:chExt cx="8339400" cy="735840"/>
            </a:xfrm>
          </p:grpSpPr>
          <p:sp>
            <p:nvSpPr>
              <p:cNvPr id="105" name="TextBox 17"/>
              <p:cNvSpPr/>
              <p:nvPr/>
            </p:nvSpPr>
            <p:spPr>
              <a:xfrm>
                <a:off x="1380600" y="3570120"/>
                <a:ext cx="722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商户名称：</a:t>
                </a:r>
                <a:r>
                  <a:rPr b="0" lang="zh-CN" sz="2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福建省东南大宗商品交易中心有限公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圆角矩形​​ 18"/>
              <p:cNvSpPr/>
              <p:nvPr/>
            </p:nvSpPr>
            <p:spPr>
              <a:xfrm>
                <a:off x="264600" y="3456000"/>
                <a:ext cx="950760" cy="647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9"/>
              <p:cNvSpPr/>
              <p:nvPr/>
            </p:nvSpPr>
            <p:spPr>
              <a:xfrm>
                <a:off x="1387800" y="3822480"/>
                <a:ext cx="1378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1"/>
            <p:cNvGrpSpPr/>
            <p:nvPr/>
          </p:nvGrpSpPr>
          <p:grpSpPr>
            <a:xfrm>
              <a:off x="264600" y="4489200"/>
              <a:ext cx="6899040" cy="735840"/>
              <a:chOff x="264600" y="4489200"/>
              <a:chExt cx="6899040" cy="735840"/>
            </a:xfrm>
          </p:grpSpPr>
          <p:sp>
            <p:nvSpPr>
              <p:cNvPr id="109" name="TextBox 21"/>
              <p:cNvSpPr/>
              <p:nvPr/>
            </p:nvSpPr>
            <p:spPr>
              <a:xfrm>
                <a:off x="1380600" y="4578480"/>
                <a:ext cx="5783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交易类型：现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圆角矩形​​ 22"/>
              <p:cNvSpPr/>
              <p:nvPr/>
            </p:nvSpPr>
            <p:spPr>
              <a:xfrm>
                <a:off x="264600" y="4489200"/>
                <a:ext cx="950760" cy="647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23"/>
              <p:cNvSpPr/>
              <p:nvPr/>
            </p:nvSpPr>
            <p:spPr>
              <a:xfrm>
                <a:off x="1387800" y="4855680"/>
                <a:ext cx="1378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5"/>
            <p:cNvGrpSpPr/>
            <p:nvPr/>
          </p:nvGrpSpPr>
          <p:grpSpPr>
            <a:xfrm>
              <a:off x="250920" y="5530680"/>
              <a:ext cx="7061040" cy="735120"/>
              <a:chOff x="250920" y="5530680"/>
              <a:chExt cx="7061040" cy="735120"/>
            </a:xfrm>
          </p:grpSpPr>
          <p:sp>
            <p:nvSpPr>
              <p:cNvPr id="113" name="TextBox 25"/>
              <p:cNvSpPr/>
              <p:nvPr/>
            </p:nvSpPr>
            <p:spPr>
              <a:xfrm>
                <a:off x="1330920" y="5586840"/>
                <a:ext cx="59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业务类型：开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圆角矩形​​ 26"/>
              <p:cNvSpPr/>
              <p:nvPr/>
            </p:nvSpPr>
            <p:spPr>
              <a:xfrm>
                <a:off x="250920" y="5530680"/>
                <a:ext cx="950400" cy="64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27"/>
              <p:cNvSpPr/>
              <p:nvPr/>
            </p:nvSpPr>
            <p:spPr>
              <a:xfrm>
                <a:off x="1373760" y="5896440"/>
                <a:ext cx="1378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同侧圆角矩形 30"/>
            <p:cNvSpPr/>
            <p:nvPr/>
          </p:nvSpPr>
          <p:spPr>
            <a:xfrm>
              <a:off x="257400" y="2421000"/>
              <a:ext cx="639360" cy="680760"/>
            </a:xfrm>
            <a:custGeom>
              <a:avLst/>
              <a:gdLst>
                <a:gd name="textAreaLeft" fmla="*/ 30600 w 639360"/>
                <a:gd name="textAreaRight" fmla="*/ 608760 w 639360"/>
                <a:gd name="textAreaTop" fmla="*/ 3240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658813" h="681037">
                  <a:moveTo>
                    <a:pt x="109804" y="0"/>
                  </a:moveTo>
                  <a:lnTo>
                    <a:pt x="549009" y="0"/>
                  </a:lnTo>
                  <a:lnTo>
                    <a:pt x="549008" y="0"/>
                  </a:lnTo>
                  <a:cubicBezTo>
                    <a:pt x="609652" y="0"/>
                    <a:pt x="658813" y="49160"/>
                    <a:pt x="658813" y="109804"/>
                  </a:cubicBezTo>
                  <a:lnTo>
                    <a:pt x="658813" y="681037"/>
                  </a:lnTo>
                  <a:lnTo>
                    <a:pt x="0" y="681037"/>
                  </a:lnTo>
                  <a:lnTo>
                    <a:pt x="0" y="109804"/>
                  </a:lnTo>
                  <a:cubicBezTo>
                    <a:pt x="0" y="49160"/>
                    <a:pt x="49160" y="0"/>
                    <a:pt x="1098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同侧圆角矩形 31"/>
            <p:cNvSpPr/>
            <p:nvPr/>
          </p:nvSpPr>
          <p:spPr>
            <a:xfrm>
              <a:off x="264600" y="3468600"/>
              <a:ext cx="969480" cy="680760"/>
            </a:xfrm>
            <a:custGeom>
              <a:avLst/>
              <a:gdLst>
                <a:gd name="textAreaLeft" fmla="*/ 47520 w 969480"/>
                <a:gd name="textAreaRight" fmla="*/ 921960 w 969480"/>
                <a:gd name="textAreaTop" fmla="*/ 3240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660400" h="681037">
                  <a:moveTo>
                    <a:pt x="110069" y="0"/>
                  </a:moveTo>
                  <a:lnTo>
                    <a:pt x="550331" y="0"/>
                  </a:lnTo>
                  <a:lnTo>
                    <a:pt x="550330" y="0"/>
                  </a:lnTo>
                  <a:cubicBezTo>
                    <a:pt x="611120" y="0"/>
                    <a:pt x="660400" y="49279"/>
                    <a:pt x="660400" y="110069"/>
                  </a:cubicBezTo>
                  <a:lnTo>
                    <a:pt x="660400" y="681037"/>
                  </a:lnTo>
                  <a:lnTo>
                    <a:pt x="0" y="681037"/>
                  </a:lnTo>
                  <a:lnTo>
                    <a:pt x="0" y="110069"/>
                  </a:lnTo>
                  <a:cubicBezTo>
                    <a:pt x="0" y="49279"/>
                    <a:pt x="49279" y="0"/>
                    <a:pt x="1100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同侧圆角矩形 32"/>
            <p:cNvSpPr/>
            <p:nvPr/>
          </p:nvSpPr>
          <p:spPr>
            <a:xfrm>
              <a:off x="275760" y="4500360"/>
              <a:ext cx="966600" cy="680400"/>
            </a:xfrm>
            <a:custGeom>
              <a:avLst/>
              <a:gdLst>
                <a:gd name="textAreaLeft" fmla="*/ 47520 w 966600"/>
                <a:gd name="textAreaRight" fmla="*/ 919080 w 966600"/>
                <a:gd name="textAreaTop" fmla="*/ 32040 h 680400"/>
                <a:gd name="textAreaBottom" fmla="*/ 680760 h 680400"/>
              </a:gdLst>
              <a:ahLst/>
              <a:rect l="textAreaLeft" t="textAreaTop" r="textAreaRight" b="textAreaBottom"/>
              <a:pathLst>
                <a:path w="658813" h="681037">
                  <a:moveTo>
                    <a:pt x="109804" y="0"/>
                  </a:moveTo>
                  <a:lnTo>
                    <a:pt x="549009" y="0"/>
                  </a:lnTo>
                  <a:lnTo>
                    <a:pt x="549008" y="0"/>
                  </a:lnTo>
                  <a:cubicBezTo>
                    <a:pt x="609652" y="0"/>
                    <a:pt x="658813" y="49160"/>
                    <a:pt x="658813" y="109804"/>
                  </a:cubicBezTo>
                  <a:lnTo>
                    <a:pt x="658813" y="681037"/>
                  </a:lnTo>
                  <a:lnTo>
                    <a:pt x="0" y="681037"/>
                  </a:lnTo>
                  <a:lnTo>
                    <a:pt x="0" y="109804"/>
                  </a:lnTo>
                  <a:cubicBezTo>
                    <a:pt x="0" y="49160"/>
                    <a:pt x="49160" y="0"/>
                    <a:pt x="1098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同侧圆角矩形 33"/>
            <p:cNvSpPr/>
            <p:nvPr/>
          </p:nvSpPr>
          <p:spPr>
            <a:xfrm>
              <a:off x="306720" y="5497560"/>
              <a:ext cx="969480" cy="679320"/>
            </a:xfrm>
            <a:custGeom>
              <a:avLst/>
              <a:gdLst>
                <a:gd name="textAreaLeft" fmla="*/ 47520 w 969480"/>
                <a:gd name="textAreaRight" fmla="*/ 921960 w 969480"/>
                <a:gd name="textAreaTop" fmla="*/ 3204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660400" h="679450">
                  <a:moveTo>
                    <a:pt x="110069" y="0"/>
                  </a:moveTo>
                  <a:lnTo>
                    <a:pt x="550331" y="0"/>
                  </a:lnTo>
                  <a:lnTo>
                    <a:pt x="550330" y="0"/>
                  </a:lnTo>
                  <a:cubicBezTo>
                    <a:pt x="611120" y="0"/>
                    <a:pt x="660400" y="49279"/>
                    <a:pt x="660400" y="110069"/>
                  </a:cubicBezTo>
                  <a:lnTo>
                    <a:pt x="660400" y="679450"/>
                  </a:lnTo>
                  <a:lnTo>
                    <a:pt x="0" y="679450"/>
                  </a:lnTo>
                  <a:lnTo>
                    <a:pt x="0" y="110069"/>
                  </a:lnTo>
                  <a:cubicBezTo>
                    <a:pt x="0" y="49279"/>
                    <a:pt x="49279" y="0"/>
                    <a:pt x="1100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中国建设银行企业级电子商务支付服务三方服务协议》填写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79280" y="2060640"/>
            <a:ext cx="9143640" cy="3744720"/>
            <a:chOff x="179280" y="2060640"/>
            <a:chExt cx="9143640" cy="3744720"/>
          </a:xfrm>
        </p:grpSpPr>
        <p:grpSp>
          <p:nvGrpSpPr>
            <p:cNvPr id="123" name="Group 3"/>
            <p:cNvGrpSpPr/>
            <p:nvPr/>
          </p:nvGrpSpPr>
          <p:grpSpPr>
            <a:xfrm>
              <a:off x="192960" y="2061720"/>
              <a:ext cx="8123040" cy="717120"/>
              <a:chOff x="192960" y="2061720"/>
              <a:chExt cx="8123040" cy="717120"/>
            </a:xfrm>
          </p:grpSpPr>
          <p:sp>
            <p:nvSpPr>
              <p:cNvPr id="124" name="TextBox 6"/>
              <p:cNvSpPr/>
              <p:nvPr/>
            </p:nvSpPr>
            <p:spPr>
              <a:xfrm>
                <a:off x="1258920" y="2198160"/>
                <a:ext cx="70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乙方：福建省东南大宗商品交易中心有限公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圆角矩形​​ 10"/>
              <p:cNvSpPr/>
              <p:nvPr/>
            </p:nvSpPr>
            <p:spPr>
              <a:xfrm>
                <a:off x="192960" y="2061720"/>
                <a:ext cx="951120" cy="63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Box 11"/>
              <p:cNvSpPr/>
              <p:nvPr/>
            </p:nvSpPr>
            <p:spPr>
              <a:xfrm>
                <a:off x="1316880" y="2418840"/>
                <a:ext cx="13788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7"/>
            <p:cNvGrpSpPr/>
            <p:nvPr/>
          </p:nvGrpSpPr>
          <p:grpSpPr>
            <a:xfrm>
              <a:off x="192960" y="3068640"/>
              <a:ext cx="9129960" cy="716760"/>
              <a:chOff x="192960" y="3068640"/>
              <a:chExt cx="9129960" cy="716760"/>
            </a:xfrm>
          </p:grpSpPr>
          <p:sp>
            <p:nvSpPr>
              <p:cNvPr id="128" name="TextBox 17"/>
              <p:cNvSpPr/>
              <p:nvPr/>
            </p:nvSpPr>
            <p:spPr>
              <a:xfrm>
                <a:off x="1308960" y="3180240"/>
                <a:ext cx="801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通讯地址：福建省泉州市丰泽区云鹿路鲲鹏国际中心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圆角矩形​​ 18"/>
              <p:cNvSpPr/>
              <p:nvPr/>
            </p:nvSpPr>
            <p:spPr>
              <a:xfrm>
                <a:off x="192960" y="3068640"/>
                <a:ext cx="950760" cy="63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19"/>
              <p:cNvSpPr/>
              <p:nvPr/>
            </p:nvSpPr>
            <p:spPr>
              <a:xfrm>
                <a:off x="1316160" y="3425760"/>
                <a:ext cx="13788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1"/>
            <p:cNvGrpSpPr/>
            <p:nvPr/>
          </p:nvGrpSpPr>
          <p:grpSpPr>
            <a:xfrm>
              <a:off x="192960" y="4074840"/>
              <a:ext cx="6899040" cy="716760"/>
              <a:chOff x="192960" y="4074840"/>
              <a:chExt cx="6899040" cy="716760"/>
            </a:xfrm>
          </p:grpSpPr>
          <p:sp>
            <p:nvSpPr>
              <p:cNvPr id="132" name="TextBox 21"/>
              <p:cNvSpPr/>
              <p:nvPr/>
            </p:nvSpPr>
            <p:spPr>
              <a:xfrm>
                <a:off x="1308960" y="4161960"/>
                <a:ext cx="5783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联系电话：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595-3628999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圆角矩形​​ 22"/>
              <p:cNvSpPr/>
              <p:nvPr/>
            </p:nvSpPr>
            <p:spPr>
              <a:xfrm>
                <a:off x="192960" y="4074840"/>
                <a:ext cx="950760" cy="63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Box 23"/>
              <p:cNvSpPr/>
              <p:nvPr/>
            </p:nvSpPr>
            <p:spPr>
              <a:xfrm>
                <a:off x="1316160" y="4431960"/>
                <a:ext cx="13788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5"/>
            <p:cNvGrpSpPr/>
            <p:nvPr/>
          </p:nvGrpSpPr>
          <p:grpSpPr>
            <a:xfrm>
              <a:off x="179280" y="5089320"/>
              <a:ext cx="7061040" cy="716040"/>
              <a:chOff x="179280" y="5089320"/>
              <a:chExt cx="7061040" cy="716040"/>
            </a:xfrm>
          </p:grpSpPr>
          <p:sp>
            <p:nvSpPr>
              <p:cNvPr id="136" name="TextBox 25"/>
              <p:cNvSpPr/>
              <p:nvPr/>
            </p:nvSpPr>
            <p:spPr>
              <a:xfrm>
                <a:off x="1259280" y="5144040"/>
                <a:ext cx="59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传真：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595-2839078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角矩形​​ 26"/>
              <p:cNvSpPr/>
              <p:nvPr/>
            </p:nvSpPr>
            <p:spPr>
              <a:xfrm>
                <a:off x="179280" y="5089320"/>
                <a:ext cx="950400" cy="63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ee9012"/>
                  </a:gs>
                </a:gsLst>
                <a:lin ang="5400000"/>
              </a:gra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27"/>
              <p:cNvSpPr/>
              <p:nvPr/>
            </p:nvSpPr>
            <p:spPr>
              <a:xfrm>
                <a:off x="1302120" y="5445720"/>
                <a:ext cx="13788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同侧圆角矩形 30"/>
            <p:cNvSpPr/>
            <p:nvPr/>
          </p:nvSpPr>
          <p:spPr>
            <a:xfrm>
              <a:off x="185760" y="2060640"/>
              <a:ext cx="639360" cy="663480"/>
            </a:xfrm>
            <a:custGeom>
              <a:avLst/>
              <a:gdLst>
                <a:gd name="textAreaLeft" fmla="*/ 30600 w 639360"/>
                <a:gd name="textAreaRight" fmla="*/ 608760 w 639360"/>
                <a:gd name="textAreaTop" fmla="*/ 3132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658813" h="681037">
                  <a:moveTo>
                    <a:pt x="109804" y="0"/>
                  </a:moveTo>
                  <a:lnTo>
                    <a:pt x="549009" y="0"/>
                  </a:lnTo>
                  <a:lnTo>
                    <a:pt x="549008" y="0"/>
                  </a:lnTo>
                  <a:cubicBezTo>
                    <a:pt x="609652" y="0"/>
                    <a:pt x="658813" y="49160"/>
                    <a:pt x="658813" y="109804"/>
                  </a:cubicBezTo>
                  <a:lnTo>
                    <a:pt x="658813" y="681037"/>
                  </a:lnTo>
                  <a:lnTo>
                    <a:pt x="0" y="681037"/>
                  </a:lnTo>
                  <a:lnTo>
                    <a:pt x="0" y="109804"/>
                  </a:lnTo>
                  <a:cubicBezTo>
                    <a:pt x="0" y="49160"/>
                    <a:pt x="49160" y="0"/>
                    <a:pt x="1098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同侧圆角矩形 31"/>
            <p:cNvSpPr/>
            <p:nvPr/>
          </p:nvSpPr>
          <p:spPr>
            <a:xfrm>
              <a:off x="192960" y="3080880"/>
              <a:ext cx="969480" cy="661680"/>
            </a:xfrm>
            <a:custGeom>
              <a:avLst/>
              <a:gdLst>
                <a:gd name="textAreaLeft" fmla="*/ 47520 w 969480"/>
                <a:gd name="textAreaRight" fmla="*/ 921960 w 969480"/>
                <a:gd name="textAreaTop" fmla="*/ 31320 h 661680"/>
                <a:gd name="textAreaBottom" fmla="*/ 661680 h 661680"/>
              </a:gdLst>
              <a:ahLst/>
              <a:rect l="textAreaLeft" t="textAreaTop" r="textAreaRight" b="textAreaBottom"/>
              <a:pathLst>
                <a:path w="660400" h="681037">
                  <a:moveTo>
                    <a:pt x="110069" y="0"/>
                  </a:moveTo>
                  <a:lnTo>
                    <a:pt x="550331" y="0"/>
                  </a:lnTo>
                  <a:lnTo>
                    <a:pt x="550330" y="0"/>
                  </a:lnTo>
                  <a:cubicBezTo>
                    <a:pt x="611120" y="0"/>
                    <a:pt x="660400" y="49279"/>
                    <a:pt x="660400" y="110069"/>
                  </a:cubicBezTo>
                  <a:lnTo>
                    <a:pt x="660400" y="681037"/>
                  </a:lnTo>
                  <a:lnTo>
                    <a:pt x="0" y="681037"/>
                  </a:lnTo>
                  <a:lnTo>
                    <a:pt x="0" y="110069"/>
                  </a:lnTo>
                  <a:cubicBezTo>
                    <a:pt x="0" y="49279"/>
                    <a:pt x="49279" y="0"/>
                    <a:pt x="1100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同侧圆角矩形 32"/>
            <p:cNvSpPr/>
            <p:nvPr/>
          </p:nvSpPr>
          <p:spPr>
            <a:xfrm>
              <a:off x="204120" y="4086000"/>
              <a:ext cx="966600" cy="663480"/>
            </a:xfrm>
            <a:custGeom>
              <a:avLst/>
              <a:gdLst>
                <a:gd name="textAreaLeft" fmla="*/ 47520 w 966600"/>
                <a:gd name="textAreaRight" fmla="*/ 919080 w 966600"/>
                <a:gd name="textAreaTop" fmla="*/ 3132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658813" h="681037">
                  <a:moveTo>
                    <a:pt x="109804" y="0"/>
                  </a:moveTo>
                  <a:lnTo>
                    <a:pt x="549009" y="0"/>
                  </a:lnTo>
                  <a:lnTo>
                    <a:pt x="549008" y="0"/>
                  </a:lnTo>
                  <a:cubicBezTo>
                    <a:pt x="609652" y="0"/>
                    <a:pt x="658813" y="49160"/>
                    <a:pt x="658813" y="109804"/>
                  </a:cubicBezTo>
                  <a:lnTo>
                    <a:pt x="658813" y="681037"/>
                  </a:lnTo>
                  <a:lnTo>
                    <a:pt x="0" y="681037"/>
                  </a:lnTo>
                  <a:lnTo>
                    <a:pt x="0" y="109804"/>
                  </a:lnTo>
                  <a:cubicBezTo>
                    <a:pt x="0" y="49160"/>
                    <a:pt x="49160" y="0"/>
                    <a:pt x="1098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同侧圆角矩形 33"/>
            <p:cNvSpPr/>
            <p:nvPr/>
          </p:nvSpPr>
          <p:spPr>
            <a:xfrm>
              <a:off x="235080" y="5057640"/>
              <a:ext cx="969480" cy="660240"/>
            </a:xfrm>
            <a:custGeom>
              <a:avLst/>
              <a:gdLst>
                <a:gd name="textAreaLeft" fmla="*/ 47520 w 969480"/>
                <a:gd name="textAreaRight" fmla="*/ 921960 w 969480"/>
                <a:gd name="textAreaTop" fmla="*/ 3132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660400" h="679450">
                  <a:moveTo>
                    <a:pt x="110069" y="0"/>
                  </a:moveTo>
                  <a:lnTo>
                    <a:pt x="550331" y="0"/>
                  </a:lnTo>
                  <a:lnTo>
                    <a:pt x="550330" y="0"/>
                  </a:lnTo>
                  <a:cubicBezTo>
                    <a:pt x="611120" y="0"/>
                    <a:pt x="660400" y="49279"/>
                    <a:pt x="660400" y="110069"/>
                  </a:cubicBezTo>
                  <a:lnTo>
                    <a:pt x="660400" y="679450"/>
                  </a:lnTo>
                  <a:lnTo>
                    <a:pt x="0" y="679450"/>
                  </a:lnTo>
                  <a:lnTo>
                    <a:pt x="0" y="110069"/>
                  </a:lnTo>
                  <a:cubicBezTo>
                    <a:pt x="0" y="49279"/>
                    <a:pt x="49279" y="0"/>
                    <a:pt x="1100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同侧圆角矩形 32"/>
          <p:cNvSpPr/>
          <p:nvPr/>
        </p:nvSpPr>
        <p:spPr>
          <a:xfrm>
            <a:off x="501480" y="4167360"/>
            <a:ext cx="966960" cy="661680"/>
          </a:xfrm>
          <a:custGeom>
            <a:avLst/>
            <a:gdLst>
              <a:gd name="textAreaLeft" fmla="*/ 47160 w 966960"/>
              <a:gd name="textAreaRight" fmla="*/ 919800 w 966960"/>
              <a:gd name="textAreaTop" fmla="*/ 30960 h 661680"/>
              <a:gd name="textAreaBottom" fmla="*/ 661680 h 661680"/>
            </a:gdLst>
            <a:ahLst/>
            <a:rect l="textAreaLeft" t="textAreaTop" r="textAreaRight" b="textAreaBottom"/>
            <a:pathLst>
              <a:path w="658813" h="681037">
                <a:moveTo>
                  <a:pt x="109804" y="0"/>
                </a:moveTo>
                <a:lnTo>
                  <a:pt x="549009" y="0"/>
                </a:lnTo>
                <a:lnTo>
                  <a:pt x="549008" y="0"/>
                </a:lnTo>
                <a:cubicBezTo>
                  <a:pt x="609652" y="0"/>
                  <a:pt x="658813" y="49160"/>
                  <a:pt x="658813" y="109804"/>
                </a:cubicBezTo>
                <a:lnTo>
                  <a:pt x="658813" y="681037"/>
                </a:lnTo>
                <a:lnTo>
                  <a:pt x="0" y="681037"/>
                </a:lnTo>
                <a:lnTo>
                  <a:pt x="0" y="109804"/>
                </a:lnTo>
                <a:cubicBezTo>
                  <a:pt x="0" y="49160"/>
                  <a:pt x="49160" y="0"/>
                  <a:pt x="10980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950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备注：交易商填写好后，需寄到交易中心会员服务部加盖交易中心公章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78920" y="83628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个人交易商网银签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注意：交易商在开户申请时所提供的建设银行帐户必须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楷体"/>
              </a:rPr>
              <a:t>开通网上银行并办理网银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一：登陆建设银行网上银行后，单击图中红圈选中的“缴费支付”下的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4582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二：单击图中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贸通”下的“在线签约”，输入本交易所的商户编号：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5000001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单击商户编号前的小圆圈（如图所示），再点击进行下一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48800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9280" y="980640"/>
            <a:ext cx="8964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三：选中商户后，进行以下操作， ①在界面内的席位号填入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资金账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②在席位属性栏选择日终清算；③允许商户代理出金选“是”；④点击阅读并同意客户服务协议选项后的方框，并在弹出的协议中选择同意选项，再点击下一步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本步骤中第四行“短信通知开通”选项根据个人需要选择“是”或“否”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28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骤四：如果步骤三在短信通知开通中选择“是”，则在联系人手机号码中填入联系人的手机号码，再点击“确认”，完成在线签约，否则直接“确认”完成在线签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国建设银行签约注意事项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278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8:32:33Z</dcterms:created>
  <dc:creator>yzc</dc:creator>
  <dc:description/>
  <dc:language>en-US</dc:language>
  <cp:lastModifiedBy>User</cp:lastModifiedBy>
  <dcterms:modified xsi:type="dcterms:W3CDTF">2015-03-31T04:06:18Z</dcterms:modified>
  <cp:revision>336</cp:revision>
  <dc:subject/>
  <dc:title>请输入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