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3D0-75DD-428D-94D6-FCD16372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7BF-28E4-4EE1-A130-CDE5BA09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92F7-2EB2-4358-AEFE-5939FD56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7AD-C346-45DE-8758-5C0749EF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801-451D-44DE-99D2-415C2610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4A9-90F2-4813-9151-B8149048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0E6-E173-441D-909C-64AFAED8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13D-EB25-4903-BDC5-87ADAA27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906C-3E03-4854-809F-3D3C7F7D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AFA6-AE86-49AF-A417-925F2316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631-27A3-4B5C-861F-23482406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626-0BE0-4926-A24D-65AD08F2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FBA0-FA23-4267-BDAD-40166240A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"/>
          <p:cNvPicPr/>
          <p:nvPr/>
        </p:nvPicPr>
        <p:blipFill>
          <a:blip r:embed="rId1"/>
          <a:stretch/>
        </p:blipFill>
        <p:spPr>
          <a:xfrm>
            <a:off x="0" y="-152280"/>
            <a:ext cx="952488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2895480" y="1143000"/>
            <a:ext cx="5086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班健康活动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3733920" y="2286000"/>
            <a:ext cx="3390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认识五官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4" name="轻音乐 - 舒缓.mp3" descr=""/>
          <p:cNvPicPr/>
          <p:nvPr/>
        </p:nvPicPr>
        <p:blipFill>
          <a:blip r:embed="rId2"/>
          <a:stretch/>
        </p:blipFill>
        <p:spPr>
          <a:xfrm>
            <a:off x="1447920" y="1219320"/>
            <a:ext cx="9903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891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logo26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1523880" y="380880"/>
            <a:ext cx="5486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活动目标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培养幼儿的观察力、想象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口语表达能力。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知道人的五官的名称、位置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各自的作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2008331191293_2"/>
          <p:cNvPicPr/>
          <p:nvPr/>
        </p:nvPicPr>
        <p:blipFill>
          <a:blip r:embed="rId2"/>
          <a:stretch/>
        </p:blipFill>
        <p:spPr>
          <a:xfrm>
            <a:off x="380880" y="762120"/>
            <a:ext cx="6172200" cy="4724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5765400" y="838080"/>
            <a:ext cx="2540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照一照，我们的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上有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e6f6267e475b44ea4d7e8685e8b0bed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0" y="15228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我们的脸上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眉毛、眼睛、嘴巴、鼻子、耳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011-07-14030902-131062734205103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6100560" y="1066680"/>
            <a:ext cx="16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Arial"/>
                <a:ea typeface="黑体"/>
              </a:rPr>
              <a:t>游   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4"/>
          <p:cNvSpPr/>
          <p:nvPr/>
        </p:nvSpPr>
        <p:spPr>
          <a:xfrm rot="5400000">
            <a:off x="1713960" y="2400120"/>
            <a:ext cx="4724640" cy="1600200"/>
          </a:xfrm>
          <a:custGeom>
            <a:avLst/>
            <a:gdLst>
              <a:gd name="textAreaLeft" fmla="*/ 0 w 4724640"/>
              <a:gd name="textAreaRight" fmla="*/ 4724640 w 472464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 rot="418800">
            <a:off x="3585600" y="991080"/>
            <a:ext cx="103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请小朋友们帮我找出我的五官好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000152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990720" y="533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谢谢小朋友，我变漂亮了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wuguanzhengdiwei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80880" y="228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小朋友们，你们知道我们的本领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 rot="364800">
            <a:off x="1447920" y="380520"/>
            <a:ext cx="5562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61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61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3" name="轻音乐 - 舒缓.mp3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28913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4-03-31T07:52:1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