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73.png" ContentType="image/png"/>
  <Override PartName="/ppt/media/image57.jpeg" ContentType="image/jpeg"/>
  <Override PartName="/ppt/media/image6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jpeg" ContentType="image/jpeg"/>
  <Override PartName="/ppt/media/image56.jpeg" ContentType="image/jpeg"/>
  <Override PartName="/ppt/media/image31.png" ContentType="image/png"/>
  <Override PartName="/ppt/media/image9.png" ContentType="image/png"/>
  <Override PartName="/ppt/media/image86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8.png" ContentType="image/png"/>
  <Override PartName="/ppt/media/image85.png" ContentType="image/png"/>
  <Override PartName="/ppt/media/image41.jpeg" ContentType="image/jpeg"/>
  <Override PartName="/ppt/media/image66.png" ContentType="image/png"/>
  <Override PartName="/ppt/media/image14.jpeg" ContentType="image/jpeg"/>
  <Override PartName="/ppt/media/image16.jpeg" ContentType="image/jpeg"/>
  <Override PartName="/ppt/media/image74.png" ContentType="image/png"/>
  <Override PartName="/ppt/media/image17.jpeg" ContentType="image/jpeg"/>
  <Override PartName="/ppt/media/image26.png" ContentType="image/png"/>
  <Override PartName="/ppt/media/image20.jpeg" ContentType="image/jpeg"/>
  <Override PartName="/ppt/media/image61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4.png" ContentType="image/png"/>
  <Override PartName="/ppt/media/image11.jpeg" ContentType="image/jpeg"/>
  <Override PartName="/ppt/media/image62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8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2.png" ContentType="image/png"/>
  <Override PartName="/ppt/media/image38.jpeg" ContentType="image/jpeg"/>
  <Override PartName="/ppt/media/image70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25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36.png" ContentType="image/png"/>
  <Override PartName="/ppt/media/image8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http://www.tsingyu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812000" y="260280"/>
            <a:ext cx="72072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47640" y="198900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青越锋软件技术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2852640"/>
            <a:ext cx="36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上海青越软件有限公司</a:t>
            </a: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0796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148360" y="4292640"/>
            <a:ext cx="718920" cy="287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595008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绘图工具和快捷的绘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绘图工具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管脚、圆弧、椭圆弧、椭圆、饼圆、直线、矩形、圆边矩形、多边形、文本字符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绘图方式：如下图所示，可以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选择绘图工具；或者直接点击桌面上的工具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1904760" cy="2571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3095640" cy="581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59500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方式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429264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方式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元件（库）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库内单个元件报告产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整个库元件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2654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715000" y="3962520"/>
            <a:ext cx="2286000" cy="2260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3724200" cy="1000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rot="18825000">
            <a:off x="4595760" y="3175920"/>
            <a:ext cx="1143000" cy="123840"/>
          </a:xfrm>
          <a:prstGeom prst="rightArrow">
            <a:avLst>
              <a:gd name="adj1" fmla="val 50000"/>
              <a:gd name="adj2" fmla="val 230741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438400">
            <a:off x="4648320" y="4267080"/>
            <a:ext cx="1143000" cy="123840"/>
          </a:xfrm>
          <a:prstGeom prst="rightArrow">
            <a:avLst>
              <a:gd name="adj1" fmla="val 50000"/>
              <a:gd name="adj2" fmla="val 230741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52880" y="297180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29200" y="4343400"/>
            <a:ext cx="133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0920" y="3068640"/>
            <a:ext cx="43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原理图的编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理图设计技术指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大图纸尺寸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 X 100 i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纸最小分辨率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001m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项目最大图纸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纸层次深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支持：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的字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设备支持：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的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表输出格式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nYueFe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张图纸的最大元器件数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元件最大引脚数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库最多元件数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打开的库数量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气绘图工具：总线、总线入口、元件、节点、电源端口、导线、端口、网络标号、图纸符号、图纸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电气绘图工具：注释、文本框、圆弧、椭圆弧、椭圆、饼图、直线、矩形、圆边矩形、多边形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管脚可指定的电气类型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penCollect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i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mit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可定义的元件参数：库内元件和原理图上的元件都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成报告：元件清单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导入格式：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nYueFe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理图、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版本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导出格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nYueFe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理图、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版本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732720" y="4797360"/>
            <a:ext cx="107928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0" y="2924280"/>
            <a:ext cx="1224000" cy="4334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灵活可自定制的设计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随意拖曳自定制菜单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作区面板可根据需要固定、浮动和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3738600" cy="2649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707000" cy="32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4788000" y="5013360"/>
            <a:ext cx="17287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797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面板浮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292720" y="3068640"/>
            <a:ext cx="100800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29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工具栏拖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00720" y="501336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定制原理图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定制带有多种信息的原理图图纸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字符串功能，将信息加入到图纸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实现不同模板间的替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403280" y="306864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 flipV="1">
            <a:off x="4571640" y="5229000"/>
            <a:ext cx="1639800" cy="349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5013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模板样式多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03280" y="6021360"/>
            <a:ext cx="108108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5805360"/>
            <a:ext cx="115236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强大的编辑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do/Red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无限制，允许用户回到编辑步骤的任意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气“热点”特性，不受图纸显示比例影响，引导准确有效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功能，更易于控制电路的电气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矩阵粘贴功能使得元件的放置更加合理美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200400" cy="2187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03280" y="6021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矩阵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3818160" cy="1403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6300720" y="5084640"/>
            <a:ext cx="0" cy="6494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6000" y="5805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电气热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5950080"/>
            <a:ext cx="863640" cy="358560"/>
          </a:xfrm>
          <a:custGeom>
            <a:avLst/>
            <a:gdLst>
              <a:gd name="textAreaLeft" fmla="*/ 288000 w 863640"/>
              <a:gd name="textAreaRight" fmla="*/ 739800 w 863640"/>
              <a:gd name="textAreaTop" fmla="*/ 206640 h 358560"/>
              <a:gd name="textAreaBottom" fmla="*/ 3070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95640" y="342900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4941720"/>
            <a:ext cx="244980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先进的元件管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证设计所需元件的模型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大的库元件查询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微型浏览器中直接观察元件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354400" cy="4113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3564000" y="5157720"/>
            <a:ext cx="1863720" cy="302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4941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浏览器中直接查看元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932360" y="2971800"/>
            <a:ext cx="706320" cy="4572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查询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771640" y="4005360"/>
            <a:ext cx="2016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46530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多项目的管理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同时打开多个项目，对数目没有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现在不同项目间的文件转换，调用和互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级的设计验证和编译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30080" y="3451320"/>
            <a:ext cx="160020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187280" y="4137120"/>
            <a:ext cx="14479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87280" y="4365720"/>
            <a:ext cx="1447920" cy="3045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187280" y="4594320"/>
            <a:ext cx="1447920" cy="7617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87480" y="398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同时打开多个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796000" y="3357720"/>
            <a:ext cx="1828800" cy="2568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4859280" y="4652640"/>
            <a:ext cx="1130400" cy="1285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465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不同项目间进行文件调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海青越软件公司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青越软件有限公司是一家从事电子设计自动化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D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软件开发的专业公司，自身拥有强大的技术力量团队，公司放眼于无限发展的未来，凭借一流的经营理念，管理模式，和领先的技术优势，战略眼光，以开发推广功能强大的国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D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青越锋，作为自身坚定不移的长期发展战略。作为民族软件产业的一份子，青越人深知肩负的历史使命，凭借多年来对行业的潜心研究，凭借自己的不懈努力，青越人推出了完全自主知识产权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D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软件——青越锋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开始软件研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完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&lt;i-Design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器件信息管理系统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青越锋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初开始了市场的推广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04640"/>
            <a:ext cx="8302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上海青越软件有限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87280" y="364500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真正的多层次图纸设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“自顶向下”和“自底向上”的层次设计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层次化原理图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具有管理超大型设计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248000" cy="3516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59280" y="4076640"/>
            <a:ext cx="25351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37162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方块图实现此项目的一个层次化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427640" y="3933720"/>
            <a:ext cx="1081080" cy="35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5445000"/>
            <a:ext cx="2160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强大的编译和验证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气规则检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功能用来分析原理图中的常见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冲突点逐条列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告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错误能直接在原理图的具体位置高亮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443640" y="3357720"/>
            <a:ext cx="1720800" cy="2706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3498840" cy="2555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580000" y="4076640"/>
            <a:ext cx="83340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ERC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44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Error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呈高亮虚框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3744720" y="4831920"/>
            <a:ext cx="431640" cy="504720"/>
          </a:xfrm>
          <a:custGeom>
            <a:avLst/>
            <a:gdLst>
              <a:gd name="textAreaLeft" fmla="*/ 144000 w 431640"/>
              <a:gd name="textAreaRight" fmla="*/ 369720 w 43164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4724280"/>
            <a:ext cx="64764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0" y="5805360"/>
            <a:ext cx="252108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5805360"/>
            <a:ext cx="230364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元器件清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BO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将结果导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CS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够对数据进行分类和分组，方便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的邮件发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2319480" cy="2761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3961080" cy="2757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71640" y="58770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分类产生的详细元件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5877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支持元件清单的邮件发送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651640" y="4437000"/>
            <a:ext cx="1800000" cy="9367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与同类软件良好的兼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兼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 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导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的原理图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4237200" cy="342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651640" y="4437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读入的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rotel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图纸，实现二者良好的兼容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4724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003640" y="3522600"/>
            <a:ext cx="2895840" cy="228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2895840" cy="2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青越锋软件所绘制的原理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408720" cy="421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259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库的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独立的建库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自建元件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数没有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生成库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纸生成库文件的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步、首先导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4824720" cy="38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步、点击项目菜单中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 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Make PCB Library 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然后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3168720" cy="308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3816360" cy="30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后检查与导入的库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DO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ies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生成的库文件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2076480" cy="3311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4249800" cy="328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5373720"/>
            <a:ext cx="4824360" cy="93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越锋软件开发的原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2421000"/>
            <a:ext cx="3095640" cy="20876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0" y="35002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青越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349360"/>
            <a:ext cx="216072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2205000"/>
            <a:ext cx="2160720" cy="1440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2708280"/>
            <a:ext cx="792000" cy="649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292720" y="2708280"/>
            <a:ext cx="792000" cy="649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cc"/>
                </a:solidFill>
                <a:latin typeface="Arial"/>
              </a:rPr>
              <a:t>Protel 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</a:rPr>
              <a:t>的灵活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0400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Power PCB</a:t>
            </a: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的严谨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4581360"/>
            <a:ext cx="93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5373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青越锋软件严格控制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图质量，在规则检查开启的状态下，禁止任何违规现象的发生，保证青越锋软件所绘制出来的图纸“无懈可击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如下图所示的下拉菜单，选择所生成的库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2271600" cy="3529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1619280" y="2060640"/>
            <a:ext cx="2335320" cy="34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先进的元件管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大的查询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多引脚数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管脚的电气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元件导向器快速建立封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种绘图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48760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丰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za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导用户建立规则的元件封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下图所示，菜单栏中的下拉菜单中有 多种封装类型可供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908000" y="2852640"/>
            <a:ext cx="4427640" cy="323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42920" y="4149720"/>
            <a:ext cx="108108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71640" y="4149720"/>
            <a:ext cx="100836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4149720"/>
            <a:ext cx="108108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72360" y="31417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22050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16360" y="22050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2050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导用户建立各种封装元器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两个管脚的极性电容到几百脚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G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914560" y="2637000"/>
            <a:ext cx="1403280" cy="1396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914560" y="22759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B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403280" cy="682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1379520" cy="1401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69840" y="23248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D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14920" y="22759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SB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1042920" y="4653000"/>
            <a:ext cx="140508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042920" y="4269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2843280" y="4653000"/>
            <a:ext cx="1466640" cy="1430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843280" y="4269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4643280" y="4653000"/>
            <a:ext cx="1403640" cy="1398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43280" y="4269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S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8"/>
          <a:stretch/>
        </p:blipFill>
        <p:spPr>
          <a:xfrm>
            <a:off x="6370560" y="3645000"/>
            <a:ext cx="1406520" cy="2303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370560" y="32839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87280" y="5084640"/>
            <a:ext cx="230508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48360" y="2781360"/>
            <a:ext cx="1655640" cy="503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66800" y="5083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任意设置焊盘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6720" y="2810880"/>
            <a:ext cx="2530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设置焊盘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20080" y="1340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、手动创建元件封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3598920" cy="24847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500720" y="3860640"/>
            <a:ext cx="3600360" cy="2498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500720" y="2924280"/>
            <a:ext cx="576000" cy="215640"/>
          </a:xfrm>
          <a:prstGeom prst="leftArrow">
            <a:avLst>
              <a:gd name="adj1" fmla="val 50000"/>
              <a:gd name="adj2" fmla="val 66778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80000" y="515772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435640" y="5157720"/>
            <a:ext cx="180036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3645000"/>
            <a:ext cx="266544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1341360"/>
            <a:ext cx="252108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69000" y="5186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设置焊盘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97200" cy="25891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4716360" y="2271600"/>
            <a:ext cx="3826080" cy="26449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468360" y="4056120"/>
            <a:ext cx="3743280" cy="2608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 rot="10800000">
            <a:off x="4284360" y="5300280"/>
            <a:ext cx="934920" cy="144360"/>
          </a:xfrm>
          <a:prstGeom prst="rightArrow">
            <a:avLst>
              <a:gd name="adj1" fmla="val 50000"/>
              <a:gd name="adj2" fmla="val 161908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72040" y="1487520"/>
            <a:ext cx="904680" cy="141120"/>
          </a:xfrm>
          <a:prstGeom prst="leftArrow">
            <a:avLst>
              <a:gd name="adj1" fmla="val 50000"/>
              <a:gd name="adj2" fmla="val 160268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3789360"/>
            <a:ext cx="932040" cy="144360"/>
          </a:xfrm>
          <a:prstGeom prst="rightArrow">
            <a:avLst>
              <a:gd name="adj1" fmla="val 50000"/>
              <a:gd name="adj2" fmla="val 161409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1411920"/>
            <a:ext cx="36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设定焊盘的相对位置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83760" y="357264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焊盘外形线进行设置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5554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块的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计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层人性化：包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布线层，除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，中间的４６个信号层、内电层、混合内电层可以相互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机械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阻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阻粘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丝印层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钻孔定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例层，禁布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大板尺寸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*100 i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精度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001m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导入文件格式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 DX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版本的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文件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nYeFen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nYeFe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tel 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版本的网络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rb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量单位：公制，英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成报告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板的相关信息，板材及元器件清单、设计层次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C Dri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i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连接生成网络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焊盘类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圆形、矩形、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焊盘堆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型（所有层相同）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P—MID—BOT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型（顶层，中间层，底层可定义不同形状）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ULL ST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型（单独定义每一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孔类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通孔、盲孔和埋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走线模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任意角度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度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度、圆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边形覆铜方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度影线化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度影线化、垂直影线化、水平影线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面连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可以指定到任意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电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所有的内电层可分配到任意网络，可以多重分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板上最大元器件数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库最大元器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时打开库的数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持多图纸，多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04000" y="3357720"/>
            <a:ext cx="1728720" cy="71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方便、快捷的层堆栈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1916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布线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，其余可自定义为：信号层、内电层和混合内电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5113080" cy="3271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859280" y="3500280"/>
            <a:ext cx="108108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57336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0400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方便、快捷的增加或删除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56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越锋软件的功能模块包括以下四个部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原理图库创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：原理图的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创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B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84720" y="5805360"/>
            <a:ext cx="93528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5805360"/>
            <a:ext cx="215892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5877000"/>
            <a:ext cx="1439640" cy="5047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机械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他包括阻焊层、阻粘层、丝印层、钻孔层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ep 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层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盲孔、埋孔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3384720" cy="30402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4038480" cy="33829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V="1">
            <a:off x="1763640" y="3357720"/>
            <a:ext cx="1152720" cy="244944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5877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层属性变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8053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阻焊层、阻粘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5219640" y="3860640"/>
            <a:ext cx="1008000" cy="187200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84720" y="5805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丝印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356000" y="3284640"/>
            <a:ext cx="503280" cy="244944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24000" y="58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24000" y="5157720"/>
            <a:ext cx="1152720" cy="35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4581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2492280"/>
            <a:ext cx="107964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67280" y="256536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、图纸属性自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单位设置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Metric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捕捉网格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元件网格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电气网格：可自定义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可视网格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Do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图纸位置：自定义宽度、高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788000" y="3716280"/>
            <a:ext cx="3600360" cy="2610000"/>
            <a:chOff x="4788000" y="3716280"/>
            <a:chExt cx="3600360" cy="261000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4788000" y="3716280"/>
              <a:ext cx="3600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 txBox="1"/>
            <p:nvPr/>
          </p:nvSpPr>
          <p:spPr>
            <a:xfrm>
              <a:off x="4788000" y="3716280"/>
              <a:ext cx="3600360" cy="261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19640" y="4221000"/>
            <a:ext cx="1347480" cy="18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19640" y="4724280"/>
            <a:ext cx="133488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9640" y="5373720"/>
            <a:ext cx="133344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851280" y="5013360"/>
            <a:ext cx="2255760" cy="9367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单位切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400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捕捉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400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元件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24000" y="580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可视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9600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电气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24720" y="249228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图纸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72360" y="2997360"/>
            <a:ext cx="71280" cy="1081080"/>
          </a:xfrm>
          <a:prstGeom prst="downArrow">
            <a:avLst>
              <a:gd name="adj1" fmla="val 50000"/>
              <a:gd name="adj2" fmla="val 379167"/>
            </a:avLst>
          </a:prstGeom>
          <a:solidFill>
            <a:srgbClr val="33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740720" y="2997360"/>
            <a:ext cx="71280" cy="1081080"/>
          </a:xfrm>
          <a:prstGeom prst="downArrow">
            <a:avLst>
              <a:gd name="adj1" fmla="val 50000"/>
              <a:gd name="adj2" fmla="val 379167"/>
            </a:avLst>
          </a:prstGeom>
          <a:solidFill>
            <a:srgbClr val="33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52440" y="4905360"/>
            <a:ext cx="108108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52440" y="418608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完善的编辑器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选项设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nline D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智能推挤开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设置：单层、透明层表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与隐藏：圆弧、焊盘、过孔等显示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默认参数设置：所有参数设为默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泪滴参数设置：设置泪滴外形形式、长宽比例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059280" y="3789360"/>
            <a:ext cx="3305160" cy="2817720"/>
            <a:chOff x="3059280" y="3789360"/>
            <a:chExt cx="3305160" cy="281772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3059280" y="3789360"/>
              <a:ext cx="330516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 txBox="1"/>
            <p:nvPr/>
          </p:nvSpPr>
          <p:spPr>
            <a:xfrm>
              <a:off x="3059280" y="3789360"/>
              <a:ext cx="3305160" cy="28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476440" y="5194440"/>
            <a:ext cx="23767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52440" y="490536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智能元件推挤开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76440" y="4328640"/>
            <a:ext cx="792360" cy="18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52440" y="411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DRC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开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3860640"/>
            <a:ext cx="1152720" cy="648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27640" y="3141720"/>
            <a:ext cx="360360" cy="1429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40720" y="3068640"/>
            <a:ext cx="100800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2997360"/>
            <a:ext cx="1008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观的设计规则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种设计规则：涵盖了布线、覆铜、阻焊、助焊、电气等多种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导入和保存设计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6920" y="38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设计规则多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916360" y="2997360"/>
            <a:ext cx="4464000" cy="3335040"/>
            <a:chOff x="2916360" y="2997360"/>
            <a:chExt cx="4464000" cy="333504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2916360" y="2997360"/>
              <a:ext cx="4464000" cy="33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 txBox="1"/>
            <p:nvPr/>
          </p:nvSpPr>
          <p:spPr>
            <a:xfrm>
              <a:off x="2916360" y="2997360"/>
              <a:ext cx="4464000" cy="33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5580000" y="3213000"/>
            <a:ext cx="223200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67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优先级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63640" y="3213000"/>
            <a:ext cx="251928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2692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规则激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356000" y="3141720"/>
            <a:ext cx="358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19640" y="3141720"/>
            <a:ext cx="358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3284640"/>
            <a:ext cx="1152360" cy="2089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79640" y="4076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55640" y="5300640"/>
            <a:ext cx="2448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8000" y="3357720"/>
            <a:ext cx="115128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8000" y="4437000"/>
            <a:ext cx="1008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浏览直观、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独命名、激活或禁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设计规则的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4360" y="530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规则浏览——一目了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140360" y="2060640"/>
            <a:ext cx="3781440" cy="42386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V="1">
            <a:off x="2987640" y="2492280"/>
            <a:ext cx="1297080" cy="9352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08000" y="3357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单独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87640" y="4653000"/>
            <a:ext cx="11527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0800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Net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84720" y="2205000"/>
            <a:ext cx="151128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140360" y="4508640"/>
            <a:ext cx="936360" cy="215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835280" y="544500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5805360"/>
            <a:ext cx="3024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多重选择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了围绕元件的选择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定了选择对象进行选取的复杂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切换选择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4038840" cy="21495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835280" y="537372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选中多个元件和导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29272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过滤器使选择系统更加严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2962080" cy="3633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V="1">
            <a:off x="6443640" y="4437000"/>
            <a:ext cx="0" cy="12240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219640" y="2852640"/>
            <a:ext cx="1366920" cy="4334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458136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59280" y="508464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元件拆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快速的将摆放无规则的元器件拆分为自由图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95640" cy="19857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992400" y="4408560"/>
            <a:ext cx="4108680" cy="17128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971640" y="458136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拆分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508464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拆分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19640" y="285264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简单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1979640" y="4653000"/>
            <a:ext cx="1152720" cy="72072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427640" y="587700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5157720"/>
            <a:ext cx="2736720" cy="35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43280" y="4365720"/>
            <a:ext cx="2521080" cy="3585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3645000"/>
            <a:ext cx="158436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修改删除布线简单、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步到位拆除板上的所有导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对性的拆除某个网络上的导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对性的拆除某个管脚对上的的导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对性的拆除某个元件上的所有导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592720" cy="28418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 flipH="1">
            <a:off x="3779640" y="4006800"/>
            <a:ext cx="431640" cy="5745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708000" y="4510080"/>
            <a:ext cx="792360" cy="3603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708000" y="5086080"/>
            <a:ext cx="792360" cy="2156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3634920" y="5301720"/>
            <a:ext cx="576360" cy="5763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56000" y="364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拆除所有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4328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拆除某一网络下的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拆除某一管脚对下的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56000" y="58784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拆除某一元件下的所有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268360" y="4508640"/>
            <a:ext cx="1440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92720" y="1484280"/>
            <a:ext cx="1008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72360" y="587700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智能化推挤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回避障碍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智能移动已存在的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智能进行间距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4044960" cy="37944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 flipH="1">
            <a:off x="5003280" y="1844640"/>
            <a:ext cx="289080" cy="8636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7162560" y="4076640"/>
            <a:ext cx="145800" cy="17287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92720" y="148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DRC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开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00720" y="587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智能推挤开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3429000" cy="1003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3456000" cy="858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403280" y="443700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9564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推挤前后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059280" y="5373720"/>
            <a:ext cx="316836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绝对畅快的焊盘处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多种焊盘：方形、圆形、矩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进批处理和单处理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偏心焊盘处理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4038840" cy="21924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843280" y="537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偏心焊盘处理前后的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63640" y="2997000"/>
            <a:ext cx="65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原理图库的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292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73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68360" y="2997360"/>
            <a:ext cx="2879640" cy="345600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3456000"/>
              <a:gd name="textAreaBottom" fmla="*/ 3315600 h 3456000"/>
            </a:gdLst>
            <a:ahLst/>
            <a:rect l="textAreaLeft" t="textAreaTop" r="textAreaRight" b="textAreaBottom"/>
            <a:pathLst>
              <a:path w="21600" h="25923">
                <a:moveTo>
                  <a:pt x="3600" y="0"/>
                </a:moveTo>
                <a:arcTo wR="3600" hR="3600" stAng="16200000" swAng="-5400000"/>
                <a:lnTo>
                  <a:pt x="0" y="22323"/>
                </a:lnTo>
                <a:arcTo wR="3600" hR="3600" stAng="10800000" swAng="-5400000"/>
                <a:lnTo>
                  <a:pt x="18000" y="25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更加快捷的网络编辑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建一个新的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现有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并不同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3213000"/>
            <a:ext cx="273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lac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菜单下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命令，可完成整个网络的连接关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通过过滤器选择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可选择任意一个管脚对，进行右击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Remove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处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同网络底下，进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lace Connectio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处理，即可合并网络，网络名可自行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4263840" cy="28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64000" y="5734080"/>
            <a:ext cx="1152720" cy="35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完善的泪滴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泪滴的显示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泪滴是否进行自动校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泪滴的形状、比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对性的泪滴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2681280" cy="21207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3249720" cy="14004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36400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生成泪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042920" y="3573360"/>
            <a:ext cx="3313080" cy="28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智能覆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覆铜可放置在任意电气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连接到指定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动绘制多边形形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4537080" cy="2714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3600360" cy="30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08000" y="5589720"/>
            <a:ext cx="1656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完善的测量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量表现形式多样化：直线尺寸标注、角度尺寸标注、半径尺寸标注、数据标注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量规则严格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1333440" cy="2066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3965760" cy="3168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635280" y="5805360"/>
            <a:ext cx="93672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08000" y="558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Tab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键设置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3103560" cy="18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187280" y="436572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面向用户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形编辑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点击、拖拽移动调整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鼠标跟随放大、缩小某一区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将某一编辑对象处于“高亮度”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4403520" cy="2622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479736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87280" y="4365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某一编辑对象处于高亮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16360" y="4508640"/>
            <a:ext cx="1295280" cy="576000"/>
          </a:xfrm>
          <a:prstGeom prst="rightArrow">
            <a:avLst>
              <a:gd name="adj1" fmla="val 50000"/>
              <a:gd name="adj2" fmla="val 56219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203640" y="4869000"/>
            <a:ext cx="1800000" cy="5047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32000" y="400536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可靠的设计规则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面分析设计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告记录了违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亮放大显示违规对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在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173320" cy="40320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224000" cy="21877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 flipV="1">
            <a:off x="5219640" y="2781000"/>
            <a:ext cx="1584360" cy="136836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32000" y="40053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鼠标停留即可查看完整的错误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4941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高亮放大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19280" y="5013360"/>
            <a:ext cx="1440000" cy="216000"/>
          </a:xfrm>
          <a:prstGeom prst="leftArrow">
            <a:avLst>
              <a:gd name="adj1" fmla="val 50000"/>
              <a:gd name="adj2" fmla="val 16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71640" y="5445000"/>
            <a:ext cx="1224000" cy="432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19280" y="422100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56360" y="18446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丰富的打印输出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规则检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绘文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Ger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控钻孔文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NC Dr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插置文件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ick &amp; 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材料清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B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试点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345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732720" y="2205000"/>
            <a:ext cx="0" cy="6476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6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工程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4720" y="2924280"/>
            <a:ext cx="172728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4537080" cy="27972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2987640" y="4437000"/>
            <a:ext cx="194148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9280" y="42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材料清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40000" y="5661000"/>
            <a:ext cx="3457440" cy="5778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00000" y="54450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可收发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6165720"/>
            <a:ext cx="36036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84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对青越锋软件的支持和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11280" y="5157720"/>
            <a:ext cx="1081080" cy="3589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4149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独立的建库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用户自行建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中的元件数没有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元件的管脚数无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从原理图直接生成库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73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619280" cy="42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3530520" y="2647800"/>
            <a:ext cx="1905120" cy="137664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5373720"/>
            <a:ext cx="1655640" cy="223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01720" y="416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元器件个数无限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1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管脚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429264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设置图纸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风格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纸尺寸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A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ndscap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ortr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捕获、可视网络、颜色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059280" y="3500280"/>
            <a:ext cx="4619520" cy="252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4292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参数设置对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84360" y="3573360"/>
            <a:ext cx="1008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5013360"/>
            <a:ext cx="1008000" cy="36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强大的编辑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具有多个子件的元件创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管脚电气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种绘图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1828800" cy="2697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80000" y="3789360"/>
            <a:ext cx="1724040" cy="4348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3573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建立子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80000" y="4581000"/>
            <a:ext cx="1752480" cy="6858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013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移除子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9640" y="4005360"/>
            <a:ext cx="3240360" cy="2016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海青越软件有限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管脚电气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举例说明：针对元器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管脚的电气类型进行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1943280" cy="15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08360" y="2492280"/>
            <a:ext cx="762120" cy="304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2016360" cy="1595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3352680" cy="2890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4076640"/>
            <a:ext cx="31240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步骤：双击选中的管脚，跳出右图所示的参数设计的窗口，从电气类型选项的下拉列表中选择所需的电气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张芳向 Netboy</cp:lastModifiedBy>
  <dcterms:modified xsi:type="dcterms:W3CDTF">2009-01-20T09:27:47Z</dcterms:modified>
  <cp:revision>59</cp:revision>
  <dc:subject/>
  <dc:title>PowerPoint Template</dc:title>
</cp:coreProperties>
</file>