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AMERA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WHOOSH.WAV" ContentType="audio/x-wav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377-05EE-4B5D-973F-E63542D1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1FF-2D6A-4050-BB1E-C905933E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7C4-7C8D-4E04-A64C-B0BDB40D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C67-ACA9-4944-8F67-F9911BB3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8821-F735-448E-80CF-A58B396B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1AB6-BF13-4AF7-8D4F-6DFB5AB6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1182-69D2-46F2-98AB-C0433317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A314-6DDA-4F8F-AF04-51050DB0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C070-4158-4A1A-BD76-F4DB3198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92B4-7604-4B0A-ADA2-0236331F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BA4D-0524-4C29-9633-8FABF9B8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ECA-BBEE-4F31-A5FE-EB8361B6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71B9-71F4-4D4E-8BB7-F7500CD1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D227-E2E9-4072-A18F-DD122301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4C61-6748-4517-9F37-C1DFBA16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FB6B-6FA3-4C66-99B1-2E5C259C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8695-B973-40A9-8BB9-F3A0845C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890-4689-4498-8813-20ED2461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635-3635-45F0-B835-D7FC282B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C6B-57DE-4E67-BE94-E2C9DB6B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296-F5C0-4789-88B3-3B358B28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7CB-F16A-4D1D-86E1-472B3963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C8B-8387-4C73-9EF2-D499BAC8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956-5EC4-40A3-BD65-38628CCD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5B28-14C3-4011-B18B-93B508DE287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8BD3-497F-4CA0-8365-EEEFBA7ECB0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wmf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D:\TC\TC.EXE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4.xml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4.xml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5472"/>
                </a:solidFill>
                <a:latin typeface="隶书"/>
                <a:ea typeface="隶书"/>
              </a:rPr>
              <a:t>结构体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33000" y="1030320"/>
            <a:ext cx="6875640" cy="25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45472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结构体是一种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构造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数据类型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45472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用途：把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不同类型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的数据组合成一个整体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------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自定义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数据类型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结构体类型说明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180600" y="3827520"/>
            <a:ext cx="2268360" cy="19234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  </a:t>
            </a:r>
            <a:r>
              <a:rPr b="0" lang="en-US" sz="2000" spc="-1" strike="noStrike">
                <a:solidFill>
                  <a:srgbClr val="9797b7"/>
                </a:solidFill>
                <a:latin typeface="Times New Roman"/>
              </a:rPr>
              <a:t> [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结构体名</a:t>
            </a:r>
            <a:r>
              <a:rPr b="0" lang="en-US" sz="2000" spc="-1" strike="noStrike">
                <a:solidFill>
                  <a:srgbClr val="9797b7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94200" y="4559040"/>
            <a:ext cx="1461240" cy="825840"/>
          </a:xfrm>
          <a:prstGeom prst="wedgeRectCallout">
            <a:avLst>
              <a:gd name="adj1" fmla="val -121328"/>
              <a:gd name="adj2" fmla="val -20416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成员类型可以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基本型或构造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970160"/>
            <a:ext cx="2266920" cy="825840"/>
          </a:xfrm>
          <a:prstGeom prst="wedgeRectCallout">
            <a:avLst>
              <a:gd name="adj1" fmla="val 62111"/>
              <a:gd name="adj2" fmla="val -146074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struct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是</a:t>
            </a:r>
            <a:r>
              <a:rPr b="0" lang="en-US" sz="2400" spc="-1" strike="noStrike">
                <a:solidFill>
                  <a:srgbClr val="660066"/>
                </a:solidFill>
                <a:latin typeface="隶书"/>
                <a:ea typeface="隶书"/>
              </a:rPr>
              <a:t>关键字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不能省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44080" y="3141360"/>
            <a:ext cx="1692720" cy="825840"/>
          </a:xfrm>
          <a:prstGeom prst="wedgeRectCallout">
            <a:avLst>
              <a:gd name="adj1" fmla="val -170921"/>
              <a:gd name="adj2" fmla="val 33787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合法标识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可省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: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隶书"/>
              </a:rPr>
              <a:t>无名结构体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51000" y="571680"/>
            <a:ext cx="8389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67520" y="1227240"/>
            <a:ext cx="2518200" cy="19234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结构体变量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={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初始数据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26280" y="3521160"/>
            <a:ext cx="7613280" cy="26542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  int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addr[3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1={112,“Wang Lin”,‘M’,19, “200 Beijing Road”}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93760" y="768240"/>
            <a:ext cx="4357440" cy="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结构体变量的初始化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形式三：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12720" y="812520"/>
            <a:ext cx="853128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结构体数组的定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三种形式：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701640" y="1844280"/>
            <a:ext cx="3029040" cy="30200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形式一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stud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int 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student   stu[2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5320" y="2301840"/>
            <a:ext cx="3029040" cy="26542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形式二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stud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int 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[2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5320" y="2835360"/>
            <a:ext cx="3029040" cy="26542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形式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int 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[2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409720" y="1295280"/>
            <a:ext cx="3060360" cy="4800600"/>
            <a:chOff x="5409720" y="1295280"/>
            <a:chExt cx="3060360" cy="4800600"/>
          </a:xfrm>
        </p:grpSpPr>
        <p:sp>
          <p:nvSpPr>
            <p:cNvPr id="224" name=""/>
            <p:cNvSpPr/>
            <p:nvPr/>
          </p:nvSpPr>
          <p:spPr>
            <a:xfrm>
              <a:off x="5943600" y="1295280"/>
              <a:ext cx="1523880" cy="48006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3600" y="1752480"/>
              <a:ext cx="152388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2133360"/>
              <a:ext cx="152388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43600" y="2666880"/>
              <a:ext cx="152388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43600" y="3047760"/>
              <a:ext cx="152388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43600" y="3429000"/>
              <a:ext cx="152388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23040" y="175140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num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75880" y="218340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81000" y="261504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ex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73440" y="30470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943600" y="3427920"/>
              <a:ext cx="1523880" cy="1693800"/>
              <a:chOff x="5943600" y="3427920"/>
              <a:chExt cx="1523880" cy="1693800"/>
            </a:xfrm>
          </p:grpSpPr>
          <p:sp>
            <p:nvSpPr>
              <p:cNvPr id="235" name=""/>
              <p:cNvSpPr/>
              <p:nvPr/>
            </p:nvSpPr>
            <p:spPr>
              <a:xfrm>
                <a:off x="5943600" y="380952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43600" y="434304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943600" y="472392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943600" y="510516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23040" y="342792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num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5880" y="3859200"/>
                <a:ext cx="73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381000" y="4291200"/>
                <a:ext cx="52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sex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373440" y="472284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7467480" y="1752480"/>
              <a:ext cx="228600" cy="16765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67480" y="3429000"/>
              <a:ext cx="228600" cy="16761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93560" y="236124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tu[0]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93560" y="403740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tu[1]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714640" y="1752480"/>
              <a:ext cx="2286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714640" y="3429000"/>
              <a:ext cx="2286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90960" y="2819160"/>
              <a:ext cx="0" cy="60984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790960" y="1752480"/>
              <a:ext cx="0" cy="53352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09720" y="22849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25B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-360" y="1087560"/>
            <a:ext cx="40971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结构体数组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4" dur="1" fill="hold"/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30240" y="2225880"/>
            <a:ext cx="4830480" cy="22885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int 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[ ]={{……},{……},{……}}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066680"/>
            <a:ext cx="7772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结构体数组引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16002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引用方式：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结构体数组名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[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下标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]</a:t>
            </a:r>
            <a:r>
              <a:rPr b="0" lang="en-US" sz="3200" spc="-1" strike="noStrike">
                <a:solidFill>
                  <a:srgbClr val="c7c7df"/>
                </a:solidFill>
                <a:latin typeface="Times New Roman"/>
                <a:ea typeface="宋体"/>
              </a:rPr>
              <a:t>.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成员名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311120" y="2379960"/>
            <a:ext cx="6887880" cy="2483280"/>
            <a:chOff x="1311120" y="2379960"/>
            <a:chExt cx="6887880" cy="2483280"/>
          </a:xfrm>
        </p:grpSpPr>
        <p:sp>
          <p:nvSpPr>
            <p:cNvPr id="257" name=""/>
            <p:cNvSpPr/>
            <p:nvPr/>
          </p:nvSpPr>
          <p:spPr>
            <a:xfrm>
              <a:off x="1311120" y="2574720"/>
              <a:ext cx="3029040" cy="2288520"/>
            </a:xfrm>
            <a:prstGeom prst="rect">
              <a:avLst/>
            </a:prstGeom>
            <a:solidFill>
              <a:srgbClr val="eb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struct  student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{     int  num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char name[20]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char sex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int age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}str[3]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39040" y="2379960"/>
              <a:ext cx="1551240" cy="399240"/>
            </a:xfrm>
            <a:prstGeom prst="wedgeRectCallout">
              <a:avLst>
                <a:gd name="adj1" fmla="val -91643"/>
                <a:gd name="adj2" fmla="val 165041"/>
              </a:avLst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</a:rPr>
                <a:t>stu[1].age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++;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30840" y="4284720"/>
              <a:ext cx="3368160" cy="399240"/>
            </a:xfrm>
            <a:prstGeom prst="wedgeRectCallout">
              <a:avLst>
                <a:gd name="adj1" fmla="val -73703"/>
                <a:gd name="adj2" fmla="val -183060"/>
              </a:avLst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trcpy(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</a:rPr>
                <a:t>stu[0].name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,”ZhaoDa”);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30000" y="1179360"/>
            <a:ext cx="38732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结构体数组初始化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424160" y="301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3640" y="918360"/>
            <a:ext cx="6906240" cy="558036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truct pers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{   char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nt count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}leader[3]={“Li”,0,“Zhang”,0,”Wang“,0}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,j;  char   leader_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for(i=1;i&lt;=10;i++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scanf("%s",leader_name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for(j=0;j&lt;3;j++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strcmp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(leader_name,leader[j].name)==0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leader[j].count++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or(i=0;i&lt;3;i++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intf("%5s:%d\n",leader[i].name,leader[i].count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553080" y="1066680"/>
            <a:ext cx="2286000" cy="1812960"/>
            <a:chOff x="6553080" y="1066680"/>
            <a:chExt cx="2286000" cy="1812960"/>
          </a:xfrm>
        </p:grpSpPr>
        <p:sp>
          <p:nvSpPr>
            <p:cNvPr id="264" name=""/>
            <p:cNvSpPr/>
            <p:nvPr/>
          </p:nvSpPr>
          <p:spPr>
            <a:xfrm>
              <a:off x="6553080" y="1066680"/>
              <a:ext cx="2286000" cy="181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53080" y="1488960"/>
              <a:ext cx="2286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26320" y="1066680"/>
              <a:ext cx="0" cy="1812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39560" y="112716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74000" y="11271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count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27680" y="156204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L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26240" y="2013120"/>
              <a:ext cx="83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Zhang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26240" y="2467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Wang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037000" y="1549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037000" y="2003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37000" y="2457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1060920" y="343080"/>
            <a:ext cx="76201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例  统计侯选人选票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68280" y="306000"/>
            <a:ext cx="854712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指向结构体变量的指针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定义形式：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truct 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结构体名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结构体指针名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例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truct  student  *p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2286000"/>
            <a:ext cx="854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使用结构体指针变量引用成员形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67040" y="2303640"/>
            <a:ext cx="2924280" cy="460080"/>
          </a:xfrm>
          <a:prstGeom prst="wedgeRectCallout">
            <a:avLst>
              <a:gd name="adj1" fmla="val -7805"/>
              <a:gd name="adj2" fmla="val -164930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存放结构体变量在内存的起始地址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537560" y="2286000"/>
            <a:ext cx="6705720" cy="4191120"/>
            <a:chOff x="1537560" y="2286000"/>
            <a:chExt cx="6705720" cy="4191120"/>
          </a:xfrm>
        </p:grpSpPr>
        <p:grpSp>
          <p:nvGrpSpPr>
            <p:cNvPr id="280" name=""/>
            <p:cNvGrpSpPr/>
            <p:nvPr/>
          </p:nvGrpSpPr>
          <p:grpSpPr>
            <a:xfrm>
              <a:off x="5028840" y="2286000"/>
              <a:ext cx="3214440" cy="4191120"/>
              <a:chOff x="5028840" y="2286000"/>
              <a:chExt cx="3214440" cy="4191120"/>
            </a:xfrm>
          </p:grpSpPr>
          <p:sp>
            <p:nvSpPr>
              <p:cNvPr id="281" name=""/>
              <p:cNvSpPr/>
              <p:nvPr/>
            </p:nvSpPr>
            <p:spPr>
              <a:xfrm>
                <a:off x="5867280" y="2286000"/>
                <a:ext cx="1523880" cy="4191120"/>
              </a:xfrm>
              <a:prstGeom prst="foldedCorner">
                <a:avLst>
                  <a:gd name="adj" fmla="val 12500"/>
                </a:avLst>
              </a:prstGeom>
              <a:noFill/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67280" y="268488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67280" y="301788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67280" y="348336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67280" y="381600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67280" y="414864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6720" y="265968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num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99920" y="3035880"/>
                <a:ext cx="73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04680" y="3413520"/>
                <a:ext cx="52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sex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97120" y="378972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867280" y="448128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67280" y="481392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867280" y="514656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67280" y="5479200"/>
                <a:ext cx="15238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91160" y="2684880"/>
                <a:ext cx="228600" cy="146340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8160 h 1463400"/>
                  <a:gd name="textAreaBottom" fmla="*/ 1425240 h 146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765200" y="3190680"/>
                <a:ext cx="47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stu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10080" y="2684880"/>
                <a:ext cx="45720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028840" y="2459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1537560" y="2301840"/>
              <a:ext cx="3280680" cy="2654280"/>
            </a:xfrm>
            <a:prstGeom prst="rect">
              <a:avLst/>
            </a:prstGeom>
            <a:solidFill>
              <a:srgbClr val="eb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struct  student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{     int  num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char name[20]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char sex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int age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}stu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struct  student   *p=&amp;stu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-720360" y="2894400"/>
            <a:ext cx="9466560" cy="398880"/>
            <a:chOff x="-720360" y="2894400"/>
            <a:chExt cx="9466560" cy="398880"/>
          </a:xfrm>
        </p:grpSpPr>
        <p:sp>
          <p:nvSpPr>
            <p:cNvPr id="301" name=""/>
            <p:cNvSpPr/>
            <p:nvPr/>
          </p:nvSpPr>
          <p:spPr>
            <a:xfrm>
              <a:off x="3105360" y="2971800"/>
              <a:ext cx="468360" cy="153720"/>
            </a:xfrm>
            <a:prstGeom prst="leftRightArrow">
              <a:avLst>
                <a:gd name="adj1" fmla="val 50000"/>
                <a:gd name="adj2" fmla="val 60654"/>
              </a:avLst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-720360" y="2894400"/>
              <a:ext cx="346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3" marL="13716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  <a:ea typeface="宋体"/>
                </a:rPr>
                <a:t>(*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  <a:ea typeface="宋体"/>
                </a:rPr>
                <a:t>结构体指针名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  <a:ea typeface="宋体"/>
                </a:rPr>
                <a:t>).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  <a:ea typeface="宋体"/>
                </a:rPr>
                <a:t>成员名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83320" y="2894400"/>
              <a:ext cx="190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结构体指针名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-&gt;</a:t>
              </a: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成员名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77160" y="2971800"/>
              <a:ext cx="533160" cy="152280"/>
            </a:xfrm>
            <a:prstGeom prst="leftRightArrow">
              <a:avLst>
                <a:gd name="adj1" fmla="val 50000"/>
                <a:gd name="adj2" fmla="val 69699"/>
              </a:avLst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08120" y="2894400"/>
              <a:ext cx="17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结构体变量名</a:t>
              </a: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.</a:t>
              </a: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成员名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158280" y="3674520"/>
            <a:ext cx="1827000" cy="1191600"/>
          </a:xfrm>
          <a:prstGeom prst="wedgeRectCallout">
            <a:avLst>
              <a:gd name="adj1" fmla="val 58666"/>
              <a:gd name="adj2" fmla="val -88171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指向运算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优先级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 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结合方向：从左向右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028840" y="3352680"/>
          <a:ext cx="609480" cy="590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8840" y="3352680"/>
                    <a:ext cx="6094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505880" y="342900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指向结构体的指针变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15640" y="2871360"/>
            <a:ext cx="3103920" cy="1191240"/>
          </a:xfrm>
          <a:prstGeom prst="rect">
            <a:avLst/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   n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  *p=&amp;n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p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=10;      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n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=1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34840" y="2890440"/>
            <a:ext cx="4444560" cy="1191240"/>
          </a:xfrm>
          <a:prstGeom prst="rect">
            <a:avLst/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  student      stu1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  student      *p=&amp;stu1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tu1.nu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=101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;  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*p).nu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=10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17680" y="46944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结构体和指针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6" name="CAMERA.WAV"/>
      </p:stSnd>
    </p:sndAc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61800" y="1409400"/>
            <a:ext cx="84441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用结构体变量的成员作参数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----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值传递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用指向结构体变量或数组的指针作参数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----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地址传递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用结构体变量作参数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----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多值传递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，效率低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用指向结构体的指针作函数参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-3960" y="1007640"/>
            <a:ext cx="7713720" cy="55825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truct da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{   int a, b, c; }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{ 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void func(struct data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struct data arg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arg.a=27;   arg.b=3;    arg.c=arg.a+arg.b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arg.a=%d arg.b=%d arg.c=%d\n",arg.a,arg.b,arg.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Call Func()....\n"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unc(arg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arg.a=%d arg.b=%d arg.c=%d\n",arg.a,arg.b,arg.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void func(struct data parm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{   printf("parm.a=%d parm.b=%d parm.c=%d\n",parm.a,parm.b,parm.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Process...\n"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arm.a=18;     parm.b=5;    parm.c=parm.a*parm.b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parm.a=%d parm.b=%d parm.c=%d\n",parm.a,parm.b,parm.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Return...\n"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553080" y="228600"/>
            <a:ext cx="2303640" cy="3429000"/>
            <a:chOff x="6553080" y="228600"/>
            <a:chExt cx="2303640" cy="3429000"/>
          </a:xfrm>
        </p:grpSpPr>
        <p:grpSp>
          <p:nvGrpSpPr>
            <p:cNvPr id="317" name=""/>
            <p:cNvGrpSpPr/>
            <p:nvPr/>
          </p:nvGrpSpPr>
          <p:grpSpPr>
            <a:xfrm>
              <a:off x="8089920" y="590400"/>
              <a:ext cx="569520" cy="660600"/>
              <a:chOff x="8089920" y="590400"/>
              <a:chExt cx="569520" cy="660600"/>
            </a:xfrm>
          </p:grpSpPr>
          <p:sp>
            <p:nvSpPr>
              <p:cNvPr id="318" name=""/>
              <p:cNvSpPr/>
              <p:nvPr/>
            </p:nvSpPr>
            <p:spPr>
              <a:xfrm>
                <a:off x="8089920" y="590400"/>
                <a:ext cx="139680" cy="66060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16920 h 660600"/>
                  <a:gd name="textAreaBottom" fmla="*/ 643680 h 66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152560" y="68976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rg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6566040" y="228600"/>
              <a:ext cx="1523880" cy="3429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66040" y="67284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66040" y="92844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53080" y="120492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53080" y="1484280"/>
              <a:ext cx="15242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922080" y="608400"/>
              <a:ext cx="683640" cy="973800"/>
              <a:chOff x="6922080" y="608400"/>
              <a:chExt cx="683640" cy="973800"/>
            </a:xfrm>
          </p:grpSpPr>
          <p:sp>
            <p:nvSpPr>
              <p:cNvPr id="326" name=""/>
              <p:cNvSpPr/>
              <p:nvPr/>
            </p:nvSpPr>
            <p:spPr>
              <a:xfrm>
                <a:off x="6922080" y="6084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27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978960" y="89568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3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922080" y="118332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3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6855840" y="28008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6553080" y="1722600"/>
              <a:ext cx="2303640" cy="1394280"/>
              <a:chOff x="6553080" y="1722600"/>
              <a:chExt cx="2303640" cy="1394280"/>
            </a:xfrm>
          </p:grpSpPr>
          <p:sp>
            <p:nvSpPr>
              <p:cNvPr id="331" name=""/>
              <p:cNvSpPr/>
              <p:nvPr/>
            </p:nvSpPr>
            <p:spPr>
              <a:xfrm>
                <a:off x="6566040" y="2187360"/>
                <a:ext cx="152388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553080" y="2476080"/>
                <a:ext cx="1524240" cy="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566040" y="2764440"/>
                <a:ext cx="1523880" cy="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553080" y="3075120"/>
                <a:ext cx="152424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960240" y="1722600"/>
                <a:ext cx="80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(func)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077320" y="2176560"/>
                <a:ext cx="139680" cy="87084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22680 h 870840"/>
                  <a:gd name="textAreaBottom" fmla="*/ 848160 h 870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151840" y="239904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parm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7009200" y="2097000"/>
                <a:ext cx="683640" cy="1019880"/>
                <a:chOff x="7009200" y="2097000"/>
                <a:chExt cx="683640" cy="10198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7009200" y="2097000"/>
                  <a:ext cx="68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a :27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066080" y="2409840"/>
                  <a:ext cx="57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b: 3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009200" y="2718000"/>
                  <a:ext cx="68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c :30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2" name=""/>
          <p:cNvGrpSpPr/>
          <p:nvPr/>
        </p:nvGrpSpPr>
        <p:grpSpPr>
          <a:xfrm>
            <a:off x="6375240" y="838080"/>
            <a:ext cx="203400" cy="2133720"/>
            <a:chOff x="6375240" y="838080"/>
            <a:chExt cx="203400" cy="2133720"/>
          </a:xfrm>
        </p:grpSpPr>
        <p:sp>
          <p:nvSpPr>
            <p:cNvPr id="343" name=""/>
            <p:cNvSpPr/>
            <p:nvPr/>
          </p:nvSpPr>
          <p:spPr>
            <a:xfrm>
              <a:off x="6375240" y="838080"/>
              <a:ext cx="177840" cy="1523880"/>
            </a:xfrm>
            <a:prstGeom prst="pie">
              <a:avLst/>
            </a:prstGeom>
            <a:noFill/>
            <a:ln w="3816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1143000"/>
              <a:ext cx="177840" cy="1523880"/>
            </a:xfrm>
            <a:prstGeom prst="pie">
              <a:avLst/>
            </a:pr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1447560"/>
              <a:ext cx="177840" cy="15242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096160" y="1381680"/>
            <a:ext cx="1276560" cy="1283760"/>
          </a:xfrm>
          <a:prstGeom prst="irregularSeal1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copy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6553080" y="228600"/>
            <a:ext cx="2303640" cy="3809880"/>
            <a:chOff x="6553080" y="228600"/>
            <a:chExt cx="2303640" cy="3809880"/>
          </a:xfrm>
        </p:grpSpPr>
        <p:grpSp>
          <p:nvGrpSpPr>
            <p:cNvPr id="348" name=""/>
            <p:cNvGrpSpPr/>
            <p:nvPr/>
          </p:nvGrpSpPr>
          <p:grpSpPr>
            <a:xfrm>
              <a:off x="8089920" y="714240"/>
              <a:ext cx="568800" cy="885960"/>
              <a:chOff x="8089920" y="714240"/>
              <a:chExt cx="568800" cy="885960"/>
            </a:xfrm>
          </p:grpSpPr>
          <p:sp>
            <p:nvSpPr>
              <p:cNvPr id="349" name=""/>
              <p:cNvSpPr/>
              <p:nvPr/>
            </p:nvSpPr>
            <p:spPr>
              <a:xfrm>
                <a:off x="8089920" y="714240"/>
                <a:ext cx="139320" cy="885960"/>
              </a:xfrm>
              <a:custGeom>
                <a:avLst/>
                <a:gdLst>
                  <a:gd name="textAreaLeft" fmla="*/ 0 w 139320"/>
                  <a:gd name="textAreaRight" fmla="*/ 50400 w 139320"/>
                  <a:gd name="textAreaTop" fmla="*/ 23040 h 885960"/>
                  <a:gd name="textAreaBottom" fmla="*/ 862920 h 88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151840" y="91332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rg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6565680" y="228600"/>
              <a:ext cx="1524240" cy="38098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65680" y="639720"/>
              <a:ext cx="15242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65680" y="87624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553080" y="113184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53080" y="139068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6921720" y="565560"/>
              <a:ext cx="683640" cy="933840"/>
              <a:chOff x="6921720" y="565560"/>
              <a:chExt cx="683640" cy="933840"/>
            </a:xfrm>
          </p:grpSpPr>
          <p:sp>
            <p:nvSpPr>
              <p:cNvPr id="357" name=""/>
              <p:cNvSpPr/>
              <p:nvPr/>
            </p:nvSpPr>
            <p:spPr>
              <a:xfrm>
                <a:off x="6921720" y="56556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27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978600" y="83412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3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21720" y="110052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3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855840" y="26244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6553080" y="1827720"/>
              <a:ext cx="2303640" cy="1411560"/>
              <a:chOff x="6553080" y="1827720"/>
              <a:chExt cx="2303640" cy="1411560"/>
            </a:xfrm>
          </p:grpSpPr>
          <p:sp>
            <p:nvSpPr>
              <p:cNvPr id="362" name=""/>
              <p:cNvSpPr/>
              <p:nvPr/>
            </p:nvSpPr>
            <p:spPr>
              <a:xfrm>
                <a:off x="6566040" y="2297160"/>
                <a:ext cx="152388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553080" y="2590920"/>
                <a:ext cx="1524240" cy="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66040" y="2884320"/>
                <a:ext cx="1523880" cy="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553080" y="3200400"/>
                <a:ext cx="152424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960240" y="1827720"/>
                <a:ext cx="80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(func)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077320" y="2286000"/>
                <a:ext cx="139680" cy="88596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23040 h 885960"/>
                  <a:gd name="textAreaBottom" fmla="*/ 862920 h 88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151840" y="251352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parm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7009200" y="2208600"/>
                <a:ext cx="683640" cy="1030680"/>
                <a:chOff x="7009200" y="2208600"/>
                <a:chExt cx="683640" cy="103068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7009200" y="2208600"/>
                  <a:ext cx="68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a :</a:t>
                  </a: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8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066080" y="2524680"/>
                  <a:ext cx="57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b: </a:t>
                  </a: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009200" y="2840400"/>
                  <a:ext cx="68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c :</a:t>
                  </a: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90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3" name=""/>
          <p:cNvGrpSpPr/>
          <p:nvPr/>
        </p:nvGrpSpPr>
        <p:grpSpPr>
          <a:xfrm>
            <a:off x="6553080" y="228600"/>
            <a:ext cx="2106000" cy="2819160"/>
            <a:chOff x="6553080" y="228600"/>
            <a:chExt cx="2106000" cy="2819160"/>
          </a:xfrm>
        </p:grpSpPr>
        <p:grpSp>
          <p:nvGrpSpPr>
            <p:cNvPr id="374" name=""/>
            <p:cNvGrpSpPr/>
            <p:nvPr/>
          </p:nvGrpSpPr>
          <p:grpSpPr>
            <a:xfrm>
              <a:off x="8089560" y="714240"/>
              <a:ext cx="569520" cy="885960"/>
              <a:chOff x="8089560" y="714240"/>
              <a:chExt cx="569520" cy="885960"/>
            </a:xfrm>
          </p:grpSpPr>
          <p:sp>
            <p:nvSpPr>
              <p:cNvPr id="375" name=""/>
              <p:cNvSpPr/>
              <p:nvPr/>
            </p:nvSpPr>
            <p:spPr>
              <a:xfrm>
                <a:off x="8089560" y="714240"/>
                <a:ext cx="139680" cy="88596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23040 h 885960"/>
                  <a:gd name="textAreaBottom" fmla="*/ 862920 h 88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152200" y="91332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rg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6565680" y="228600"/>
              <a:ext cx="1523880" cy="28191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65680" y="71424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65680" y="99360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53080" y="129528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53080" y="160020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921720" y="662400"/>
              <a:ext cx="683640" cy="1030680"/>
              <a:chOff x="6921720" y="662400"/>
              <a:chExt cx="683640" cy="103068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1720" y="6624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27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978600" y="97848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3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21720" y="12942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3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6855480" y="30384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553080" y="228600"/>
            <a:ext cx="2106000" cy="3124080"/>
            <a:chOff x="6553080" y="228600"/>
            <a:chExt cx="2106000" cy="3124080"/>
          </a:xfrm>
        </p:grpSpPr>
        <p:sp>
          <p:nvSpPr>
            <p:cNvPr id="388" name=""/>
            <p:cNvSpPr/>
            <p:nvPr/>
          </p:nvSpPr>
          <p:spPr>
            <a:xfrm>
              <a:off x="8089560" y="714240"/>
              <a:ext cx="139680" cy="885960"/>
            </a:xfrm>
            <a:custGeom>
              <a:avLst/>
              <a:gdLst>
                <a:gd name="textAreaLeft" fmla="*/ 0 w 139680"/>
                <a:gd name="textAreaRight" fmla="*/ 50400 w 139680"/>
                <a:gd name="textAreaTop" fmla="*/ 23040 h 885960"/>
                <a:gd name="textAreaBottom" fmla="*/ 862920 h 88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52200" y="91332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arg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65680" y="228600"/>
              <a:ext cx="1523880" cy="3124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65680" y="71424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65680" y="99360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129528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3080" y="160020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6921720" y="662400"/>
              <a:ext cx="683640" cy="1030680"/>
              <a:chOff x="6921720" y="662400"/>
              <a:chExt cx="683640" cy="1030680"/>
            </a:xfrm>
          </p:grpSpPr>
          <p:sp>
            <p:nvSpPr>
              <p:cNvPr id="396" name=""/>
              <p:cNvSpPr/>
              <p:nvPr/>
            </p:nvSpPr>
            <p:spPr>
              <a:xfrm>
                <a:off x="6921720" y="6624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27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78600" y="97848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3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21720" y="12942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3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6855480" y="30384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000080" y="36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464040" y="455400"/>
            <a:ext cx="7620120" cy="5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例  用结构体变量作函数参数（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5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-7200" y="1007640"/>
            <a:ext cx="8701560" cy="55825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truct da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{   int a, b, c; }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{ 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void func(struct data  *parm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struct data arg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arg.a=27;   arg.b=3;    arg.c=arg.a+arg.b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arg.a=%d arg.b=%d arg.c=%d\n",arg.a,arg.b,arg.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Call Func()....\n"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unc(&amp;arg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arg.a=%d arg.b=%d arg.c=%d\n",arg.a,arg.b,arg.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void func(struct data  *parm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{   printf("parm-&gt;a=%d parm-&gt;b=%d parm-&gt;c=%d\n",parm-&gt;a,parm-&gt;b,parm-&gt;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Process...\n"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arm-&gt;a=18;     parm-&gt;b=5;    parm-&gt;c=parm-&gt;a*parm-&gt;b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parm-&gt;a=%d parm-&gt;b=%d parm-&gt;c=%d\n",parm-&gt;a,parm-&gt;b,parm-&gt;c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rintf("Return...\n")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534000" y="343080"/>
            <a:ext cx="2106000" cy="2819160"/>
            <a:chOff x="6534000" y="343080"/>
            <a:chExt cx="2106000" cy="2819160"/>
          </a:xfrm>
        </p:grpSpPr>
        <p:grpSp>
          <p:nvGrpSpPr>
            <p:cNvPr id="404" name=""/>
            <p:cNvGrpSpPr/>
            <p:nvPr/>
          </p:nvGrpSpPr>
          <p:grpSpPr>
            <a:xfrm>
              <a:off x="8070480" y="828720"/>
              <a:ext cx="569520" cy="885960"/>
              <a:chOff x="8070480" y="828720"/>
              <a:chExt cx="569520" cy="885960"/>
            </a:xfrm>
          </p:grpSpPr>
          <p:sp>
            <p:nvSpPr>
              <p:cNvPr id="405" name=""/>
              <p:cNvSpPr/>
              <p:nvPr/>
            </p:nvSpPr>
            <p:spPr>
              <a:xfrm>
                <a:off x="8070480" y="828720"/>
                <a:ext cx="139680" cy="88596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23040 h 885960"/>
                  <a:gd name="textAreaBottom" fmla="*/ 862920 h 88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133120" y="102780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rg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6546600" y="343080"/>
              <a:ext cx="1523880" cy="28191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46600" y="82872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46600" y="110808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34000" y="140976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34000" y="171468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902640" y="776880"/>
              <a:ext cx="683640" cy="1030680"/>
              <a:chOff x="6902640" y="776880"/>
              <a:chExt cx="683640" cy="1030680"/>
            </a:xfrm>
          </p:grpSpPr>
          <p:sp>
            <p:nvSpPr>
              <p:cNvPr id="413" name=""/>
              <p:cNvSpPr/>
              <p:nvPr/>
            </p:nvSpPr>
            <p:spPr>
              <a:xfrm>
                <a:off x="6902640" y="77688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18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959520" y="109296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902640" y="140868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9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6836400" y="41832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572160" y="380880"/>
            <a:ext cx="2106000" cy="3124080"/>
            <a:chOff x="6572160" y="380880"/>
            <a:chExt cx="2106000" cy="3124080"/>
          </a:xfrm>
        </p:grpSpPr>
        <p:sp>
          <p:nvSpPr>
            <p:cNvPr id="418" name=""/>
            <p:cNvSpPr/>
            <p:nvPr/>
          </p:nvSpPr>
          <p:spPr>
            <a:xfrm>
              <a:off x="8108640" y="866520"/>
              <a:ext cx="139680" cy="885960"/>
            </a:xfrm>
            <a:custGeom>
              <a:avLst/>
              <a:gdLst>
                <a:gd name="textAreaLeft" fmla="*/ 0 w 139680"/>
                <a:gd name="textAreaRight" fmla="*/ 50400 w 139680"/>
                <a:gd name="textAreaTop" fmla="*/ 23040 h 885960"/>
                <a:gd name="textAreaBottom" fmla="*/ 862920 h 88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171280" y="106560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arg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84760" y="380880"/>
              <a:ext cx="1523880" cy="3124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84760" y="86652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84760" y="114588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72160" y="144756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72160" y="175248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6940800" y="814680"/>
              <a:ext cx="683640" cy="1030680"/>
              <a:chOff x="6940800" y="814680"/>
              <a:chExt cx="683640" cy="1030680"/>
            </a:xfrm>
          </p:grpSpPr>
          <p:sp>
            <p:nvSpPr>
              <p:cNvPr id="426" name=""/>
              <p:cNvSpPr/>
              <p:nvPr/>
            </p:nvSpPr>
            <p:spPr>
              <a:xfrm>
                <a:off x="6940800" y="81468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27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997680" y="113076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3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940800" y="144648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3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6874560" y="45612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30" name="">
            <a:hlinkClick r:id="rId2"/>
          </p:cNvPr>
          <p:cNvSpPr/>
          <p:nvPr/>
        </p:nvSpPr>
        <p:spPr>
          <a:xfrm>
            <a:off x="8229600" y="586728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11320" y="30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305400" y="324000"/>
            <a:ext cx="2437200" cy="3429000"/>
            <a:chOff x="6305400" y="324000"/>
            <a:chExt cx="2437200" cy="3429000"/>
          </a:xfrm>
        </p:grpSpPr>
        <p:grpSp>
          <p:nvGrpSpPr>
            <p:cNvPr id="433" name=""/>
            <p:cNvGrpSpPr/>
            <p:nvPr/>
          </p:nvGrpSpPr>
          <p:grpSpPr>
            <a:xfrm>
              <a:off x="8089920" y="685800"/>
              <a:ext cx="569520" cy="660600"/>
              <a:chOff x="8089920" y="685800"/>
              <a:chExt cx="569520" cy="660600"/>
            </a:xfrm>
          </p:grpSpPr>
          <p:sp>
            <p:nvSpPr>
              <p:cNvPr id="434" name=""/>
              <p:cNvSpPr/>
              <p:nvPr/>
            </p:nvSpPr>
            <p:spPr>
              <a:xfrm>
                <a:off x="8089920" y="685800"/>
                <a:ext cx="139680" cy="66060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16920 h 660600"/>
                  <a:gd name="textAreaBottom" fmla="*/ 643680 h 66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152560" y="78516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rg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6566040" y="324000"/>
              <a:ext cx="1523880" cy="3429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66040" y="76860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66040" y="102420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53080" y="130032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3080" y="1579680"/>
              <a:ext cx="15242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6922080" y="703800"/>
              <a:ext cx="683640" cy="973800"/>
              <a:chOff x="6922080" y="703800"/>
              <a:chExt cx="683640" cy="973800"/>
            </a:xfrm>
          </p:grpSpPr>
          <p:sp>
            <p:nvSpPr>
              <p:cNvPr id="442" name=""/>
              <p:cNvSpPr/>
              <p:nvPr/>
            </p:nvSpPr>
            <p:spPr>
              <a:xfrm>
                <a:off x="6922080" y="7038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27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978960" y="99108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 3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922080" y="127872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:3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6855840" y="37548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66040" y="228312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553080" y="257184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66040" y="286092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53080" y="317052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60240" y="181836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func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037720" y="2170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parm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6305400" y="762120"/>
              <a:ext cx="438480" cy="1657440"/>
              <a:chOff x="6305400" y="762120"/>
              <a:chExt cx="438480" cy="1657440"/>
            </a:xfrm>
          </p:grpSpPr>
          <p:sp>
            <p:nvSpPr>
              <p:cNvPr id="453" name=""/>
              <p:cNvSpPr/>
              <p:nvPr/>
            </p:nvSpPr>
            <p:spPr>
              <a:xfrm flipH="1">
                <a:off x="6305400" y="2419560"/>
                <a:ext cx="438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6305400" y="762120"/>
                <a:ext cx="0" cy="165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305400" y="762120"/>
                <a:ext cx="266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6949800" y="22582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***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343560" y="361800"/>
            <a:ext cx="2437200" cy="3429000"/>
            <a:chOff x="6343560" y="361800"/>
            <a:chExt cx="2437200" cy="3429000"/>
          </a:xfrm>
        </p:grpSpPr>
        <p:grpSp>
          <p:nvGrpSpPr>
            <p:cNvPr id="458" name=""/>
            <p:cNvGrpSpPr/>
            <p:nvPr/>
          </p:nvGrpSpPr>
          <p:grpSpPr>
            <a:xfrm>
              <a:off x="8128080" y="723600"/>
              <a:ext cx="569520" cy="660600"/>
              <a:chOff x="8128080" y="723600"/>
              <a:chExt cx="569520" cy="660600"/>
            </a:xfrm>
          </p:grpSpPr>
          <p:sp>
            <p:nvSpPr>
              <p:cNvPr id="459" name=""/>
              <p:cNvSpPr/>
              <p:nvPr/>
            </p:nvSpPr>
            <p:spPr>
              <a:xfrm>
                <a:off x="8128080" y="723600"/>
                <a:ext cx="139680" cy="660600"/>
              </a:xfrm>
              <a:custGeom>
                <a:avLst/>
                <a:gdLst>
                  <a:gd name="textAreaLeft" fmla="*/ 0 w 139680"/>
                  <a:gd name="textAreaRight" fmla="*/ 50400 w 139680"/>
                  <a:gd name="textAreaTop" fmla="*/ 16920 h 660600"/>
                  <a:gd name="textAreaBottom" fmla="*/ 643680 h 66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190720" y="82296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rg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6604200" y="361800"/>
              <a:ext cx="1523880" cy="3429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04200" y="806400"/>
              <a:ext cx="15238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604200" y="106200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91240" y="133812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591240" y="1617480"/>
              <a:ext cx="15242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6960240" y="741600"/>
              <a:ext cx="683640" cy="973800"/>
              <a:chOff x="6960240" y="741600"/>
              <a:chExt cx="683640" cy="973800"/>
            </a:xfrm>
          </p:grpSpPr>
          <p:sp>
            <p:nvSpPr>
              <p:cNvPr id="467" name=""/>
              <p:cNvSpPr/>
              <p:nvPr/>
            </p:nvSpPr>
            <p:spPr>
              <a:xfrm>
                <a:off x="6960240" y="74160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a :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18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017480" y="1028880"/>
                <a:ext cx="57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b: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 5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960240" y="1316520"/>
                <a:ext cx="68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:90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6894000" y="41328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04200" y="232092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591240" y="260964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04200" y="2898720"/>
              <a:ext cx="152388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91240" y="3208320"/>
              <a:ext cx="152424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998400" y="185616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(func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75880" y="22086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parm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43560" y="799920"/>
              <a:ext cx="438480" cy="1657440"/>
              <a:chOff x="6343560" y="799920"/>
              <a:chExt cx="438480" cy="1657440"/>
            </a:xfrm>
          </p:grpSpPr>
          <p:sp>
            <p:nvSpPr>
              <p:cNvPr id="478" name=""/>
              <p:cNvSpPr/>
              <p:nvPr/>
            </p:nvSpPr>
            <p:spPr>
              <a:xfrm flipH="1">
                <a:off x="6343560" y="2457360"/>
                <a:ext cx="438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6343560" y="799920"/>
                <a:ext cx="0" cy="165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43560" y="799920"/>
                <a:ext cx="266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6987960" y="22960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***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-360" y="488880"/>
            <a:ext cx="60548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用结构体指针变量作函数参数（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4" dur="1" fill="hold"/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279360" y="995400"/>
            <a:ext cx="88646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构造数据类型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也叫联合体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用途：使几个不同类型的变量共占一段内存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相互覆盖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共用体类型定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定义形式：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4018680" y="2532240"/>
            <a:ext cx="2268360" cy="19234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union  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共用体名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31680" y="4131360"/>
            <a:ext cx="2146680" cy="192276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dat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276720" y="4800600"/>
            <a:ext cx="2398680" cy="1268280"/>
            <a:chOff x="3276720" y="4800600"/>
            <a:chExt cx="2398680" cy="1268280"/>
          </a:xfrm>
        </p:grpSpPr>
        <p:sp>
          <p:nvSpPr>
            <p:cNvPr id="487" name=""/>
            <p:cNvSpPr/>
            <p:nvPr/>
          </p:nvSpPr>
          <p:spPr>
            <a:xfrm>
              <a:off x="3276720" y="4800600"/>
              <a:ext cx="1147680" cy="42372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276720" y="5224320"/>
              <a:ext cx="582480" cy="38736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76720" y="5611680"/>
              <a:ext cx="2398680" cy="44136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59200" y="4800600"/>
              <a:ext cx="0" cy="423720"/>
            </a:xfrm>
            <a:prstGeom prst="line">
              <a:avLst/>
            </a:prstGeom>
            <a:ln cap="rnd" w="9360">
              <a:solidFill>
                <a:srgbClr val="54547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59200" y="5611680"/>
              <a:ext cx="0" cy="457200"/>
            </a:xfrm>
            <a:prstGeom prst="line">
              <a:avLst/>
            </a:prstGeom>
            <a:ln cap="rnd" w="9360">
              <a:solidFill>
                <a:srgbClr val="54547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24400" y="5611680"/>
              <a:ext cx="0" cy="424080"/>
            </a:xfrm>
            <a:prstGeom prst="line">
              <a:avLst/>
            </a:prstGeom>
            <a:ln cap="rnd" w="9360">
              <a:solidFill>
                <a:srgbClr val="54547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24520" y="5611680"/>
              <a:ext cx="0" cy="424080"/>
            </a:xfrm>
            <a:prstGeom prst="line">
              <a:avLst/>
            </a:prstGeom>
            <a:ln cap="rnd" w="9360">
              <a:solidFill>
                <a:srgbClr val="54547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009320" y="56235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60240" y="522972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ch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527280" y="48171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6902280" y="4894560"/>
            <a:ext cx="1552680" cy="399240"/>
          </a:xfrm>
          <a:prstGeom prst="wedgeRectCallout">
            <a:avLst>
              <a:gd name="adj1" fmla="val -138569"/>
              <a:gd name="adj2" fmla="val -147657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类型定义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不分配内存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9.8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共用体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0" y="6343560"/>
            <a:ext cx="1047600" cy="514080"/>
            <a:chOff x="0" y="6343560"/>
            <a:chExt cx="1047600" cy="514080"/>
          </a:xfrm>
        </p:grpSpPr>
        <p:sp>
          <p:nvSpPr>
            <p:cNvPr id="500" name="">
              <a:hlinkClick r:id="rId3" action="ppaction://hlinksldjump"/>
            </p:cNvPr>
            <p:cNvSpPr/>
            <p:nvPr/>
          </p:nvSpPr>
          <p:spPr>
            <a:xfrm>
              <a:off x="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a7cc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142920" y="6391080"/>
              <a:ext cx="714240" cy="380880"/>
              <a:chOff x="142920" y="6391080"/>
              <a:chExt cx="714240" cy="380880"/>
            </a:xfrm>
          </p:grpSpPr>
          <p:sp>
            <p:nvSpPr>
              <p:cNvPr id="502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1522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716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430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4" name="CAMERA.WAV"/>
      </p:stSnd>
    </p:sndAc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22200" y="1082880"/>
            <a:ext cx="2146680" cy="22885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形式一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dat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a,b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82360" y="1082520"/>
            <a:ext cx="3698280" cy="26542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形式二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dat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data a,b,c,*p,d[3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570360" y="1082880"/>
            <a:ext cx="2146680" cy="22885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形式三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a,b,c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2880" y="457200"/>
            <a:ext cx="86011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916280" y="3905280"/>
            <a:ext cx="4800600" cy="1677960"/>
            <a:chOff x="1916280" y="3905280"/>
            <a:chExt cx="4800600" cy="1677960"/>
          </a:xfrm>
        </p:grpSpPr>
        <p:grpSp>
          <p:nvGrpSpPr>
            <p:cNvPr id="510" name=""/>
            <p:cNvGrpSpPr/>
            <p:nvPr/>
          </p:nvGrpSpPr>
          <p:grpSpPr>
            <a:xfrm>
              <a:off x="1916280" y="3905280"/>
              <a:ext cx="4799160" cy="1268280"/>
              <a:chOff x="1916280" y="3905280"/>
              <a:chExt cx="4799160" cy="126828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1916280" y="3905280"/>
                <a:ext cx="2398680" cy="1268280"/>
                <a:chOff x="1916280" y="3905280"/>
                <a:chExt cx="2398680" cy="126828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916280" y="3905280"/>
                  <a:ext cx="1147680" cy="423720"/>
                </a:xfrm>
                <a:prstGeom prst="rect">
                  <a:avLst/>
                </a:prstGeom>
                <a:noFill/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16280" y="4329000"/>
                  <a:ext cx="582480" cy="387360"/>
                </a:xfrm>
                <a:prstGeom prst="rect">
                  <a:avLst/>
                </a:prstGeom>
                <a:noFill/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16280" y="4716360"/>
                  <a:ext cx="2398680" cy="441360"/>
                </a:xfrm>
                <a:prstGeom prst="rect">
                  <a:avLst/>
                </a:prstGeom>
                <a:noFill/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498760" y="3905280"/>
                  <a:ext cx="0" cy="42372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498760" y="4716360"/>
                  <a:ext cx="0" cy="45720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063960" y="4716360"/>
                  <a:ext cx="0" cy="42408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664080" y="4716360"/>
                  <a:ext cx="0" cy="42408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648880" y="4728240"/>
                  <a:ext cx="266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999800" y="4334400"/>
                  <a:ext cx="42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ch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166840" y="39218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4316760" y="3905280"/>
                <a:ext cx="2398680" cy="1268280"/>
                <a:chOff x="4316760" y="3905280"/>
                <a:chExt cx="2398680" cy="126828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4316760" y="3905280"/>
                  <a:ext cx="1147680" cy="423720"/>
                </a:xfrm>
                <a:prstGeom prst="rect">
                  <a:avLst/>
                </a:prstGeom>
                <a:noFill/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316760" y="4329000"/>
                  <a:ext cx="582480" cy="387360"/>
                </a:xfrm>
                <a:prstGeom prst="rect">
                  <a:avLst/>
                </a:prstGeom>
                <a:noFill/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316760" y="4716360"/>
                  <a:ext cx="2398680" cy="441360"/>
                </a:xfrm>
                <a:prstGeom prst="rect">
                  <a:avLst/>
                </a:prstGeom>
                <a:noFill/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899240" y="3905280"/>
                  <a:ext cx="0" cy="42372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899240" y="4716360"/>
                  <a:ext cx="0" cy="45720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5464440" y="4716360"/>
                  <a:ext cx="0" cy="42408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064560" y="4716360"/>
                  <a:ext cx="0" cy="424080"/>
                </a:xfrm>
                <a:prstGeom prst="line">
                  <a:avLst/>
                </a:prstGeom>
                <a:ln cap="rnd" w="9360">
                  <a:solidFill>
                    <a:srgbClr val="545472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049360" y="4728240"/>
                  <a:ext cx="266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400280" y="4334400"/>
                  <a:ext cx="42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ch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567320" y="39218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3" name=""/>
            <p:cNvSpPr/>
            <p:nvPr/>
          </p:nvSpPr>
          <p:spPr>
            <a:xfrm>
              <a:off x="1916280" y="5124600"/>
              <a:ext cx="0" cy="24768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16760" y="5124600"/>
              <a:ext cx="0" cy="24768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16880" y="5124600"/>
              <a:ext cx="0" cy="24768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46640" y="5334120"/>
              <a:ext cx="838440" cy="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8440" y="5334120"/>
              <a:ext cx="838080" cy="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59720" y="5334120"/>
              <a:ext cx="838080" cy="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54440" y="5334120"/>
              <a:ext cx="838440" cy="0"/>
            </a:xfrm>
            <a:prstGeom prst="line">
              <a:avLst/>
            </a:prstGeom>
            <a:ln w="19080">
              <a:solidFill>
                <a:srgbClr val="9797b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959200" y="5123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51760" y="5123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4882680" y="5722920"/>
            <a:ext cx="2521800" cy="825840"/>
          </a:xfrm>
          <a:prstGeom prst="wedgeRectCallout">
            <a:avLst>
              <a:gd name="adj1" fmla="val -5226"/>
              <a:gd name="adj2" fmla="val -88777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共用体变量定义</a:t>
            </a:r>
            <a:r>
              <a:rPr b="0" lang="en-US" sz="2400" spc="-1" strike="noStrike">
                <a:solidFill>
                  <a:srgbClr val="660066"/>
                </a:solidFill>
                <a:latin typeface="隶书"/>
                <a:ea typeface="隶书"/>
              </a:rPr>
              <a:t>分配内存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长度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最长成员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所占字节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761480" y="5722920"/>
            <a:ext cx="1827000" cy="825840"/>
          </a:xfrm>
          <a:prstGeom prst="wedgeRectCallout">
            <a:avLst>
              <a:gd name="adj1" fmla="val 17629"/>
              <a:gd name="adj2" fmla="val -79541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共用体变量任何时刻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只有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一个成员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存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共用体变量的定义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6720" y="1310760"/>
            <a:ext cx="3409920" cy="30200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  int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scor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addr[3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105880" y="228600"/>
            <a:ext cx="3448440" cy="3872160"/>
            <a:chOff x="5105880" y="228600"/>
            <a:chExt cx="3448440" cy="3872160"/>
          </a:xfrm>
        </p:grpSpPr>
        <p:sp>
          <p:nvSpPr>
            <p:cNvPr id="143" name=""/>
            <p:cNvSpPr/>
            <p:nvPr/>
          </p:nvSpPr>
          <p:spPr>
            <a:xfrm>
              <a:off x="5900040" y="228600"/>
              <a:ext cx="1785240" cy="385956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83120" y="48780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83120" y="77832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83120" y="133848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83120" y="161892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83120" y="189864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83120" y="217908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83120" y="245844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83120" y="273924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83120" y="301896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83120" y="3299400"/>
              <a:ext cx="1771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03200" y="239400"/>
              <a:ext cx="56880" cy="539640"/>
            </a:xfrm>
            <a:custGeom>
              <a:avLst/>
              <a:gdLst>
                <a:gd name="textAreaLeft" fmla="*/ 36360 w 56880"/>
                <a:gd name="textAreaRight" fmla="*/ 57240 w 56880"/>
                <a:gd name="textAreaTop" fmla="*/ 14040 h 539640"/>
                <a:gd name="textAreaBottom" fmla="*/ 5256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98600" y="228600"/>
              <a:ext cx="93960" cy="550800"/>
            </a:xfrm>
            <a:custGeom>
              <a:avLst/>
              <a:gdLst>
                <a:gd name="textAreaLeft" fmla="*/ 0 w 93960"/>
                <a:gd name="textAreaRight" fmla="*/ 33840 w 93960"/>
                <a:gd name="textAreaTop" fmla="*/ 14040 h 550800"/>
                <a:gd name="textAreaBottom" fmla="*/ 536760 h 55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93920" y="797400"/>
              <a:ext cx="93960" cy="550800"/>
            </a:xfrm>
            <a:custGeom>
              <a:avLst/>
              <a:gdLst>
                <a:gd name="textAreaLeft" fmla="*/ 0 w 93960"/>
                <a:gd name="textAreaRight" fmla="*/ 33840 w 93960"/>
                <a:gd name="textAreaTop" fmla="*/ 14040 h 550800"/>
                <a:gd name="textAreaBottom" fmla="*/ 536760 h 55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7080" y="786600"/>
              <a:ext cx="56880" cy="539640"/>
            </a:xfrm>
            <a:custGeom>
              <a:avLst/>
              <a:gdLst>
                <a:gd name="textAreaLeft" fmla="*/ 36360 w 56880"/>
                <a:gd name="textAreaRight" fmla="*/ 57240 w 56880"/>
                <a:gd name="textAreaTop" fmla="*/ 14040 h 539640"/>
                <a:gd name="textAreaBottom" fmla="*/ 5256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0240" y="1353600"/>
              <a:ext cx="56520" cy="281520"/>
            </a:xfrm>
            <a:custGeom>
              <a:avLst/>
              <a:gdLst>
                <a:gd name="textAreaLeft" fmla="*/ 36000 w 56520"/>
                <a:gd name="textAreaRight" fmla="*/ 56880 w 56520"/>
                <a:gd name="textAreaTop" fmla="*/ 7200 h 281520"/>
                <a:gd name="textAreaBottom" fmla="*/ 274320 h 28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11920" y="1342440"/>
              <a:ext cx="56520" cy="281520"/>
            </a:xfrm>
            <a:custGeom>
              <a:avLst/>
              <a:gdLst>
                <a:gd name="textAreaLeft" fmla="*/ 0 w 56520"/>
                <a:gd name="textAreaRight" fmla="*/ 20520 w 56520"/>
                <a:gd name="textAreaTop" fmla="*/ 7200 h 281520"/>
                <a:gd name="textAreaBottom" fmla="*/ 274320 h 28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93920" y="1630080"/>
              <a:ext cx="93960" cy="550800"/>
            </a:xfrm>
            <a:custGeom>
              <a:avLst/>
              <a:gdLst>
                <a:gd name="textAreaLeft" fmla="*/ 0 w 93960"/>
                <a:gd name="textAreaRight" fmla="*/ 33840 w 93960"/>
                <a:gd name="textAreaTop" fmla="*/ 14040 h 550800"/>
                <a:gd name="textAreaBottom" fmla="*/ 536760 h 55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98520" y="1642320"/>
              <a:ext cx="56520" cy="539640"/>
            </a:xfrm>
            <a:custGeom>
              <a:avLst/>
              <a:gdLst>
                <a:gd name="textAreaLeft" fmla="*/ 36000 w 56520"/>
                <a:gd name="textAreaRight" fmla="*/ 56880 w 56520"/>
                <a:gd name="textAreaTop" fmla="*/ 14040 h 539640"/>
                <a:gd name="textAreaBottom" fmla="*/ 5256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03200" y="2186280"/>
              <a:ext cx="56880" cy="1113840"/>
            </a:xfrm>
            <a:custGeom>
              <a:avLst/>
              <a:gdLst>
                <a:gd name="textAreaLeft" fmla="*/ 36360 w 56880"/>
                <a:gd name="textAreaRight" fmla="*/ 57240 w 56880"/>
                <a:gd name="textAreaTop" fmla="*/ 28800 h 1113840"/>
                <a:gd name="textAreaBottom" fmla="*/ 1085040 h 111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11920" y="2175120"/>
              <a:ext cx="56520" cy="1125360"/>
            </a:xfrm>
            <a:custGeom>
              <a:avLst/>
              <a:gdLst>
                <a:gd name="textAreaLeft" fmla="*/ 0 w 56520"/>
                <a:gd name="textAreaRight" fmla="*/ 20520 w 56520"/>
                <a:gd name="textAreaTop" fmla="*/ 29160 h 1125360"/>
                <a:gd name="textAreaBottom" fmla="*/ 1096200 h 11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05720" y="3300480"/>
              <a:ext cx="67320" cy="787680"/>
            </a:xfrm>
            <a:custGeom>
              <a:avLst/>
              <a:gdLst>
                <a:gd name="textAreaLeft" fmla="*/ 43200 w 67320"/>
                <a:gd name="textAreaRight" fmla="*/ 67680 w 67320"/>
                <a:gd name="textAreaTop" fmla="*/ 20520 h 787680"/>
                <a:gd name="textAreaBottom" fmla="*/ 767160 h 78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3000" y="3300480"/>
              <a:ext cx="56520" cy="787680"/>
            </a:xfrm>
            <a:custGeom>
              <a:avLst/>
              <a:gdLst>
                <a:gd name="textAreaLeft" fmla="*/ 0 w 56520"/>
                <a:gd name="textAreaRight" fmla="*/ 20520 w 56520"/>
                <a:gd name="textAreaTop" fmla="*/ 20520 h 787680"/>
                <a:gd name="textAreaBottom" fmla="*/ 767160 h 78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880" y="85140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42680" y="31788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num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79040" y="13006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ex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98120" y="170496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52680" y="253692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scor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19640" y="348480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addr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63400" y="25308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字节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6000" y="169632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字节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51880" y="88452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20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字节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63400" y="126756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字节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63400" y="251676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4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字节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51880" y="348480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30</a:t>
              </a: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字节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85040" y="806760"/>
              <a:ext cx="78984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45472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25360" y="3245760"/>
              <a:ext cx="7898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45472"/>
                  </a:solidFill>
                  <a:latin typeface="Times New Roman"/>
                </a:rPr>
                <a:t>…</a:t>
              </a:r>
              <a:r>
                <a:rPr b="0" lang="en-US" sz="4000" spc="-1" strike="noStrike">
                  <a:solidFill>
                    <a:srgbClr val="545472"/>
                  </a:solidFill>
                  <a:latin typeface="Times New Roman"/>
                </a:rPr>
                <a:t>..</a:t>
              </a:r>
              <a:endParaRPr b="0" lang="en-US" sz="4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622480" y="4665600"/>
            <a:ext cx="2232360" cy="825840"/>
          </a:xfrm>
          <a:prstGeom prst="wedgeRectCallout">
            <a:avLst>
              <a:gd name="adj1" fmla="val -109833"/>
              <a:gd name="adj2" fmla="val -94527"/>
            </a:avLst>
          </a:prstGeom>
          <a:solidFill>
            <a:srgbClr val="ff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结构体类型说明描述结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的组织形式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,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不分配内存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7920" y="581040"/>
            <a:ext cx="2414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例子图解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97000" y="341280"/>
            <a:ext cx="860076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引用方式：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80040" y="2991600"/>
            <a:ext cx="6482160" cy="155700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.i=1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.ch=‘a’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.f=1.5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intf(“%d”,a.i);       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编译通过，运行结果不对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)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7680" y="1636560"/>
            <a:ext cx="86011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引用规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不能引用共用体变量，只能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引用其成员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77240" y="1275480"/>
            <a:ext cx="8001000" cy="398880"/>
            <a:chOff x="777240" y="1275480"/>
            <a:chExt cx="8001000" cy="398880"/>
          </a:xfrm>
        </p:grpSpPr>
        <p:sp>
          <p:nvSpPr>
            <p:cNvPr id="549" name=""/>
            <p:cNvSpPr/>
            <p:nvPr/>
          </p:nvSpPr>
          <p:spPr>
            <a:xfrm>
              <a:off x="2836800" y="1390680"/>
              <a:ext cx="468360" cy="154080"/>
            </a:xfrm>
            <a:prstGeom prst="leftRightArrow">
              <a:avLst>
                <a:gd name="adj1" fmla="val 50000"/>
                <a:gd name="adj2" fmla="val 60513"/>
              </a:avLst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53280" y="1275480"/>
              <a:ext cx="190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共用体指针名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-&gt;</a:t>
              </a: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成员名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46760" y="1390680"/>
              <a:ext cx="533520" cy="152280"/>
            </a:xfrm>
            <a:prstGeom prst="leftRightArrow">
              <a:avLst>
                <a:gd name="adj1" fmla="val 50000"/>
                <a:gd name="adj2" fmla="val 69746"/>
              </a:avLst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7240" y="1275480"/>
              <a:ext cx="17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共用体变量名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成员名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80520" y="1275480"/>
              <a:ext cx="209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</a:rPr>
                <a:t>(*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</a:rPr>
                <a:t>共用体指针名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</a:rPr>
                <a:t>).</a:t>
              </a:r>
              <a:r>
                <a:rPr b="0" lang="en-US" sz="2000" spc="-1" strike="noStrike">
                  <a:solidFill>
                    <a:srgbClr val="660066"/>
                  </a:solidFill>
                  <a:latin typeface="Times New Roman"/>
                </a:rPr>
                <a:t>成员名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1158480" y="1779840"/>
            <a:ext cx="6894360" cy="2288520"/>
            <a:chOff x="1158480" y="1779840"/>
            <a:chExt cx="6894360" cy="2288520"/>
          </a:xfrm>
        </p:grpSpPr>
        <p:sp>
          <p:nvSpPr>
            <p:cNvPr id="555" name=""/>
            <p:cNvSpPr/>
            <p:nvPr/>
          </p:nvSpPr>
          <p:spPr>
            <a:xfrm>
              <a:off x="1158480" y="1779840"/>
              <a:ext cx="3698280" cy="2288520"/>
            </a:xfrm>
            <a:prstGeom prst="rect">
              <a:avLst/>
            </a:prstGeom>
            <a:solidFill>
              <a:srgbClr val="eb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union data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{    int i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char ch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float f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}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union data a,b,c,*p,d[3];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55760" y="1808280"/>
              <a:ext cx="1977480" cy="459720"/>
            </a:xfrm>
            <a:prstGeom prst="rect">
              <a:avLst/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a.i    a.ch     a.f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954680" y="2405160"/>
              <a:ext cx="2317320" cy="459720"/>
            </a:xfrm>
            <a:prstGeom prst="rect">
              <a:avLst/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p-&gt;i   p-&gt;ch  p-&gt;f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55040" y="3002040"/>
              <a:ext cx="2792880" cy="459720"/>
            </a:xfrm>
            <a:prstGeom prst="rect">
              <a:avLst/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(*p).i   (*p).ch  (*p).f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55040" y="3598920"/>
              <a:ext cx="3097800" cy="459720"/>
            </a:xfrm>
            <a:prstGeom prst="rect">
              <a:avLst/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d[0].i    d[0].ch     d[0].f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228600" y="2436840"/>
            <a:ext cx="86011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共用体变量中起作用的成员是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最后一次存放的成员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722680" y="2883240"/>
            <a:ext cx="2696760" cy="22885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=1;      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" y="2874960"/>
            <a:ext cx="860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能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在定义共用体变量时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初始化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347200" y="3466080"/>
            <a:ext cx="3551400" cy="192276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a={1,’a’,1.5};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28600" y="3313080"/>
            <a:ext cx="860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可以用一个共用体变量为另一个变量赋值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24560" y="3805200"/>
            <a:ext cx="4004280" cy="26542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 x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unio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i;   char ch;  float f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a,b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.i=1;   a.ch=‘a’;   a.f=1.5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=a; 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x=a.f;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共用体变量引用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7" dur="1" fill="hold"/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609480" y="38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5872320" y="1257480"/>
            <a:ext cx="2777040" cy="2209680"/>
            <a:chOff x="5872320" y="1257480"/>
            <a:chExt cx="2777040" cy="2209680"/>
          </a:xfrm>
        </p:grpSpPr>
        <p:grpSp>
          <p:nvGrpSpPr>
            <p:cNvPr id="569" name=""/>
            <p:cNvGrpSpPr/>
            <p:nvPr/>
          </p:nvGrpSpPr>
          <p:grpSpPr>
            <a:xfrm>
              <a:off x="5872320" y="1257480"/>
              <a:ext cx="2361960" cy="761400"/>
              <a:chOff x="5872320" y="1257480"/>
              <a:chExt cx="2361960" cy="761400"/>
            </a:xfrm>
          </p:grpSpPr>
          <p:sp>
            <p:nvSpPr>
              <p:cNvPr id="570" name=""/>
              <p:cNvSpPr/>
              <p:nvPr/>
            </p:nvSpPr>
            <p:spPr>
              <a:xfrm>
                <a:off x="5872320" y="1562040"/>
                <a:ext cx="2361960" cy="456840"/>
              </a:xfrm>
              <a:prstGeom prst="rect">
                <a:avLst/>
              </a:prstGeom>
              <a:noFill/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01100001  01000001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15320" y="1562040"/>
                <a:ext cx="0" cy="456840"/>
              </a:xfrm>
              <a:prstGeom prst="line">
                <a:avLst/>
              </a:prstGeom>
              <a:ln w="9360">
                <a:solidFill>
                  <a:srgbClr val="54547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21680" y="125748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低字节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178680" y="125748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高字节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5948280" y="2552760"/>
              <a:ext cx="2701080" cy="914400"/>
              <a:chOff x="5948280" y="2552760"/>
              <a:chExt cx="2701080" cy="914400"/>
            </a:xfrm>
          </p:grpSpPr>
          <p:sp>
            <p:nvSpPr>
              <p:cNvPr id="575" name=""/>
              <p:cNvSpPr/>
              <p:nvPr/>
            </p:nvSpPr>
            <p:spPr>
              <a:xfrm>
                <a:off x="5948280" y="2552760"/>
                <a:ext cx="1981440" cy="914400"/>
              </a:xfrm>
              <a:prstGeom prst="rect">
                <a:avLst/>
              </a:prstGeom>
              <a:noFill/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48280" y="3009960"/>
                <a:ext cx="1981440" cy="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251040" y="2628720"/>
                <a:ext cx="12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01000001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235200" y="3024000"/>
                <a:ext cx="12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01100001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913160" y="2566800"/>
                <a:ext cx="72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h[0]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929000" y="3009960"/>
                <a:ext cx="72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45472"/>
                    </a:solidFill>
                    <a:latin typeface="Times New Roman"/>
                  </a:rPr>
                  <a:t>ch[1]</a:t>
                </a:r>
                <a:endParaRPr b="0" lang="en-US" sz="2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1" name=""/>
          <p:cNvSpPr/>
          <p:nvPr/>
        </p:nvSpPr>
        <p:spPr>
          <a:xfrm>
            <a:off x="1424880" y="5276880"/>
            <a:ext cx="2036880" cy="1313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运行结果：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i=60501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ch0=101,ch1=141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ch0=A,ch1=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1520" y="1089360"/>
            <a:ext cx="5232960" cy="41173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union  int_ch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{   int i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har ch[2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}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x.i=24897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intf("i=%o\n",x.i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intf("ch0=%o,ch1=%o\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0=%c,ch1=%c\n"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x.ch[0],x.ch[1],x.ch[0],x.ch[1]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-360" y="437760"/>
            <a:ext cx="76201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例  将一个整数按字节输出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97000" y="341280"/>
            <a:ext cx="860076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区别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存储方式不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65800" y="1809720"/>
            <a:ext cx="7054200" cy="4152960"/>
            <a:chOff x="865800" y="1809720"/>
            <a:chExt cx="7054200" cy="4152960"/>
          </a:xfrm>
        </p:grpSpPr>
        <p:grpSp>
          <p:nvGrpSpPr>
            <p:cNvPr id="586" name=""/>
            <p:cNvGrpSpPr/>
            <p:nvPr/>
          </p:nvGrpSpPr>
          <p:grpSpPr>
            <a:xfrm>
              <a:off x="865800" y="1809720"/>
              <a:ext cx="4934880" cy="4152960"/>
              <a:chOff x="865800" y="1809720"/>
              <a:chExt cx="4934880" cy="4152960"/>
            </a:xfrm>
          </p:grpSpPr>
          <p:sp>
            <p:nvSpPr>
              <p:cNvPr id="587" name=""/>
              <p:cNvSpPr/>
              <p:nvPr/>
            </p:nvSpPr>
            <p:spPr>
              <a:xfrm>
                <a:off x="903960" y="2079000"/>
                <a:ext cx="2116080" cy="1557000"/>
              </a:xfrm>
              <a:prstGeom prst="rect">
                <a:avLst/>
              </a:prstGeom>
              <a:solidFill>
                <a:srgbClr val="ebffff"/>
              </a:solidFill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truct </a:t>
                </a: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  node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{     char  ch[2];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int    k;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}a;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65800" y="4117320"/>
                <a:ext cx="2116080" cy="1557000"/>
              </a:xfrm>
              <a:prstGeom prst="rect">
                <a:avLst/>
              </a:prstGeom>
              <a:solidFill>
                <a:srgbClr val="ebffff"/>
              </a:solidFill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union</a:t>
                </a: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   node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{     char  ch[2];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int    k;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}b;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3822840" y="1809720"/>
                <a:ext cx="1977840" cy="2095560"/>
                <a:chOff x="3822840" y="1809720"/>
                <a:chExt cx="1977840" cy="209556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5365800" y="2295720"/>
                  <a:ext cx="139680" cy="885600"/>
                </a:xfrm>
                <a:custGeom>
                  <a:avLst/>
                  <a:gdLst>
                    <a:gd name="textAreaLeft" fmla="*/ 0 w 139680"/>
                    <a:gd name="textAreaRight" fmla="*/ 50400 w 139680"/>
                    <a:gd name="textAreaTop" fmla="*/ 23040 h 885600"/>
                    <a:gd name="textAreaBottom" fmla="*/ 862560 h 885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484960" y="2484720"/>
                  <a:ext cx="3157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841920" y="1809720"/>
                  <a:ext cx="1523880" cy="20955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841920" y="2295720"/>
                  <a:ext cx="1523880" cy="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822840" y="2746440"/>
                  <a:ext cx="1523880" cy="0"/>
                </a:xfrm>
                <a:prstGeom prst="line">
                  <a:avLst/>
                </a:prstGeom>
                <a:ln w="1908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828960" y="3181320"/>
                  <a:ext cx="1524240" cy="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867120" y="2533680"/>
                  <a:ext cx="9540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867120" y="2971800"/>
                  <a:ext cx="9540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257800" y="2533680"/>
                  <a:ext cx="9540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257800" y="2971800"/>
                  <a:ext cx="9540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4376880" y="2324160"/>
                  <a:ext cx="468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Times New Roman"/>
                    </a:rPr>
                    <a:t>ch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462560" y="2724120"/>
                  <a:ext cx="333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803760" y="4095720"/>
                <a:ext cx="1996560" cy="1866960"/>
                <a:chOff x="3803760" y="4095720"/>
                <a:chExt cx="1996560" cy="18669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5327640" y="4581360"/>
                  <a:ext cx="150120" cy="505080"/>
                </a:xfrm>
                <a:custGeom>
                  <a:avLst/>
                  <a:gdLst>
                    <a:gd name="textAreaLeft" fmla="*/ 0 w 150120"/>
                    <a:gd name="textAreaRight" fmla="*/ 54000 w 150120"/>
                    <a:gd name="textAreaTop" fmla="*/ 12960 h 505080"/>
                    <a:gd name="textAreaBottom" fmla="*/ 492120 h 505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484600" y="4618080"/>
                  <a:ext cx="3157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803760" y="4095720"/>
                  <a:ext cx="1523880" cy="18669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803760" y="4581360"/>
                  <a:ext cx="1523880" cy="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828960" y="5029200"/>
                  <a:ext cx="1523520" cy="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219640" y="4819680"/>
                  <a:ext cx="9468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147920" y="4610160"/>
                  <a:ext cx="468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Times New Roman"/>
                    </a:rPr>
                    <a:t>ch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652640" y="4629240"/>
                  <a:ext cx="333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828960" y="4819680"/>
                  <a:ext cx="9468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3086280" y="2762280"/>
                <a:ext cx="666720" cy="342720"/>
              </a:xfrm>
              <a:prstGeom prst="rightArrow">
                <a:avLst>
                  <a:gd name="adj1" fmla="val 50000"/>
                  <a:gd name="adj2" fmla="val 48634"/>
                </a:avLst>
              </a:prstGeom>
              <a:noFill/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143160" y="4819680"/>
                <a:ext cx="590760" cy="324000"/>
              </a:xfrm>
              <a:prstGeom prst="rightArrow">
                <a:avLst>
                  <a:gd name="adj1" fmla="val 50000"/>
                  <a:gd name="adj2" fmla="val 45583"/>
                </a:avLst>
              </a:prstGeom>
              <a:noFill/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6215040" y="1914840"/>
              <a:ext cx="1704960" cy="399240"/>
            </a:xfrm>
            <a:prstGeom prst="wedgeRectCallout">
              <a:avLst>
                <a:gd name="adj1" fmla="val -88629"/>
                <a:gd name="adj2" fmla="val 133689"/>
              </a:avLst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变量的各成员同时存在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17680" y="5191560"/>
              <a:ext cx="689760" cy="399240"/>
            </a:xfrm>
            <a:prstGeom prst="wedgeRectCallout">
              <a:avLst>
                <a:gd name="adj1" fmla="val -208472"/>
                <a:gd name="adj2" fmla="val -128736"/>
              </a:avLst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Times New Roman"/>
                </a:rPr>
                <a:t>任一时刻只有一个成员存在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76120" y="1312920"/>
            <a:ext cx="86011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联系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: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宋体"/>
              </a:rPr>
              <a:t>两者可相互嵌套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064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隶书"/>
              </a:rPr>
              <a:t>结构体与共用体</a:t>
            </a:r>
            <a:br>
              <a:rPr sz="24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0" y="6343560"/>
            <a:ext cx="1047600" cy="514080"/>
            <a:chOff x="0" y="6343560"/>
            <a:chExt cx="1047600" cy="514080"/>
          </a:xfrm>
        </p:grpSpPr>
        <p:sp>
          <p:nvSpPr>
            <p:cNvPr id="619" name="">
              <a:hlinkClick r:id="rId2" action="ppaction://hlinksldjump"/>
            </p:cNvPr>
            <p:cNvSpPr/>
            <p:nvPr/>
          </p:nvSpPr>
          <p:spPr>
            <a:xfrm>
              <a:off x="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a7cc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142920" y="6391080"/>
              <a:ext cx="714240" cy="380880"/>
              <a:chOff x="142920" y="6391080"/>
              <a:chExt cx="714240" cy="380880"/>
            </a:xfrm>
          </p:grpSpPr>
          <p:sp>
            <p:nvSpPr>
              <p:cNvPr id="621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1522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16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430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3" name="CAMERA.WAV"/>
      </p:stSnd>
    </p:sndAc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542880" y="603360"/>
            <a:ext cx="803448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功能：用自定义名字为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已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数据类型命名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类型定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简单形式：   </a:t>
            </a: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宋体"/>
              </a:rPr>
              <a:t>typedef    </a:t>
            </a:r>
            <a:r>
              <a:rPr b="0" lang="en-US" sz="2400" spc="-1" strike="noStrike">
                <a:solidFill>
                  <a:srgbClr val="339933"/>
                </a:solidFill>
                <a:latin typeface="Verdana"/>
                <a:ea typeface="宋体"/>
              </a:rPr>
              <a:t>type</a:t>
            </a: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宋体"/>
              </a:rPr>
              <a:t> 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  <a:ea typeface="宋体"/>
              </a:rPr>
              <a:t> name</a:t>
            </a: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宋体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62120" y="2008440"/>
            <a:ext cx="3525840" cy="4597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ypedef  int  INTEGE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15600" y="2151360"/>
            <a:ext cx="1827000" cy="460080"/>
          </a:xfrm>
          <a:prstGeom prst="wedgeRectCallout">
            <a:avLst>
              <a:gd name="adj1" fmla="val 44814"/>
              <a:gd name="adj2" fmla="val -98629"/>
            </a:avLst>
          </a:prstGeom>
          <a:solidFill>
            <a:srgbClr val="cc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类型定义语句关键字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51000" y="2132280"/>
            <a:ext cx="1461240" cy="460080"/>
          </a:xfrm>
          <a:prstGeom prst="wedgeRectCallout">
            <a:avLst>
              <a:gd name="adj1" fmla="val 43763"/>
              <a:gd name="adj2" fmla="val -106916"/>
            </a:avLst>
          </a:prstGeom>
          <a:solidFill>
            <a:srgbClr val="ccffcc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已有数据类型名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50560" y="2113200"/>
            <a:ext cx="1643760" cy="460080"/>
          </a:xfrm>
          <a:prstGeom prst="wedgeRectCallout">
            <a:avLst>
              <a:gd name="adj1" fmla="val -18166"/>
              <a:gd name="adj2" fmla="val -106916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用户定义的类型名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61040" y="2617920"/>
            <a:ext cx="3408480" cy="45972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ypedef  float    RE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59800" y="3294360"/>
            <a:ext cx="1729440" cy="460080"/>
          </a:xfrm>
          <a:prstGeom prst="wedgeRectCallout">
            <a:avLst>
              <a:gd name="adj1" fmla="val -98592"/>
              <a:gd name="adj2" fmla="val -144212"/>
            </a:avLst>
          </a:prstGeom>
          <a:solidFill>
            <a:srgbClr val="cc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类型定义后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与已有类型一样使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779080" y="1996920"/>
            <a:ext cx="2862720" cy="8254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EGER   a,b,c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REAL    f1,f2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5719680" y="2859120"/>
            <a:ext cx="3159000" cy="1390680"/>
            <a:chOff x="5719680" y="2859120"/>
            <a:chExt cx="3159000" cy="1390680"/>
          </a:xfrm>
        </p:grpSpPr>
        <p:sp>
          <p:nvSpPr>
            <p:cNvPr id="633" name=""/>
            <p:cNvSpPr/>
            <p:nvPr/>
          </p:nvSpPr>
          <p:spPr>
            <a:xfrm>
              <a:off x="5719680" y="3389400"/>
              <a:ext cx="3159000" cy="860400"/>
            </a:xfrm>
            <a:prstGeom prst="rect">
              <a:avLst/>
            </a:prstGeom>
            <a:solidFill>
              <a:srgbClr val="eb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int   a,b,c;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float    f1,f2;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62480" y="2859120"/>
              <a:ext cx="409680" cy="511200"/>
            </a:xfrm>
            <a:prstGeom prst="upDownArrow">
              <a:avLst>
                <a:gd name="adj1" fmla="val 50000"/>
                <a:gd name="adj2" fmla="val 24840"/>
              </a:avLst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1068480" y="3564720"/>
            <a:ext cx="4930560" cy="155700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说明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1.typedef 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没有创造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新数据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2.typedef 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是定义类型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不能定义变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3.typedef 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与 </a:t>
            </a:r>
            <a:r>
              <a:rPr b="0" lang="en-US" sz="2400" spc="-1" strike="noStrike">
                <a:solidFill>
                  <a:srgbClr val="009900"/>
                </a:solidFill>
                <a:latin typeface="隶书"/>
                <a:ea typeface="隶书"/>
              </a:rPr>
              <a:t>define 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不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54720" y="5649480"/>
            <a:ext cx="4387320" cy="1191600"/>
          </a:xfrm>
          <a:prstGeom prst="wedgeRectCallout">
            <a:avLst>
              <a:gd name="adj1" fmla="val -51787"/>
              <a:gd name="adj2" fmla="val -99226"/>
            </a:avLst>
          </a:prstGeom>
          <a:solidFill>
            <a:srgbClr val="eb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隶书"/>
                <a:ea typeface="隶书"/>
              </a:rPr>
              <a:t>define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3333ff"/>
                </a:solidFill>
                <a:latin typeface="隶书"/>
                <a:ea typeface="隶书"/>
              </a:rPr>
              <a:t>typede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隶书"/>
                <a:ea typeface="隶书"/>
              </a:rPr>
              <a:t>预编译时处理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隶书"/>
                <a:ea typeface="隶书"/>
              </a:rPr>
              <a:t>编译时处理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隶书"/>
                <a:ea typeface="隶书"/>
              </a:rPr>
              <a:t>简单字符置换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隶书"/>
                <a:ea typeface="隶书"/>
              </a:rPr>
              <a:t> 为已有类型命名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7148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用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ypedef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定义类型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0" y="6343560"/>
            <a:ext cx="1047600" cy="514080"/>
            <a:chOff x="0" y="6343560"/>
            <a:chExt cx="1047600" cy="514080"/>
          </a:xfrm>
        </p:grpSpPr>
        <p:sp>
          <p:nvSpPr>
            <p:cNvPr id="639" name="">
              <a:hlinkClick r:id="rId2" action="ppaction://hlinksldjump"/>
            </p:cNvPr>
            <p:cNvSpPr/>
            <p:nvPr/>
          </p:nvSpPr>
          <p:spPr>
            <a:xfrm>
              <a:off x="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a7cc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142920" y="6391080"/>
              <a:ext cx="714240" cy="380880"/>
              <a:chOff x="142920" y="6391080"/>
              <a:chExt cx="714240" cy="380880"/>
            </a:xfrm>
          </p:grpSpPr>
          <p:sp>
            <p:nvSpPr>
              <p:cNvPr id="641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1522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716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430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3" name="CAMERA.WAV"/>
      </p:stSnd>
    </p:sndAc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465120" y="568080"/>
            <a:ext cx="9144000" cy="23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545472"/>
              </a:buClr>
              <a:buSzPct val="70000"/>
              <a:buFont typeface="Wingdings" charset="2"/>
              <a:buChar char="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按定义变量方法先写出定义体   如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int   i;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545472"/>
              </a:buClr>
              <a:buSzPct val="70000"/>
              <a:buFont typeface="Wingdings" charset="2"/>
              <a:buChar char="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将变量名换成新类型名               如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int </a:t>
            </a: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INTEGER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545472"/>
              </a:buClr>
              <a:buSzPct val="70000"/>
              <a:buFont typeface="Wingdings" charset="2"/>
              <a:buChar char="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最前面加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typedef                      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如  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typedef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int   </a:t>
            </a: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INTEGER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545472"/>
              </a:buClr>
              <a:buSzPct val="70000"/>
              <a:buFont typeface="Wingdings" charset="2"/>
              <a:buChar char="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用新类型名定义变量                   如   </a:t>
            </a: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INTEGER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i,j;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952560" y="2765520"/>
            <a:ext cx="4914720" cy="23446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数组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a[100]; 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ARRAY[100]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typedef   int   ARRAY[100]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ARRAY   a,b,c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615040" y="5484960"/>
            <a:ext cx="3814200" cy="460080"/>
          </a:xfrm>
          <a:prstGeom prst="wedgeRectCallout">
            <a:avLst>
              <a:gd name="adj1" fmla="val -1032"/>
              <a:gd name="adj2" fmla="val -181430"/>
            </a:avLst>
          </a:prstGeom>
          <a:solidFill>
            <a:srgbClr val="33cc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  a[100],b[100],c[10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04840" y="2784600"/>
            <a:ext cx="4915080" cy="23446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指针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char  *str; 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char  *STRING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typedef   char   *STRING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STRING   p,s[10]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65080" y="5473440"/>
            <a:ext cx="2181960" cy="825840"/>
          </a:xfrm>
          <a:prstGeom prst="wedgeRectCallout">
            <a:avLst>
              <a:gd name="adj1" fmla="val 375"/>
              <a:gd name="adj2" fmla="val -126861"/>
            </a:avLst>
          </a:prstGeom>
          <a:solidFill>
            <a:srgbClr val="33cc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*p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*s[1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200240" y="2746440"/>
            <a:ext cx="4914720" cy="23446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函数指针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(*p)(); 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(*POWER)()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typedef   int   (*POWER)()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POWER   p1,p2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8600" y="5351760"/>
            <a:ext cx="2985120" cy="460080"/>
          </a:xfrm>
          <a:prstGeom prst="wedgeRectCallout">
            <a:avLst>
              <a:gd name="adj1" fmla="val 32560"/>
              <a:gd name="adj2" fmla="val -168685"/>
            </a:avLst>
          </a:prstGeom>
          <a:solidFill>
            <a:srgbClr val="33cc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 (*p1)(),(*p2)(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295280" y="2651040"/>
            <a:ext cx="4915080" cy="27068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结构体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struct  d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{   int   mont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day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 yea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}d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67000" y="2689200"/>
            <a:ext cx="4914720" cy="27068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结构体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struct  d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{   int   mont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day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 yea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}DAT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71560" y="2727360"/>
            <a:ext cx="4915080" cy="27064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结构体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typedef   struct  d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{   int   mont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day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int   yea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}DAT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152800" y="2765520"/>
            <a:ext cx="4914720" cy="27064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例  定义结构体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DATE   birthday, *p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78400" y="4410360"/>
            <a:ext cx="2582640" cy="1923120"/>
          </a:xfrm>
          <a:prstGeom prst="wedgeRectCallout">
            <a:avLst>
              <a:gd name="adj1" fmla="val -51726"/>
              <a:gd name="adj2" fmla="val -87972"/>
            </a:avLst>
          </a:prstGeom>
          <a:solidFill>
            <a:srgbClr val="33cc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d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int   month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  day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  yea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birthday, *p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60520" y="2400480"/>
            <a:ext cx="85834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类型定义可嵌套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2800" y="3170160"/>
            <a:ext cx="3876840" cy="323856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例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typedef  struct club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{      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int  siz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int  yea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}GROUP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typedef   GROUP    *PG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隶书"/>
              </a:rPr>
              <a:t>PG    pclub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5480" y="5626080"/>
            <a:ext cx="3042720" cy="825840"/>
          </a:xfrm>
          <a:prstGeom prst="wedgeRectCallout">
            <a:avLst>
              <a:gd name="adj1" fmla="val -104569"/>
              <a:gd name="adj2" fmla="val 6120"/>
            </a:avLst>
          </a:prstGeom>
          <a:solidFill>
            <a:srgbClr val="33cc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GROUP  *pclub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club  *pclub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946400" y="3454200"/>
            <a:ext cx="3143520" cy="825840"/>
          </a:xfrm>
          <a:prstGeom prst="wedgeRectCallout">
            <a:avLst>
              <a:gd name="adj1" fmla="val -79689"/>
              <a:gd name="adj2" fmla="val 128166"/>
            </a:avLst>
          </a:prstGeom>
          <a:solidFill>
            <a:srgbClr val="ebff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GROUP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为结构体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PG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为指向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GROUP</a:t>
            </a:r>
            <a:r>
              <a:rPr b="0" lang="en-US" sz="2400" spc="-1" strike="noStrike">
                <a:solidFill>
                  <a:srgbClr val="545472"/>
                </a:solidFill>
                <a:latin typeface="隶书"/>
                <a:ea typeface="隶书"/>
              </a:rPr>
              <a:t>的指针类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ypedef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定义类型步骤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60160" y="1230120"/>
            <a:ext cx="85834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先说明结构体类型，再定义结构体变量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一般形式：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3907080" y="3310200"/>
            <a:ext cx="2589840" cy="222840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  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结构体名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结构体名 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变量名表列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591840" y="879480"/>
            <a:ext cx="47322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结构体变量的定义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0" y="6343560"/>
            <a:ext cx="1047600" cy="514080"/>
            <a:chOff x="0" y="6343560"/>
            <a:chExt cx="1047600" cy="514080"/>
          </a:xfrm>
        </p:grpSpPr>
        <p:sp>
          <p:nvSpPr>
            <p:cNvPr id="186" name="">
              <a:hlinkClick r:id="rId4" action="ppaction://hlinksldjump"/>
            </p:cNvPr>
            <p:cNvSpPr/>
            <p:nvPr/>
          </p:nvSpPr>
          <p:spPr>
            <a:xfrm>
              <a:off x="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a7cc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142920" y="6391080"/>
              <a:ext cx="714240" cy="380880"/>
              <a:chOff x="142920" y="6391080"/>
              <a:chExt cx="714240" cy="380880"/>
            </a:xfrm>
          </p:grpSpPr>
          <p:sp>
            <p:nvSpPr>
              <p:cNvPr id="188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1522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16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430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5" name="CAMERA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79360" y="252360"/>
            <a:ext cx="86184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一般形式：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510720" y="1014480"/>
            <a:ext cx="2268360" cy="19234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  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结构体名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变量名表列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09600" y="3126960"/>
            <a:ext cx="3409920" cy="30200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 stud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  int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scor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addr[3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1,stu2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0" y="338040"/>
            <a:ext cx="77724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定义结构体类型的同时定义结构体变量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08120" y="252360"/>
            <a:ext cx="81896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一般形式：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10720" y="1014480"/>
            <a:ext cx="2268360" cy="19234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变量名表列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09600" y="3126960"/>
            <a:ext cx="3409920" cy="30200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  int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loat scor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addr[3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1,stu2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89760" y="3446640"/>
            <a:ext cx="1704960" cy="704160"/>
          </a:xfrm>
          <a:prstGeom prst="wedgeRectCallout">
            <a:avLst>
              <a:gd name="adj1" fmla="val -56245"/>
              <a:gd name="adj2" fmla="val -110449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用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无名结构体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直接定义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变量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只能一次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7160" y="356760"/>
            <a:ext cx="863748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直接定义结构体变量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25600" y="1403280"/>
            <a:ext cx="861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结构体类型与结构体变量概念不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类型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: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不分配内存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；       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变量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: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分配内存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类型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: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不能赋值、存取、运算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;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变量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: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可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结构体可嵌套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结构体成员名与程序中变量名可相同，不会混淆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结构体类型及变量的作用域与生存期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58400" y="860400"/>
            <a:ext cx="17622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说明：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58800" y="732960"/>
            <a:ext cx="848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引用规则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结构体变量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不能整体引用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只能引用变量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成员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409572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可以将一个结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构体变量赋值给另一个结构体变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结构体嵌套时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逐级引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85560" y="2303640"/>
            <a:ext cx="1662120" cy="1009080"/>
          </a:xfrm>
          <a:prstGeom prst="wedgeRectCallout">
            <a:avLst>
              <a:gd name="adj1" fmla="val 59004"/>
              <a:gd name="adj2" fmla="val -69791"/>
            </a:avLst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成员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分量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运算符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优先级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结合性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从左向右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16002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引用方式：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结构体变量名</a:t>
            </a:r>
            <a:r>
              <a:rPr b="0" lang="en-US" sz="3200" spc="-1" strike="noStrike">
                <a:solidFill>
                  <a:srgbClr val="c7c7df"/>
                </a:solidFill>
                <a:latin typeface="Times New Roman"/>
                <a:ea typeface="宋体"/>
              </a:rPr>
              <a:t>.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宋体"/>
              </a:rPr>
              <a:t>成员名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500040" y="45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结构体变量的引用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4" name="CAMERA.WAV"/>
      </p:stSnd>
    </p:sndAc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67920" y="271440"/>
            <a:ext cx="83898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形式一：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3666600" y="1074960"/>
            <a:ext cx="3830040" cy="222840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  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结构体名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结构体名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 结构体变量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={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初始数据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7600" y="3444480"/>
            <a:ext cx="8647920" cy="302004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stud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  int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addr[3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student  stu1={112,“Wang Lin”,‘M’,19, “200 Beijing Road”}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387000" y="636120"/>
            <a:ext cx="53276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结构体变量的初始化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51000" y="571680"/>
            <a:ext cx="8389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67520" y="1227240"/>
            <a:ext cx="2518200" cy="19234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uct    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结构体名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类型标识符    成员名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结构体变量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={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初始数据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26280" y="3521160"/>
            <a:ext cx="7613280" cy="2654280"/>
          </a:xfrm>
          <a:prstGeom prst="rect">
            <a:avLst/>
          </a:prstGeom>
          <a:solidFill>
            <a:srgbClr val="eb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uct  stud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{       int num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ar addr[30]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}stu1={112,“Wang Lin”,‘M’,19, “200 Beijing Road”};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43768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结构体变量的初始化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形式二：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0T08:16:06Z</dcterms:created>
  <dc:creator>hyg</dc:creator>
  <dc:description/>
  <dc:language>en-US</dc:language>
  <cp:lastModifiedBy>YlmF</cp:lastModifiedBy>
  <dcterms:modified xsi:type="dcterms:W3CDTF">2009-06-20T03:42:28Z</dcterms:modified>
  <cp:revision>351</cp:revision>
  <dc:subject/>
  <dc:title>第九章  结构体与共用体</dc:title>
</cp:coreProperties>
</file>