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4.wmf" ContentType="image/x-wmf"/>
  <Override PartName="/ppt/media/image2.png" ContentType="image/png"/>
  <Override PartName="/ppt/media/image3.png" ContentType="image/png"/>
  <Override PartName="/ppt/media/WHOOSH.WAV" ContentType="audio/x-wav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766C-F9D8-4D46-85B9-6A577E467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变量在某一时刻存在，则这时属变量的“生存期”（从给变量分配内存至所分配内存被系统收回的时间间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717-2F47-411E-80E8-019D6826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155-C89B-4679-BE15-7A33280D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7BE-00EA-4680-951B-716B445B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49B-4BF9-46D0-9524-CAE8310B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C784-4E8F-4C61-9B38-F4F8A783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FB2B-A78A-4074-9CFA-9FA98A1B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9BE8-371D-43DB-9712-C0788EC6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E2C8-EE36-4328-ADB2-46D92E78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10EC-0C30-4709-A324-07A58199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3F23-3CB7-48E8-BD9C-F9A3F3AC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50A5-2959-4F6C-86B7-9DFC6573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955-AD0D-4B69-9F67-A6D60F7E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3FF2-76E9-4BF2-B345-7C1864CF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EA93-8BBE-4DEB-9293-D99C0678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7322-9BA8-41E5-93C6-70FED8CE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73F3-86E8-47B7-80D4-671C6ED2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2BA1-5B18-46E0-8448-E6B5F4F3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9F28-AEE9-4642-918C-90DBC095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F30-C92B-40F6-A8DE-53A03659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E2D-86E9-4D71-8FD8-D28529BA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4CE-AF39-4536-959F-61EAE86F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7C6-28F2-4F8C-9EDD-65B33203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B65-ADAD-4888-9E76-2215D4BA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618-8926-42A5-8E65-44D9F8F5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9046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102B-5EE6-438E-856D-CE081DFA457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6408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7995-F7C3-4B39-A65C-FDE3E1563EB5}" type="slidenum"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8d1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8d111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9046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B0E9-148A-461E-B06F-26C4742DC0C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" Target="slide4.xm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" Target="slide4.xm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93400" y="369360"/>
            <a:ext cx="8459640" cy="14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概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变量是对程序中数据的存储空间的抽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32760" y="1495800"/>
            <a:ext cx="7373160" cy="5037840"/>
            <a:chOff x="932760" y="1495800"/>
            <a:chExt cx="7373160" cy="5037840"/>
          </a:xfrm>
        </p:grpSpPr>
        <p:grpSp>
          <p:nvGrpSpPr>
            <p:cNvPr id="217" name=""/>
            <p:cNvGrpSpPr/>
            <p:nvPr/>
          </p:nvGrpSpPr>
          <p:grpSpPr>
            <a:xfrm>
              <a:off x="6724440" y="1495800"/>
              <a:ext cx="1581480" cy="5037840"/>
              <a:chOff x="6724440" y="1495800"/>
              <a:chExt cx="1581480" cy="5037840"/>
            </a:xfrm>
          </p:grpSpPr>
          <p:sp>
            <p:nvSpPr>
              <p:cNvPr id="218" name=""/>
              <p:cNvSpPr/>
              <p:nvPr/>
            </p:nvSpPr>
            <p:spPr>
              <a:xfrm>
                <a:off x="6724440" y="1904760"/>
                <a:ext cx="1581480" cy="462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743520" y="232380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43520" y="370188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43520" y="439236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743520" y="473688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743520" y="508140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743520" y="542592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743520" y="577188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43520" y="266832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43520" y="301284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43520" y="3357360"/>
                <a:ext cx="15624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24440" y="4047840"/>
                <a:ext cx="1581480" cy="187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62640" y="149580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458c"/>
                    </a:solidFill>
                    <a:latin typeface="Times New Roman"/>
                  </a:rPr>
                  <a:t>内存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63000" y="5819040"/>
                <a:ext cx="485280" cy="66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458c"/>
                    </a:solidFill>
                    <a:latin typeface="Times New Roman"/>
                  </a:rPr>
                  <a:t>……</a:t>
                </a:r>
                <a:r>
                  <a:rPr b="0" lang="en-US" sz="2000" spc="-1" strike="noStrike">
                    <a:solidFill>
                      <a:srgbClr val="40458c"/>
                    </a:solidFill>
                    <a:latin typeface="Times New Roman"/>
                  </a:rPr>
                  <a:t>.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932760" y="2257560"/>
              <a:ext cx="2421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{   int     a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=10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printf(“%d”,a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610000" y="2819520"/>
            <a:ext cx="3562200" cy="933480"/>
          </a:xfrm>
          <a:custGeom>
            <a:avLst/>
            <a:gdLst/>
            <a:ahLst/>
            <a:rect l="l" t="t" r="r" b="b"/>
            <a:pathLst>
              <a:path w="2244" h="588">
                <a:moveTo>
                  <a:pt x="0" y="36"/>
                </a:moveTo>
                <a:cubicBezTo>
                  <a:pt x="24" y="28"/>
                  <a:pt x="48" y="20"/>
                  <a:pt x="72" y="12"/>
                </a:cubicBezTo>
                <a:cubicBezTo>
                  <a:pt x="84" y="8"/>
                  <a:pt x="108" y="0"/>
                  <a:pt x="108" y="0"/>
                </a:cubicBezTo>
                <a:cubicBezTo>
                  <a:pt x="256" y="4"/>
                  <a:pt x="404" y="4"/>
                  <a:pt x="552" y="12"/>
                </a:cubicBezTo>
                <a:cubicBezTo>
                  <a:pt x="819" y="27"/>
                  <a:pt x="1080" y="91"/>
                  <a:pt x="1344" y="120"/>
                </a:cubicBezTo>
                <a:cubicBezTo>
                  <a:pt x="1359" y="124"/>
                  <a:pt x="1411" y="135"/>
                  <a:pt x="1428" y="144"/>
                </a:cubicBezTo>
                <a:cubicBezTo>
                  <a:pt x="1441" y="150"/>
                  <a:pt x="1450" y="163"/>
                  <a:pt x="1464" y="168"/>
                </a:cubicBezTo>
                <a:cubicBezTo>
                  <a:pt x="1559" y="202"/>
                  <a:pt x="1674" y="207"/>
                  <a:pt x="1764" y="252"/>
                </a:cubicBezTo>
                <a:cubicBezTo>
                  <a:pt x="1817" y="278"/>
                  <a:pt x="1868" y="310"/>
                  <a:pt x="1920" y="336"/>
                </a:cubicBezTo>
                <a:cubicBezTo>
                  <a:pt x="1976" y="364"/>
                  <a:pt x="2015" y="394"/>
                  <a:pt x="2064" y="432"/>
                </a:cubicBezTo>
                <a:cubicBezTo>
                  <a:pt x="2087" y="450"/>
                  <a:pt x="2112" y="464"/>
                  <a:pt x="2136" y="480"/>
                </a:cubicBezTo>
                <a:cubicBezTo>
                  <a:pt x="2148" y="488"/>
                  <a:pt x="2172" y="504"/>
                  <a:pt x="2172" y="504"/>
                </a:cubicBezTo>
                <a:cubicBezTo>
                  <a:pt x="2199" y="545"/>
                  <a:pt x="2225" y="549"/>
                  <a:pt x="2244" y="58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654600">
            <a:off x="3205080" y="25434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编译或函数调用时为其分配内存单元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62640" y="380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054480" y="3667680"/>
            <a:ext cx="692640" cy="780120"/>
            <a:chOff x="6054480" y="3667680"/>
            <a:chExt cx="692640" cy="780120"/>
          </a:xfrm>
        </p:grpSpPr>
        <p:sp>
          <p:nvSpPr>
            <p:cNvPr id="237" name=""/>
            <p:cNvSpPr/>
            <p:nvPr/>
          </p:nvSpPr>
          <p:spPr>
            <a:xfrm>
              <a:off x="6054480" y="366768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54480" y="4048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433680" y="44870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程序中使用变量名对内存操作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590920" y="3219480"/>
            <a:ext cx="3485880" cy="1066680"/>
            <a:chOff x="2590920" y="3219480"/>
            <a:chExt cx="3485880" cy="1066680"/>
          </a:xfrm>
        </p:grpSpPr>
        <p:sp>
          <p:nvSpPr>
            <p:cNvPr id="241" name=""/>
            <p:cNvSpPr/>
            <p:nvPr/>
          </p:nvSpPr>
          <p:spPr>
            <a:xfrm>
              <a:off x="2590920" y="3219480"/>
              <a:ext cx="3485880" cy="843120"/>
            </a:xfrm>
            <a:custGeom>
              <a:avLst/>
              <a:gdLst/>
              <a:ahLst/>
              <a:rect l="l" t="t" r="r" b="b"/>
              <a:pathLst>
                <a:path w="2196" h="531">
                  <a:moveTo>
                    <a:pt x="0" y="0"/>
                  </a:moveTo>
                  <a:cubicBezTo>
                    <a:pt x="148" y="11"/>
                    <a:pt x="297" y="27"/>
                    <a:pt x="444" y="48"/>
                  </a:cubicBezTo>
                  <a:cubicBezTo>
                    <a:pt x="495" y="65"/>
                    <a:pt x="548" y="71"/>
                    <a:pt x="600" y="84"/>
                  </a:cubicBezTo>
                  <a:cubicBezTo>
                    <a:pt x="662" y="126"/>
                    <a:pt x="735" y="151"/>
                    <a:pt x="804" y="180"/>
                  </a:cubicBezTo>
                  <a:cubicBezTo>
                    <a:pt x="834" y="193"/>
                    <a:pt x="858" y="216"/>
                    <a:pt x="888" y="228"/>
                  </a:cubicBezTo>
                  <a:cubicBezTo>
                    <a:pt x="966" y="259"/>
                    <a:pt x="1048" y="285"/>
                    <a:pt x="1128" y="312"/>
                  </a:cubicBezTo>
                  <a:cubicBezTo>
                    <a:pt x="1174" y="327"/>
                    <a:pt x="1224" y="328"/>
                    <a:pt x="1272" y="336"/>
                  </a:cubicBezTo>
                  <a:cubicBezTo>
                    <a:pt x="1296" y="340"/>
                    <a:pt x="1321" y="340"/>
                    <a:pt x="1344" y="348"/>
                  </a:cubicBezTo>
                  <a:cubicBezTo>
                    <a:pt x="1399" y="366"/>
                    <a:pt x="1458" y="373"/>
                    <a:pt x="1512" y="396"/>
                  </a:cubicBezTo>
                  <a:cubicBezTo>
                    <a:pt x="1528" y="403"/>
                    <a:pt x="1543" y="416"/>
                    <a:pt x="1560" y="420"/>
                  </a:cubicBezTo>
                  <a:cubicBezTo>
                    <a:pt x="1607" y="432"/>
                    <a:pt x="1658" y="429"/>
                    <a:pt x="1704" y="444"/>
                  </a:cubicBezTo>
                  <a:cubicBezTo>
                    <a:pt x="1835" y="488"/>
                    <a:pt x="1950" y="506"/>
                    <a:pt x="2088" y="516"/>
                  </a:cubicBezTo>
                  <a:cubicBezTo>
                    <a:pt x="2164" y="531"/>
                    <a:pt x="2128" y="528"/>
                    <a:pt x="2196" y="528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00400" y="3791160"/>
              <a:ext cx="2762280" cy="495000"/>
            </a:xfrm>
            <a:custGeom>
              <a:avLst/>
              <a:gdLst/>
              <a:ahLst/>
              <a:rect l="l" t="t" r="r" b="b"/>
              <a:pathLst>
                <a:path w="1740" h="312">
                  <a:moveTo>
                    <a:pt x="1740" y="264"/>
                  </a:moveTo>
                  <a:cubicBezTo>
                    <a:pt x="1715" y="272"/>
                    <a:pt x="1694" y="293"/>
                    <a:pt x="1668" y="300"/>
                  </a:cubicBezTo>
                  <a:cubicBezTo>
                    <a:pt x="1637" y="308"/>
                    <a:pt x="1604" y="308"/>
                    <a:pt x="1572" y="312"/>
                  </a:cubicBezTo>
                  <a:cubicBezTo>
                    <a:pt x="1280" y="303"/>
                    <a:pt x="1007" y="283"/>
                    <a:pt x="720" y="240"/>
                  </a:cubicBezTo>
                  <a:cubicBezTo>
                    <a:pt x="647" y="229"/>
                    <a:pt x="576" y="230"/>
                    <a:pt x="504" y="216"/>
                  </a:cubicBezTo>
                  <a:cubicBezTo>
                    <a:pt x="409" y="198"/>
                    <a:pt x="335" y="162"/>
                    <a:pt x="252" y="120"/>
                  </a:cubicBezTo>
                  <a:cubicBezTo>
                    <a:pt x="215" y="102"/>
                    <a:pt x="183" y="73"/>
                    <a:pt x="144" y="60"/>
                  </a:cubicBezTo>
                  <a:cubicBezTo>
                    <a:pt x="97" y="44"/>
                    <a:pt x="35" y="35"/>
                    <a:pt x="0" y="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628560" y="341280"/>
            <a:ext cx="74548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变量的存储属性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096400" y="6343560"/>
            <a:ext cx="1047600" cy="514080"/>
            <a:chOff x="8096400" y="6343560"/>
            <a:chExt cx="1047600" cy="514080"/>
          </a:xfrm>
        </p:grpSpPr>
        <p:sp>
          <p:nvSpPr>
            <p:cNvPr id="245" name="">
              <a:hlinkClick r:id="rId2" action="ppaction://hlinksldjump"/>
            </p:cNvPr>
            <p:cNvSpPr/>
            <p:nvPr/>
          </p:nvSpPr>
          <p:spPr>
            <a:xfrm>
              <a:off x="8096400" y="6343560"/>
              <a:ext cx="1047600" cy="514080"/>
            </a:xfrm>
            <a:prstGeom prst="roundRect">
              <a:avLst>
                <a:gd name="adj" fmla="val 16667"/>
              </a:avLst>
            </a:prstGeom>
            <a:noFill/>
            <a:ln cap="sq" w="12600">
              <a:solidFill>
                <a:srgbClr val="ecd8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8239320" y="6391080"/>
              <a:ext cx="714240" cy="380880"/>
              <a:chOff x="8239320" y="6391080"/>
              <a:chExt cx="714240" cy="380880"/>
            </a:xfrm>
          </p:grpSpPr>
          <p:sp>
            <p:nvSpPr>
              <p:cNvPr id="247" name="">
                <a:hlinkClick r:id="rId3" action="ppaction://hlinksldjump"/>
              </p:cNvPr>
              <p:cNvSpPr/>
              <p:nvPr/>
            </p:nvSpPr>
            <p:spPr>
              <a:xfrm rot="16200000">
                <a:off x="8248680" y="6381360"/>
                <a:ext cx="380880" cy="399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00"/>
              </a:solidFill>
              <a:ln cap="sq"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66808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839440" y="6648120"/>
                <a:ext cx="114120" cy="114480"/>
              </a:xfrm>
              <a:prstGeom prst="ellipse">
                <a:avLst/>
              </a:prstGeom>
              <a:solidFill>
                <a:srgbClr val="00cc00"/>
              </a:solidFill>
              <a:ln cap="sq"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414600" y="533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8440" y="1633680"/>
            <a:ext cx="816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隶书"/>
                <a:ea typeface="隶书"/>
              </a:rPr>
              <a:t>局部变量默认为</a:t>
            </a:r>
            <a:r>
              <a:rPr b="0" lang="en-US" sz="2400" spc="-1" strike="noStrike">
                <a:solidFill>
                  <a:srgbClr val="660066"/>
                </a:solidFill>
                <a:latin typeface="隶书"/>
                <a:ea typeface="隶书"/>
              </a:rPr>
              <a:t>auto</a:t>
            </a:r>
            <a:r>
              <a:rPr b="0" lang="en-US" sz="2400" spc="-1" strike="noStrike">
                <a:solidFill>
                  <a:srgbClr val="660066"/>
                </a:solidFill>
                <a:latin typeface="隶书"/>
                <a:ea typeface="隶书"/>
              </a:rPr>
              <a:t>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register</a:t>
            </a: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型变量个数受限</a:t>
            </a: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且不能为</a:t>
            </a: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long, double, float</a:t>
            </a:r>
            <a:r>
              <a:rPr b="0" lang="en-US" sz="2400" spc="-1" strike="noStrike">
                <a:solidFill>
                  <a:srgbClr val="996600"/>
                </a:solidFill>
                <a:latin typeface="隶书"/>
                <a:ea typeface="隶书"/>
              </a:rPr>
              <a:t>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局部</a:t>
            </a: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static</a:t>
            </a: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变量具有</a:t>
            </a:r>
            <a:r>
              <a:rPr b="0" lang="en-US" sz="2400" spc="-1" strike="noStrike">
                <a:solidFill>
                  <a:srgbClr val="000099"/>
                </a:solidFill>
                <a:latin typeface="隶书"/>
                <a:ea typeface="隶书"/>
              </a:rPr>
              <a:t>全局寿命</a:t>
            </a: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和</a:t>
            </a:r>
            <a:r>
              <a:rPr b="0" lang="en-US" sz="2400" spc="-1" strike="noStrike">
                <a:solidFill>
                  <a:srgbClr val="000099"/>
                </a:solidFill>
                <a:latin typeface="隶书"/>
                <a:ea typeface="隶书"/>
              </a:rPr>
              <a:t>局部可见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局部</a:t>
            </a: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static</a:t>
            </a:r>
            <a:r>
              <a:rPr b="0" lang="en-US" sz="2400" spc="-1" strike="noStrike">
                <a:solidFill>
                  <a:srgbClr val="40458c"/>
                </a:solidFill>
                <a:latin typeface="隶书"/>
                <a:ea typeface="隶书"/>
              </a:rPr>
              <a:t>变量具有</a:t>
            </a: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可继承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隶书"/>
                <a:ea typeface="隶书"/>
              </a:rPr>
              <a:t>extern</a:t>
            </a:r>
            <a:r>
              <a:rPr b="0" lang="en-US" sz="2400" spc="-1" strike="noStrike">
                <a:solidFill>
                  <a:srgbClr val="003366"/>
                </a:solidFill>
                <a:latin typeface="隶书"/>
                <a:ea typeface="隶书"/>
              </a:rPr>
              <a:t>不是变量定义</a:t>
            </a:r>
            <a:r>
              <a:rPr b="0" lang="en-US" sz="2400" spc="-1" strike="noStrike">
                <a:solidFill>
                  <a:srgbClr val="003366"/>
                </a:solidFill>
                <a:latin typeface="隶书"/>
                <a:ea typeface="隶书"/>
              </a:rPr>
              <a:t>,</a:t>
            </a:r>
            <a:r>
              <a:rPr b="0" lang="en-US" sz="2400" spc="-1" strike="noStrike">
                <a:solidFill>
                  <a:srgbClr val="003366"/>
                </a:solidFill>
                <a:latin typeface="隶书"/>
                <a:ea typeface="隶书"/>
              </a:rPr>
              <a:t>可扩展外部变量作用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变量存储类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1428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2600" y="533160"/>
            <a:ext cx="3877920" cy="631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#include &lt;stdio.h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 i=1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{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atic int a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egister int b=-1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nt c=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-----MAIN------\n"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i:%d a:%d  \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:%d c:%d\n",i,a,b,c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=c+8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ther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-----MAIN------\n"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i:%d a:%d   \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:%d c:%d\n",i,a,b,c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=i+1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ther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88240" y="3091320"/>
            <a:ext cx="4079160" cy="3751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ther(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{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atic int a=2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atic int b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nt c=1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=a+2;   i=i+32;  c=c+5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-----OTHER------\n"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tf("i:%d a:%d   \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:%d c:%d\n",i,a,b,c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=a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07200" y="-1080"/>
            <a:ext cx="205812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-------Main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:1  a:0  b:-10  c:0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07200" y="678240"/>
            <a:ext cx="210096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------Other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:33  a:4  b:0  c:15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06840" y="1357920"/>
            <a:ext cx="212220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-------Main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:33  a:0  b:-10  c: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07560" y="2037240"/>
            <a:ext cx="2036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-------Other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:75  a:6  b:4  c:1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29120" y="2508120"/>
            <a:ext cx="1776960" cy="412920"/>
            <a:chOff x="5829120" y="2508120"/>
            <a:chExt cx="1776960" cy="412920"/>
          </a:xfrm>
        </p:grpSpPr>
        <p:sp>
          <p:nvSpPr>
            <p:cNvPr id="382" name=""/>
            <p:cNvSpPr/>
            <p:nvPr/>
          </p:nvSpPr>
          <p:spPr>
            <a:xfrm>
              <a:off x="5829120" y="252216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Times New Roman"/>
                </a:rPr>
                <a:t>other: c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9400" y="25081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7158600" y="249624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72320" y="2638440"/>
            <a:ext cx="23238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829120" y="2508120"/>
            <a:ext cx="1776960" cy="413280"/>
            <a:chOff x="5829120" y="2508120"/>
            <a:chExt cx="1776960" cy="413280"/>
          </a:xfrm>
        </p:grpSpPr>
        <p:sp>
          <p:nvSpPr>
            <p:cNvPr id="387" name=""/>
            <p:cNvSpPr/>
            <p:nvPr/>
          </p:nvSpPr>
          <p:spPr>
            <a:xfrm>
              <a:off x="5829120" y="2522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other: c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69400" y="2508120"/>
              <a:ext cx="43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7177680" y="2515320"/>
            <a:ext cx="43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91040" y="2581200"/>
            <a:ext cx="2267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509400"/>
            <a:ext cx="81392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例  变量的寿命与可见性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1595520"/>
            <a:ext cx="845964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变量的属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数据类型：变量所持有的数据的性质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操作属性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存储属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存储器类型：寄存器、静态存储区、动态存储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生存期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：变量在某一时刻存在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--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静态变量与动态变量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作用域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：变量在某区域内有效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--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局部变量与全局变量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变量的存储类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auto   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自动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register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寄存器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static  -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静态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extern  -----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外部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变量定义格式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: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[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存储类型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]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数据类型     变量表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840" y="723960"/>
            <a:ext cx="84596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概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变量是对程序中数据的存储空间的抽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88480" y="4586400"/>
            <a:ext cx="253260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如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:    int   sum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uto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  int   a,b,c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egister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  int   i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tatic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float    x,y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31880" y="377640"/>
            <a:ext cx="73404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变量的存储属性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24000" y="1074240"/>
            <a:ext cx="85838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局部变量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内部变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定义：在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函数内定义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，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只在本函数内有效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说明：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i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中定义的变量只在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i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中有效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不同函数中同名变量，占不同内存单元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形参属于局部变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可定义在复合语句中有效的变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04658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局部变量可用存储类型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：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auto     register    static      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（默认为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ut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724280" y="1219320"/>
            <a:ext cx="3943440" cy="5132160"/>
            <a:chOff x="4724280" y="1219320"/>
            <a:chExt cx="3943440" cy="5132160"/>
          </a:xfrm>
        </p:grpSpPr>
        <p:sp>
          <p:nvSpPr>
            <p:cNvPr id="256" name=""/>
            <p:cNvSpPr/>
            <p:nvPr/>
          </p:nvSpPr>
          <p:spPr>
            <a:xfrm>
              <a:off x="4724280" y="1219320"/>
              <a:ext cx="3943440" cy="4952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68720" y="1382760"/>
              <a:ext cx="1393920" cy="49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float  f1(int a) 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int b,c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 ……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char f2(int x,int y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 int i,j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 ……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main(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int m,n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……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19640" y="1549440"/>
              <a:ext cx="74880" cy="1092240"/>
            </a:xfrm>
            <a:custGeom>
              <a:avLst/>
              <a:gdLst>
                <a:gd name="textAreaLeft" fmla="*/ 0 w 74880"/>
                <a:gd name="textAreaRight" fmla="*/ 27000 w 74880"/>
                <a:gd name="textAreaTop" fmla="*/ 28440 h 1092240"/>
                <a:gd name="textAreaBottom" fmla="*/ 1063800 h 10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40600" y="1982880"/>
              <a:ext cx="1171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,b,c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有效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13520" y="3078000"/>
              <a:ext cx="74520" cy="1040040"/>
            </a:xfrm>
            <a:custGeom>
              <a:avLst/>
              <a:gdLst>
                <a:gd name="textAreaLeft" fmla="*/ 0 w 74520"/>
                <a:gd name="textAreaRight" fmla="*/ 27000 w 74520"/>
                <a:gd name="textAreaTop" fmla="*/ 27000 h 1040040"/>
                <a:gd name="textAreaBottom" fmla="*/ 1013040 h 104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34120" y="3419280"/>
              <a:ext cx="1171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x,y,i,j</a:t>
              </a:r>
              <a:r>
                <a:rPr b="0" lang="en-US" sz="2000" spc="-1" strike="noStrike">
                  <a:solidFill>
                    <a:srgbClr val="ff9900"/>
                  </a:solidFill>
                  <a:latin typeface="Times New Roman"/>
                </a:rPr>
                <a:t>有效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87960" y="4535280"/>
              <a:ext cx="74880" cy="1322640"/>
            </a:xfrm>
            <a:custGeom>
              <a:avLst/>
              <a:gdLst>
                <a:gd name="textAreaLeft" fmla="*/ 0 w 74880"/>
                <a:gd name="textAreaRight" fmla="*/ 27000 w 74880"/>
                <a:gd name="textAreaTop" fmla="*/ 34200 h 1322640"/>
                <a:gd name="textAreaBottom" fmla="*/ 1288440 h 132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08560" y="4968720"/>
              <a:ext cx="1171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m,n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有效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244040" y="318960"/>
            <a:ext cx="4601880" cy="5959440"/>
            <a:chOff x="4244040" y="318960"/>
            <a:chExt cx="4601880" cy="5959440"/>
          </a:xfrm>
        </p:grpSpPr>
        <p:sp>
          <p:nvSpPr>
            <p:cNvPr id="265" name=""/>
            <p:cNvSpPr/>
            <p:nvPr/>
          </p:nvSpPr>
          <p:spPr>
            <a:xfrm>
              <a:off x="4756680" y="31896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例 不同函数中同名变量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aphicFrame>
          <p:nvGraphicFramePr>
            <p:cNvPr id="266" name=""/>
            <p:cNvGraphicFramePr/>
            <p:nvPr/>
          </p:nvGraphicFramePr>
          <p:xfrm>
            <a:off x="7297560" y="341280"/>
            <a:ext cx="911160" cy="669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97560" y="341280"/>
                      <a:ext cx="9111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8" name=""/>
            <p:cNvSpPr/>
            <p:nvPr/>
          </p:nvSpPr>
          <p:spPr>
            <a:xfrm>
              <a:off x="4244040" y="1063800"/>
              <a:ext cx="4601880" cy="5214600"/>
            </a:xfrm>
            <a:prstGeom prst="rect">
              <a:avLst/>
            </a:prstGeom>
            <a:solidFill>
              <a:srgbClr val="e1fff7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{ 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int a,b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=3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b=4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printf("main:a=%d,b=%d\n",a,b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sub(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printf("main:a=%d,b=%d\n",a,b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sub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{ 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int a,b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=6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b=7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printf("sub:a=%d,b=%d\n",a,b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988520" y="800280"/>
            <a:ext cx="3628440" cy="5544360"/>
            <a:chOff x="4988520" y="800280"/>
            <a:chExt cx="3628440" cy="5544360"/>
          </a:xfrm>
        </p:grpSpPr>
        <p:sp>
          <p:nvSpPr>
            <p:cNvPr id="270" name=""/>
            <p:cNvSpPr/>
            <p:nvPr/>
          </p:nvSpPr>
          <p:spPr>
            <a:xfrm>
              <a:off x="5463360" y="1003680"/>
              <a:ext cx="14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例 复合语句中变量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aphicFrame>
          <p:nvGraphicFramePr>
            <p:cNvPr id="271" name=""/>
            <p:cNvGraphicFramePr/>
            <p:nvPr/>
          </p:nvGraphicFramePr>
          <p:xfrm>
            <a:off x="7705800" y="800280"/>
            <a:ext cx="911160" cy="669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705800" y="800280"/>
                      <a:ext cx="9111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" name=""/>
            <p:cNvSpPr/>
            <p:nvPr/>
          </p:nvSpPr>
          <p:spPr>
            <a:xfrm>
              <a:off x="4988520" y="1495800"/>
              <a:ext cx="3061080" cy="4848840"/>
            </a:xfrm>
            <a:prstGeom prst="rect">
              <a:avLst/>
            </a:prstGeom>
            <a:solidFill>
              <a:srgbClr val="e1fff7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#define   N   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in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{  int i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int a[N]={1,2,3,4,5}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for(i=0;i&lt;N/2;i++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{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int temp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temp=a[i]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[i]=a[N-i-1]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[N-i-1]=temp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for(i=0;i&lt;N;i++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printf("%d  ",a[i]);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515560" y="714240"/>
            <a:ext cx="3628440" cy="6107760"/>
            <a:chOff x="5515560" y="714240"/>
            <a:chExt cx="3628440" cy="6107760"/>
          </a:xfrm>
        </p:grpSpPr>
        <p:sp>
          <p:nvSpPr>
            <p:cNvPr id="275" name=""/>
            <p:cNvSpPr/>
            <p:nvPr/>
          </p:nvSpPr>
          <p:spPr>
            <a:xfrm>
              <a:off x="5766120" y="6423120"/>
              <a:ext cx="2155680" cy="398880"/>
            </a:xfrm>
            <a:prstGeom prst="rect">
              <a:avLst/>
            </a:prstGeom>
            <a:solidFill>
              <a:srgbClr val="33cccc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运行结果：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5  4  3  2  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5515560" y="714240"/>
              <a:ext cx="3628440" cy="5544360"/>
              <a:chOff x="5515560" y="714240"/>
              <a:chExt cx="3628440" cy="5544360"/>
            </a:xfrm>
          </p:grpSpPr>
          <p:sp>
            <p:nvSpPr>
              <p:cNvPr id="277" name=""/>
              <p:cNvSpPr/>
              <p:nvPr/>
            </p:nvSpPr>
            <p:spPr>
              <a:xfrm>
                <a:off x="5990400" y="917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458c"/>
                    </a:solidFill>
                    <a:latin typeface="Times New Roman"/>
                  </a:rPr>
                  <a:t>例 复合语句中变量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aphicFrame>
            <p:nvGraphicFramePr>
              <p:cNvPr id="278" name=""/>
              <p:cNvGraphicFramePr/>
              <p:nvPr/>
            </p:nvGraphicFramePr>
            <p:xfrm>
              <a:off x="8232840" y="714240"/>
              <a:ext cx="911160" cy="6699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8232840" y="714240"/>
                        <a:ext cx="911160" cy="66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"/>
              <p:cNvSpPr/>
              <p:nvPr/>
            </p:nvSpPr>
            <p:spPr>
              <a:xfrm>
                <a:off x="5515560" y="1409760"/>
                <a:ext cx="3061080" cy="4848840"/>
              </a:xfrm>
              <a:prstGeom prst="rect">
                <a:avLst/>
              </a:prstGeom>
              <a:solidFill>
                <a:srgbClr val="e1fff7"/>
              </a:solidFill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#define  N  5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main(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{  int i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int a[N]={1,2,3,4,5}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for(i=0;i&lt;N/2;i++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{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int temp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temp=a[i]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a[i]=a[N-i-1]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a[N-i-1]=temp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}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for(i=0;i&lt;N;i++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printf("%d  ",a[i])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}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4232880" y="309600"/>
            <a:ext cx="4601880" cy="5959440"/>
            <a:chOff x="4232880" y="309600"/>
            <a:chExt cx="4601880" cy="5959440"/>
          </a:xfrm>
        </p:grpSpPr>
        <p:grpSp>
          <p:nvGrpSpPr>
            <p:cNvPr id="282" name=""/>
            <p:cNvGrpSpPr/>
            <p:nvPr/>
          </p:nvGrpSpPr>
          <p:grpSpPr>
            <a:xfrm>
              <a:off x="4232880" y="309600"/>
              <a:ext cx="4601880" cy="5959440"/>
              <a:chOff x="4232880" y="309600"/>
              <a:chExt cx="4601880" cy="5959440"/>
            </a:xfrm>
          </p:grpSpPr>
          <p:sp>
            <p:nvSpPr>
              <p:cNvPr id="283" name=""/>
              <p:cNvSpPr/>
              <p:nvPr/>
            </p:nvSpPr>
            <p:spPr>
              <a:xfrm>
                <a:off x="4745520" y="309600"/>
                <a:ext cx="177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458c"/>
                    </a:solidFill>
                    <a:latin typeface="Times New Roman"/>
                  </a:rPr>
                  <a:t>例 不同函数中同名变量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aphicFrame>
            <p:nvGraphicFramePr>
              <p:cNvPr id="284" name=""/>
              <p:cNvGraphicFramePr/>
              <p:nvPr/>
            </p:nvGraphicFramePr>
            <p:xfrm>
              <a:off x="7286400" y="331920"/>
              <a:ext cx="911160" cy="6699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85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7286400" y="331920"/>
                        <a:ext cx="911160" cy="66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6" name=""/>
              <p:cNvSpPr/>
              <p:nvPr/>
            </p:nvSpPr>
            <p:spPr>
              <a:xfrm>
                <a:off x="4232880" y="1054440"/>
                <a:ext cx="4601880" cy="5214600"/>
              </a:xfrm>
              <a:prstGeom prst="rect">
                <a:avLst/>
              </a:prstGeom>
              <a:solidFill>
                <a:srgbClr val="e1fff7"/>
              </a:solidFill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main(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{   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int a,b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a=3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b=4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printf("main:a=%d,b=%d\n",a,b)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sub()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printf("main:a=%d,b=%d\n",a,b)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}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sub(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{   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int a,b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a=6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b=7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printf("sub:a=%d,b=%d\n",a,b);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}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6964200" y="3844800"/>
              <a:ext cx="1607040" cy="1313640"/>
            </a:xfrm>
            <a:prstGeom prst="rect">
              <a:avLst/>
            </a:prstGeom>
            <a:solidFill>
              <a:srgbClr val="33cccc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运行结果：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main:a=3,b=4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sub:a=6,b=7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main:a=3,b=4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4136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局部变量与全局变量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10" name="CAMERA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4" dur="1" fill="hold"/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66400" y="552600"/>
            <a:ext cx="820908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外部变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定义：在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函数外定义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，可为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本文件所有函数共用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有效范围：从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定义变量的位置开始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到本源文件结束，及有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xtern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说明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的其它源文件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587960" y="3507840"/>
            <a:ext cx="591228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应尽量少使用全局变量，因为：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ff"/>
              </a:buClr>
              <a:buFont typeface="Wingdings" charset="2"/>
              <a:buChar char="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全局变量在程序全部执行过程中占用存储单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ff"/>
              </a:buClr>
              <a:buFont typeface="Wingdings" charset="2"/>
              <a:buChar char="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降低了函数的通用性、可靠性，可移植性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ff"/>
              </a:buClr>
              <a:buFont typeface="Wingdings" charset="2"/>
              <a:buChar char="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降低程序清晰性，容易出错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-945720" y="3164760"/>
            <a:ext cx="1104372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隶书"/>
              </a:rPr>
              <a:t> 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隶书"/>
              </a:rPr>
              <a:t>定义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说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次数：          只能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次                       可说明多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位置：         所有函数之外              函数内或函数外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分配内存： 分配内存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可初始化     不分配内存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,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不可初始化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1978200"/>
            <a:ext cx="82090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外部变量说明：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extern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数据类型    变量表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36232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外部变量定义与外部变量说明不同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2703600"/>
            <a:ext cx="820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若外部变量与局部变量同名，则外部变量被屏蔽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7680" y="3124080"/>
            <a:ext cx="820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外部变量可用存储类型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：缺省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或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stati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598760" y="714240"/>
            <a:ext cx="1614240" cy="3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全局变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397240" y="41400"/>
            <a:ext cx="4900320" cy="558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loat   max,min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Verdana"/>
              </a:rPr>
              <a:t>float  average(float   array[],  int  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{   int i;   float  sum=array[0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max=min=array[0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for(i=1;i&lt;n;i++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{   if(array[i]&gt;max)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max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=array[i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 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else if(array[i]&lt;min) 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in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=array[i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 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sum+=array[i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return(sum/n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main(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{   int i;   float ave,score[10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/*Input  */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ave=</a:t>
            </a:r>
            <a:r>
              <a:rPr b="0" lang="en-US" sz="2000" spc="-1" strike="noStrike">
                <a:solidFill>
                  <a:srgbClr val="990033"/>
                </a:solidFill>
                <a:latin typeface="Verdana"/>
              </a:rPr>
              <a:t>average(score,10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printf("max=%6.2f\nmin=%6.2f\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average=%6.2f\n",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ax,min,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ave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534000" y="324000"/>
            <a:ext cx="1758240" cy="5981400"/>
            <a:chOff x="6534000" y="324000"/>
            <a:chExt cx="1758240" cy="5981400"/>
          </a:xfrm>
        </p:grpSpPr>
        <p:grpSp>
          <p:nvGrpSpPr>
            <p:cNvPr id="299" name=""/>
            <p:cNvGrpSpPr/>
            <p:nvPr/>
          </p:nvGrpSpPr>
          <p:grpSpPr>
            <a:xfrm>
              <a:off x="6534000" y="324000"/>
              <a:ext cx="1105200" cy="5981400"/>
              <a:chOff x="6534000" y="324000"/>
              <a:chExt cx="1105200" cy="5981400"/>
            </a:xfrm>
          </p:grpSpPr>
          <p:sp>
            <p:nvSpPr>
              <p:cNvPr id="300" name=""/>
              <p:cNvSpPr/>
              <p:nvPr/>
            </p:nvSpPr>
            <p:spPr>
              <a:xfrm>
                <a:off x="6534000" y="324000"/>
                <a:ext cx="110520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9200" y="324000"/>
                <a:ext cx="0" cy="5981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7777440" y="3072600"/>
              <a:ext cx="485280" cy="11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作用域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72680" y="2277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93560" y="27532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603000"/>
            <a:ext cx="19242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例子解析（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2114640" y="476280"/>
            <a:ext cx="5333760" cy="6057720"/>
            <a:chOff x="2114640" y="476280"/>
            <a:chExt cx="5333760" cy="6057720"/>
          </a:xfrm>
        </p:grpSpPr>
        <p:sp>
          <p:nvSpPr>
            <p:cNvPr id="307" name=""/>
            <p:cNvSpPr/>
            <p:nvPr/>
          </p:nvSpPr>
          <p:spPr>
            <a:xfrm>
              <a:off x="2114640" y="476280"/>
              <a:ext cx="5333760" cy="605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00520" y="563400"/>
              <a:ext cx="1393560" cy="49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int  p=1,q=5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float  f1(int a) 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int b,c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 ……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int   f3(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….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char c1,c2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char f2(int x,int y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 int i,j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 ……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main(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{  int m,n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   ……</a:t>
              </a: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71960" y="3890880"/>
              <a:ext cx="184320" cy="1963800"/>
            </a:xfrm>
            <a:custGeom>
              <a:avLst/>
              <a:gdLst>
                <a:gd name="textAreaLeft" fmla="*/ 0 w 184320"/>
                <a:gd name="textAreaRight" fmla="*/ 66600 w 184320"/>
                <a:gd name="textAreaTop" fmla="*/ 51120 h 1963800"/>
                <a:gd name="textAreaBottom" fmla="*/ 1912680 h 19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75040" y="4137120"/>
              <a:ext cx="15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c1,c2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的作用范围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40240" y="770040"/>
              <a:ext cx="74880" cy="5273640"/>
            </a:xfrm>
            <a:custGeom>
              <a:avLst/>
              <a:gdLst>
                <a:gd name="textAreaLeft" fmla="*/ 0 w 74880"/>
                <a:gd name="textAreaRight" fmla="*/ 27000 w 74880"/>
                <a:gd name="textAreaTop" fmla="*/ 137520 h 5273640"/>
                <a:gd name="textAreaBottom" fmla="*/ 5136120 h 527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37320" y="2914560"/>
              <a:ext cx="132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p,q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的作用范围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908080" y="86760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xtern  char c1,c2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62080" y="182304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xtern  char c1,c2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096400" y="6343560"/>
            <a:ext cx="1047600" cy="51444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238400" y="1085760"/>
            <a:ext cx="1580760" cy="5200920"/>
            <a:chOff x="1238400" y="1085760"/>
            <a:chExt cx="1580760" cy="5200920"/>
          </a:xfrm>
        </p:grpSpPr>
        <p:grpSp>
          <p:nvGrpSpPr>
            <p:cNvPr id="317" name=""/>
            <p:cNvGrpSpPr/>
            <p:nvPr/>
          </p:nvGrpSpPr>
          <p:grpSpPr>
            <a:xfrm>
              <a:off x="1885680" y="1085760"/>
              <a:ext cx="933480" cy="5200920"/>
              <a:chOff x="1885680" y="1085760"/>
              <a:chExt cx="933480" cy="5200920"/>
            </a:xfrm>
          </p:grpSpPr>
          <p:sp>
            <p:nvSpPr>
              <p:cNvPr id="318" name=""/>
              <p:cNvSpPr/>
              <p:nvPr/>
            </p:nvSpPr>
            <p:spPr>
              <a:xfrm flipH="1">
                <a:off x="1885680" y="1085760"/>
                <a:ext cx="933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86040" y="1085760"/>
                <a:ext cx="0" cy="5200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238400" y="2405880"/>
              <a:ext cx="726480" cy="3040200"/>
              <a:chOff x="1238400" y="2405880"/>
              <a:chExt cx="726480" cy="3040200"/>
            </a:xfrm>
          </p:grpSpPr>
          <p:sp>
            <p:nvSpPr>
              <p:cNvPr id="321" name=""/>
              <p:cNvSpPr/>
              <p:nvPr/>
            </p:nvSpPr>
            <p:spPr>
              <a:xfrm>
                <a:off x="1238400" y="3355920"/>
                <a:ext cx="72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c1,c2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354680" y="3621960"/>
                <a:ext cx="485280" cy="182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的作用范围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316520" y="2405880"/>
                <a:ext cx="48528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扩展后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1714680" y="1638360"/>
            <a:ext cx="1123560" cy="4648320"/>
            <a:chOff x="1714680" y="1638360"/>
            <a:chExt cx="1123560" cy="4648320"/>
          </a:xfrm>
        </p:grpSpPr>
        <p:grpSp>
          <p:nvGrpSpPr>
            <p:cNvPr id="325" name=""/>
            <p:cNvGrpSpPr/>
            <p:nvPr/>
          </p:nvGrpSpPr>
          <p:grpSpPr>
            <a:xfrm>
              <a:off x="2419200" y="1638360"/>
              <a:ext cx="419040" cy="4648320"/>
              <a:chOff x="2419200" y="1638360"/>
              <a:chExt cx="419040" cy="46483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2419200" y="1638360"/>
                <a:ext cx="324000" cy="1066680"/>
                <a:chOff x="2419200" y="1638360"/>
                <a:chExt cx="324000" cy="1066680"/>
              </a:xfrm>
            </p:grpSpPr>
            <p:sp>
              <p:nvSpPr>
                <p:cNvPr id="327" name=""/>
                <p:cNvSpPr/>
                <p:nvPr/>
              </p:nvSpPr>
              <p:spPr>
                <a:xfrm flipH="1">
                  <a:off x="2419200" y="1638360"/>
                  <a:ext cx="3240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419200" y="1638360"/>
                  <a:ext cx="0" cy="10666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419200" y="2705040"/>
                  <a:ext cx="2667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533320" y="3809880"/>
                <a:ext cx="304920" cy="2476800"/>
                <a:chOff x="2533320" y="3809880"/>
                <a:chExt cx="304920" cy="2476800"/>
              </a:xfrm>
            </p:grpSpPr>
            <p:sp>
              <p:nvSpPr>
                <p:cNvPr id="331" name=""/>
                <p:cNvSpPr/>
                <p:nvPr/>
              </p:nvSpPr>
              <p:spPr>
                <a:xfrm flipH="1">
                  <a:off x="2533320" y="382896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533680" y="3809880"/>
                  <a:ext cx="0" cy="24768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1714680" y="2196360"/>
              <a:ext cx="726480" cy="3040200"/>
              <a:chOff x="1714680" y="2196360"/>
              <a:chExt cx="726480" cy="3040200"/>
            </a:xfrm>
          </p:grpSpPr>
          <p:sp>
            <p:nvSpPr>
              <p:cNvPr id="334" name=""/>
              <p:cNvSpPr/>
              <p:nvPr/>
            </p:nvSpPr>
            <p:spPr>
              <a:xfrm>
                <a:off x="1714680" y="3146400"/>
                <a:ext cx="72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c1,c2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830960" y="3412440"/>
                <a:ext cx="485280" cy="182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的作用范围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92800" y="2196360"/>
                <a:ext cx="48528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Times New Roman"/>
                  </a:rPr>
                  <a:t>扩展后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520" y="379440"/>
            <a:ext cx="2844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例子解析（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7" dur="1" fill="hold"/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579600" y="304920"/>
            <a:ext cx="3902040" cy="3930480"/>
            <a:chOff x="579600" y="304920"/>
            <a:chExt cx="3902040" cy="3930480"/>
          </a:xfrm>
        </p:grpSpPr>
        <p:graphicFrame>
          <p:nvGraphicFramePr>
            <p:cNvPr id="339" name=""/>
            <p:cNvGraphicFramePr/>
            <p:nvPr/>
          </p:nvGraphicFramePr>
          <p:xfrm>
            <a:off x="3515040" y="304920"/>
            <a:ext cx="819000" cy="75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15040" y="304920"/>
                      <a:ext cx="81900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579600" y="57312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8040" y="1092240"/>
              <a:ext cx="3603600" cy="3143160"/>
            </a:xfrm>
            <a:prstGeom prst="rect">
              <a:avLst/>
            </a:prstGeom>
            <a:solidFill>
              <a:srgbClr val="e1fff7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int max(int  x, int y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{  int z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z=x&gt;y?x:y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return(z)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main(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{  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extern int a,b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printf("max=%d",max(a,b))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Verdana"/>
                </a:rPr>
                <a:t>int a=13,b=-8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966960" y="4986360"/>
            <a:ext cx="2171160" cy="459720"/>
          </a:xfrm>
          <a:prstGeom prst="rect">
            <a:avLst/>
          </a:prstGeom>
          <a:solidFill>
            <a:srgbClr val="33cccc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运行结果：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x=1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>
            <a:hlinkClick r:id="rId4" action="ppaction://hlinksldjump"/>
          </p:cNvPr>
          <p:cNvSpPr/>
          <p:nvPr/>
        </p:nvSpPr>
        <p:spPr>
          <a:xfrm>
            <a:off x="8096400" y="6343560"/>
            <a:ext cx="1047600" cy="51444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39440" y="1128600"/>
            <a:ext cx="3265200" cy="314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extern int a,b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int max(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{  int z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z=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a&gt;b?a:b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return(z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main(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{  printf("max=%d",max()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nt a=13,b=-8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74680" y="304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例  外部变量定义与说明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27160" y="361800"/>
            <a:ext cx="5637960" cy="4010040"/>
            <a:chOff x="227160" y="361800"/>
            <a:chExt cx="5637960" cy="4010040"/>
          </a:xfrm>
        </p:grpSpPr>
        <p:sp>
          <p:nvSpPr>
            <p:cNvPr id="348" name=""/>
            <p:cNvSpPr/>
            <p:nvPr/>
          </p:nvSpPr>
          <p:spPr>
            <a:xfrm>
              <a:off x="2196000" y="923760"/>
              <a:ext cx="3669120" cy="3448080"/>
            </a:xfrm>
            <a:prstGeom prst="rect">
              <a:avLst/>
            </a:prstGeom>
            <a:solidFill>
              <a:srgbClr val="e1fff7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/*ch7_17.c*/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Verdana"/>
                </a:rPr>
                <a:t>int a=3,b=5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max(</a:t>
              </a:r>
              <a:r>
                <a:rPr b="0" lang="en-US" sz="2000" spc="-1" strike="noStrike">
                  <a:solidFill>
                    <a:srgbClr val="008000"/>
                  </a:solidFill>
                  <a:latin typeface="Verdana"/>
                </a:rPr>
                <a:t>int  a, int b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{   int c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c=a&gt;b?a:b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return(c)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main(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{   </a:t>
              </a:r>
              <a:r>
                <a:rPr b="0" lang="en-US" sz="2000" spc="-1" strike="noStrike">
                  <a:solidFill>
                    <a:srgbClr val="ff9900"/>
                  </a:solidFill>
                  <a:latin typeface="Verdana"/>
                </a:rPr>
                <a:t>int a=8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printf("max=%d",max(a,b))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Verdana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89080" y="971640"/>
            <a:ext cx="869760" cy="82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9080" y="971640"/>
                      <a:ext cx="869760" cy="8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227160" y="3618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128320" y="5118120"/>
            <a:ext cx="1713960" cy="398880"/>
          </a:xfrm>
          <a:prstGeom prst="rect">
            <a:avLst/>
          </a:prstGeom>
          <a:solidFill>
            <a:srgbClr val="33cccc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运行结果：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ax=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>
            <a:hlinkClick r:id="rId4" action="ppaction://hlinksldjump"/>
          </p:cNvPr>
          <p:cNvSpPr/>
          <p:nvPr/>
        </p:nvSpPr>
        <p:spPr>
          <a:xfrm>
            <a:off x="7848720" y="6058080"/>
            <a:ext cx="1047600" cy="51408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例  外部变量与局部变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-360" y="810720"/>
            <a:ext cx="858348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存储方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静态存储：程序运行期间分配固定存储空间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动态存储：程序运行期间根据需要动态分配存储空间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04658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内存用户区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3646440"/>
            <a:ext cx="8686800" cy="2819520"/>
            <a:chOff x="457200" y="3646440"/>
            <a:chExt cx="8686800" cy="2819520"/>
          </a:xfrm>
        </p:grpSpPr>
        <p:sp>
          <p:nvSpPr>
            <p:cNvPr id="357" name=""/>
            <p:cNvSpPr/>
            <p:nvPr/>
          </p:nvSpPr>
          <p:spPr>
            <a:xfrm>
              <a:off x="457200" y="3646440"/>
              <a:ext cx="8686800" cy="281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0800" y="3794040"/>
              <a:ext cx="2468520" cy="2309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0800" y="4552920"/>
              <a:ext cx="2468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0800" y="5329080"/>
              <a:ext cx="2468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19640" y="39168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  <a:ea typeface="隶书"/>
                </a:rPr>
                <a:t>程序区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69880" y="47041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静态存储区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98680" y="5491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动态存储区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54400" y="4798800"/>
              <a:ext cx="1146240" cy="265320"/>
            </a:xfrm>
            <a:prstGeom prst="leftArrow">
              <a:avLst>
                <a:gd name="adj1" fmla="val 50000"/>
                <a:gd name="adj2" fmla="val 108005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84640" y="5603760"/>
              <a:ext cx="1146240" cy="265320"/>
            </a:xfrm>
            <a:prstGeom prst="leftArrow">
              <a:avLst>
                <a:gd name="adj1" fmla="val 50000"/>
                <a:gd name="adj2" fmla="val 108005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34680" y="468684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隶书"/>
                </a:rPr>
                <a:t>全局变量、局部静态变量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27760" y="5178240"/>
              <a:ext cx="330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隶书"/>
                </a:rPr>
                <a:t>形参变量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隶书"/>
                </a:rPr>
                <a:t>局部动态变量（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隶书"/>
                </a:rPr>
                <a:t>auto   register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隶书"/>
                </a:rPr>
                <a:t>函数调用现场保护和返回地址等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57880" y="5433840"/>
              <a:ext cx="74520" cy="8636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23920" y="2311560"/>
            <a:ext cx="85834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生存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静态变量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: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从程序开始执行到程序结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动态变量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: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从包含该变量定义的函数开始执行至函数执行结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735120" y="453960"/>
            <a:ext cx="7340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动态变量与静态变量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8T14:41:51Z</dcterms:created>
  <dc:creator>hyg</dc:creator>
  <dc:description/>
  <dc:language>en-US</dc:language>
  <cp:lastModifiedBy>YlmF</cp:lastModifiedBy>
  <dcterms:modified xsi:type="dcterms:W3CDTF">2009-06-13T14:22:20Z</dcterms:modified>
  <cp:revision>870</cp:revision>
  <dc:subject/>
  <dc:title>第六章  函数</dc:title>
</cp:coreProperties>
</file>