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WHOOSH.WAV" ContentType="audio/x-wav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416-1248-4029-BB9F-B3ED05C8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46F-ED69-478A-B817-8152E7A4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149-6C9B-47D1-BBED-F41AF369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845-D95E-41AE-B869-AFF51CB1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4C7F-A3F9-4A24-96D5-C57B6D36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6034-A0E7-4F21-954D-0554962B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26F4-E683-4963-8D8B-6EED3601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12D8-D372-47B1-83DD-66A62B27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3862-65D4-43D0-BA0A-17CDAEB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21EA-0D12-4C08-A76F-4C62BBB1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ED63-0C52-431A-A6C0-A792532B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9C6-3A9E-4B1D-B54E-12F73494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7266-3D6D-469B-9600-9D8614A3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37E7-ACFD-44B0-B5EE-9254510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EBD-01C1-4C4D-867D-D40D3A99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5ED7-6F91-46C4-8CA5-31EC1E12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046E-1092-4EB6-A48F-891C5B88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2C7-0B66-4373-8AC4-B829F5A4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0E3-6264-4276-A3B4-F1E31CF7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C6E-996A-4AC6-BD51-BBBBE935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A33-2829-4E29-A7D6-285A77CA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924-6063-497D-AC27-13198C7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A67-159C-4172-BB4C-FAF8A77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545-C681-4EBC-8426-BCE8D97D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D2E3-3C82-4278-B7EF-76F25FAEBBB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CDFD-2732-40B8-9381-88F079E19300}" type="slidenum"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E4D4-4BD4-47F5-BB5E-45F72CF119A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TC\TC.EXE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5900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指针前言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4360" y="1631880"/>
            <a:ext cx="784548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程序设计中使用指针可以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使程序简洁、紧凑、高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有效地表示复杂的数据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动态分配内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得到多于一个的函数返回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50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0920" y="1363680"/>
            <a:ext cx="52452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*p1,*p2,*p,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1=&amp;a;  p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p=p1;  p1=p2;  p2=p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a=%d,b=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max=%d,min=%d\n",*p1,*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88040" y="5284800"/>
            <a:ext cx="29026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5,b=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=9,min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6400" y="3805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输入两个数，并使其从大到小输出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34440" y="365040"/>
            <a:ext cx="854892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共享内存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双向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2"/>
          </p:cNvPr>
          <p:cNvSpPr/>
          <p:nvPr/>
        </p:nvSpPr>
        <p:spPr>
          <a:xfrm>
            <a:off x="8381880" y="60390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1040" y="1695600"/>
            <a:ext cx="3663000" cy="448308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int 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swap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61600" y="128268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75160" y="4111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091120" y="1279440"/>
            <a:ext cx="2617920" cy="4626000"/>
            <a:chOff x="5091120" y="1279440"/>
            <a:chExt cx="2617920" cy="4626000"/>
          </a:xfrm>
        </p:grpSpPr>
        <p:sp>
          <p:nvSpPr>
            <p:cNvPr id="426" name=""/>
            <p:cNvSpPr/>
            <p:nvPr/>
          </p:nvSpPr>
          <p:spPr>
            <a:xfrm>
              <a:off x="5767560" y="534024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69000" y="4791240"/>
              <a:ext cx="1924200" cy="106668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67560" y="1279440"/>
              <a:ext cx="1922400" cy="35118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86640" y="197496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86640" y="2381400"/>
              <a:ext cx="1922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86640" y="27511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86640" y="31561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67560" y="35654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86640" y="44258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67560" y="480528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89960" y="4805280"/>
              <a:ext cx="180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48760" y="13694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47320" y="487008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86640" y="39844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19560" y="1799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21360" y="33408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91120" y="3726360"/>
              <a:ext cx="74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19560" y="21852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19560" y="25707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9560" y="29548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5791320" y="2190600"/>
              <a:ext cx="95040" cy="2457360"/>
              <a:chOff x="5791320" y="2190600"/>
              <a:chExt cx="95040" cy="2457360"/>
            </a:xfrm>
          </p:grpSpPr>
          <p:sp>
            <p:nvSpPr>
              <p:cNvPr id="447" name=""/>
              <p:cNvSpPr/>
              <p:nvPr/>
            </p:nvSpPr>
            <p:spPr>
              <a:xfrm>
                <a:off x="5791320" y="219060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791320" y="30099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91320" y="341928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791320" y="38289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91320" y="42386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91320" y="46479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91320" y="260028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581960" y="2171880"/>
              <a:ext cx="95040" cy="2457360"/>
              <a:chOff x="7581960" y="2171880"/>
              <a:chExt cx="95040" cy="2457360"/>
            </a:xfrm>
          </p:grpSpPr>
          <p:sp>
            <p:nvSpPr>
              <p:cNvPr id="455" name=""/>
              <p:cNvSpPr/>
              <p:nvPr/>
            </p:nvSpPr>
            <p:spPr>
              <a:xfrm>
                <a:off x="7581960" y="217188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81960" y="29912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81960" y="34005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581960" y="38102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581960" y="421992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81960" y="462924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581960" y="2581560"/>
                <a:ext cx="9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6558120" y="200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276240" y="1551600"/>
            <a:ext cx="2482200" cy="1026000"/>
            <a:chOff x="6276240" y="1551600"/>
            <a:chExt cx="2482200" cy="1026000"/>
          </a:xfrm>
        </p:grpSpPr>
        <p:grpSp>
          <p:nvGrpSpPr>
            <p:cNvPr id="464" name=""/>
            <p:cNvGrpSpPr/>
            <p:nvPr/>
          </p:nvGrpSpPr>
          <p:grpSpPr>
            <a:xfrm>
              <a:off x="7673760" y="1785960"/>
              <a:ext cx="1020240" cy="398880"/>
              <a:chOff x="7673760" y="1785960"/>
              <a:chExt cx="1020240" cy="398880"/>
            </a:xfrm>
          </p:grpSpPr>
          <p:sp>
            <p:nvSpPr>
              <p:cNvPr id="465" name=""/>
              <p:cNvSpPr/>
              <p:nvPr/>
            </p:nvSpPr>
            <p:spPr>
              <a:xfrm flipH="1">
                <a:off x="7673760" y="1981080"/>
                <a:ext cx="3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34840" y="1785960"/>
                <a:ext cx="65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7673400" y="2117880"/>
              <a:ext cx="1085040" cy="459720"/>
              <a:chOff x="7673400" y="2117880"/>
              <a:chExt cx="1085040" cy="45972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7673400" y="236232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67800" y="2117880"/>
                <a:ext cx="89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276240" y="15516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(m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577200" y="236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325920" y="2770920"/>
            <a:ext cx="2859120" cy="1406880"/>
            <a:chOff x="6325920" y="2770920"/>
            <a:chExt cx="2859120" cy="1406880"/>
          </a:xfrm>
        </p:grpSpPr>
        <p:grpSp>
          <p:nvGrpSpPr>
            <p:cNvPr id="473" name=""/>
            <p:cNvGrpSpPr/>
            <p:nvPr/>
          </p:nvGrpSpPr>
          <p:grpSpPr>
            <a:xfrm>
              <a:off x="7719840" y="3718080"/>
              <a:ext cx="1465200" cy="459720"/>
              <a:chOff x="7719840" y="3718080"/>
              <a:chExt cx="1465200" cy="45972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7719840" y="3962520"/>
                <a:ext cx="36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13520" y="3718080"/>
                <a:ext cx="127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e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693200" y="3367080"/>
              <a:ext cx="1060200" cy="398880"/>
              <a:chOff x="7693200" y="3367080"/>
              <a:chExt cx="1060200" cy="398880"/>
            </a:xfrm>
          </p:grpSpPr>
          <p:sp>
            <p:nvSpPr>
              <p:cNvPr id="477" name=""/>
              <p:cNvSpPr/>
              <p:nvPr/>
            </p:nvSpPr>
            <p:spPr>
              <a:xfrm flipH="1">
                <a:off x="7693200" y="3562200"/>
                <a:ext cx="3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886880" y="3367080"/>
                <a:ext cx="86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693200" y="2967120"/>
              <a:ext cx="1060200" cy="398880"/>
              <a:chOff x="7693200" y="2967120"/>
              <a:chExt cx="1060200" cy="39888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7693200" y="3162240"/>
                <a:ext cx="3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886880" y="2967120"/>
                <a:ext cx="86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6325920" y="277092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00"/>
                  </a:solidFill>
                  <a:latin typeface="Times New Roman"/>
                </a:rPr>
                <a:t>(swa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632640" y="395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019840" y="2209680"/>
            <a:ext cx="1890360" cy="1376280"/>
            <a:chOff x="5019840" y="2209680"/>
            <a:chExt cx="1890360" cy="1376280"/>
          </a:xfrm>
        </p:grpSpPr>
        <p:sp>
          <p:nvSpPr>
            <p:cNvPr id="485" name=""/>
            <p:cNvSpPr/>
            <p:nvPr/>
          </p:nvSpPr>
          <p:spPr>
            <a:xfrm>
              <a:off x="6577200" y="312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19840" y="2209680"/>
              <a:ext cx="237960" cy="1181160"/>
            </a:xfrm>
            <a:prstGeom prst="pie">
              <a:avLst/>
            </a:pr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968720" y="2590920"/>
            <a:ext cx="1922040" cy="1433160"/>
            <a:chOff x="4968720" y="2590920"/>
            <a:chExt cx="1922040" cy="1433160"/>
          </a:xfrm>
        </p:grpSpPr>
        <p:sp>
          <p:nvSpPr>
            <p:cNvPr id="488" name=""/>
            <p:cNvSpPr/>
            <p:nvPr/>
          </p:nvSpPr>
          <p:spPr>
            <a:xfrm>
              <a:off x="6557760" y="3564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68720" y="2590920"/>
              <a:ext cx="288720" cy="1199880"/>
            </a:xfrm>
            <a:prstGeom prst="pie">
              <a:avLst/>
            </a:prstGeom>
            <a:noFill/>
            <a:ln w="38160">
              <a:solidFill>
                <a:srgbClr val="7458f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634080" y="3561120"/>
            <a:ext cx="333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53160" y="3161160"/>
            <a:ext cx="333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97520" y="2837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指针变量作为函数参数——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地址传递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54160" y="365040"/>
            <a:ext cx="85485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共享内存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双向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4400" y="1782720"/>
            <a:ext cx="3663000" cy="484884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swap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97920" y="121932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4760" y="2836080"/>
            <a:ext cx="137448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值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94160" y="4111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06920" y="5975280"/>
            <a:ext cx="13878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指针变量作为函数参数——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地址传递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720440" y="844560"/>
            <a:ext cx="4670640" cy="521460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int  *p1, int  *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*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1=*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2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swap(pointer_1,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6960" y="291960"/>
            <a:ext cx="3054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96800" y="632628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86040" y="2247120"/>
            <a:ext cx="171936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地址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87320" y="36144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3943440" y="0"/>
          <a:ext cx="92556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3440" y="0"/>
                    <a:ext cx="9255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14040" y="696960"/>
            <a:ext cx="4822920" cy="521460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*p1, int *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=*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1=*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2=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pointer_1,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82360" y="609912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30560" y="266868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编译警告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结果不对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1530360"/>
            <a:ext cx="18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  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  *p=&amp;x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5120" y="3445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57880" y="4941720"/>
            <a:ext cx="3405240" cy="1668600"/>
          </a:xfrm>
          <a:prstGeom prst="irregularSeal1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隶书"/>
              </a:rPr>
              <a:t>指针变量在使用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隶书"/>
              </a:rPr>
              <a:t>必须赋值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0640" y="383760"/>
            <a:ext cx="8220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例 将数从大到小输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CAMERA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4040" y="1058760"/>
            <a:ext cx="5127840" cy="484884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ch9_32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x; x=y;  y=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*pointer_1,*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\n%d,%d\n"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55280" y="603900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2400" y="36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85280" y="1885320"/>
            <a:ext cx="137448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值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687320" y="6097680"/>
            <a:ext cx="15339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38160" y="312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600" y="717480"/>
            <a:ext cx="5392800" cy="521460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int *p1, int *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=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ointer_1,*pointer_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ointer_1=&amp;a;  pointer_2=&amp;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a&lt;b)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wap(pointer_1,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%d,%d",*pointer_1,*pointer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15720" y="1886760"/>
            <a:ext cx="1719360" cy="1480320"/>
          </a:xfrm>
          <a:prstGeom prst="irregularSeal1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地址传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47600" y="568080"/>
            <a:ext cx="7772400" cy="1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将数从大到小输出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5760" y="3067200"/>
            <a:ext cx="704880" cy="1143000"/>
            <a:chOff x="1085760" y="3067200"/>
            <a:chExt cx="704880" cy="1143000"/>
          </a:xfrm>
        </p:grpSpPr>
        <p:sp>
          <p:nvSpPr>
            <p:cNvPr id="90" name=""/>
            <p:cNvSpPr/>
            <p:nvPr/>
          </p:nvSpPr>
          <p:spPr>
            <a:xfrm>
              <a:off x="1085760" y="3867120"/>
              <a:ext cx="704880" cy="343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3067200"/>
              <a:ext cx="704880" cy="342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2440" y="851040"/>
            <a:ext cx="853128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变量与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56440" y="2509560"/>
            <a:ext cx="2860200" cy="1191240"/>
          </a:xfrm>
          <a:prstGeom prst="rect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程序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int  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 k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61720" y="1467360"/>
            <a:ext cx="1288440" cy="398880"/>
          </a:xfrm>
          <a:prstGeom prst="borderCallout2">
            <a:avLst>
              <a:gd name="adj1" fmla="val 18750"/>
              <a:gd name="adj2" fmla="val -8333"/>
              <a:gd name="adj3" fmla="val 26277"/>
              <a:gd name="adj4" fmla="val -22342"/>
              <a:gd name="adj5" fmla="val 205500"/>
              <a:gd name="adj6" fmla="val -186171"/>
            </a:avLst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内存中每个字节有一个编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9720" y="33908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9720" y="4552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58fe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62880" y="4024440"/>
            <a:ext cx="27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编译或函数调用时为其分配内存单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48040" y="2886120"/>
            <a:ext cx="3752640" cy="399960"/>
            <a:chOff x="3848040" y="2886120"/>
            <a:chExt cx="3752640" cy="399960"/>
          </a:xfrm>
        </p:grpSpPr>
        <p:sp>
          <p:nvSpPr>
            <p:cNvPr id="99" name=""/>
            <p:cNvSpPr/>
            <p:nvPr/>
          </p:nvSpPr>
          <p:spPr>
            <a:xfrm>
              <a:off x="7600680" y="2886120"/>
              <a:ext cx="0" cy="399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48040" y="3286080"/>
              <a:ext cx="3752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48040" y="3648240"/>
            <a:ext cx="4049280" cy="419040"/>
            <a:chOff x="3848040" y="3648240"/>
            <a:chExt cx="4049280" cy="419040"/>
          </a:xfrm>
        </p:grpSpPr>
        <p:sp>
          <p:nvSpPr>
            <p:cNvPr id="102" name=""/>
            <p:cNvSpPr/>
            <p:nvPr/>
          </p:nvSpPr>
          <p:spPr>
            <a:xfrm>
              <a:off x="3848040" y="4065840"/>
              <a:ext cx="4049280" cy="0"/>
            </a:xfrm>
            <a:prstGeom prst="line">
              <a:avLst/>
            </a:prstGeom>
            <a:ln w="9360">
              <a:solidFill>
                <a:srgbClr val="7458fe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897320" y="3648240"/>
              <a:ext cx="0" cy="419040"/>
            </a:xfrm>
            <a:prstGeom prst="line">
              <a:avLst/>
            </a:prstGeom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172480" y="5160960"/>
            <a:ext cx="2796120" cy="1272600"/>
          </a:xfrm>
          <a:prstGeom prst="cloudCallout">
            <a:avLst>
              <a:gd name="adj1" fmla="val -80763"/>
              <a:gd name="adj2" fmla="val -8302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是对程序中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存储空间的抽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36360" y="923400"/>
            <a:ext cx="38718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指针的概念</a:t>
            </a:r>
            <a:br>
              <a:rPr sz="3600"/>
            </a:b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3440" y="1856160"/>
            <a:ext cx="2837160" cy="5001840"/>
            <a:chOff x="1063440" y="1856160"/>
            <a:chExt cx="2837160" cy="5001840"/>
          </a:xfrm>
        </p:grpSpPr>
        <p:grpSp>
          <p:nvGrpSpPr>
            <p:cNvPr id="107" name=""/>
            <p:cNvGrpSpPr/>
            <p:nvPr/>
          </p:nvGrpSpPr>
          <p:grpSpPr>
            <a:xfrm>
              <a:off x="1063440" y="1856160"/>
              <a:ext cx="2781000" cy="5001840"/>
              <a:chOff x="1063440" y="1856160"/>
              <a:chExt cx="2781000" cy="5001840"/>
            </a:xfrm>
          </p:grpSpPr>
          <p:sp>
            <p:nvSpPr>
              <p:cNvPr id="108" name=""/>
              <p:cNvSpPr/>
              <p:nvPr/>
            </p:nvSpPr>
            <p:spPr>
              <a:xfrm>
                <a:off x="1919160" y="6292800"/>
                <a:ext cx="1922040" cy="565200"/>
              </a:xfrm>
              <a:custGeom>
                <a:avLst/>
                <a:gdLst/>
                <a:ahLst/>
                <a:rect l="l" t="t" r="r" b="b"/>
                <a:pathLst>
                  <a:path w="1211" h="456">
                    <a:moveTo>
                      <a:pt x="0" y="163"/>
                    </a:moveTo>
                    <a:cubicBezTo>
                      <a:pt x="159" y="81"/>
                      <a:pt x="318" y="0"/>
                      <a:pt x="500" y="41"/>
                    </a:cubicBezTo>
                    <a:cubicBezTo>
                      <a:pt x="682" y="82"/>
                      <a:pt x="970" y="360"/>
                      <a:pt x="1089" y="408"/>
                    </a:cubicBezTo>
                    <a:cubicBezTo>
                      <a:pt x="1208" y="456"/>
                      <a:pt x="1191" y="345"/>
                      <a:pt x="1211" y="33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20600" y="5743440"/>
                <a:ext cx="1923840" cy="1066680"/>
              </a:xfrm>
              <a:custGeom>
                <a:avLst/>
                <a:gdLst/>
                <a:ahLst/>
                <a:rect l="l" t="t" r="r" b="b"/>
                <a:pathLst>
                  <a:path w="1212" h="672">
                    <a:moveTo>
                      <a:pt x="12" y="0"/>
                    </a:moveTo>
                    <a:lnTo>
                      <a:pt x="1212" y="0"/>
                    </a:lnTo>
                    <a:lnTo>
                      <a:pt x="1212" y="624"/>
                    </a:lnTo>
                    <a:lnTo>
                      <a:pt x="1140" y="672"/>
                    </a:lnTo>
                    <a:lnTo>
                      <a:pt x="720" y="468"/>
                    </a:lnTo>
                    <a:lnTo>
                      <a:pt x="540" y="384"/>
                    </a:lnTo>
                    <a:lnTo>
                      <a:pt x="360" y="372"/>
                    </a:lnTo>
                    <a:lnTo>
                      <a:pt x="216" y="408"/>
                    </a:lnTo>
                    <a:lnTo>
                      <a:pt x="0" y="46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ddddd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19160" y="2232000"/>
                <a:ext cx="1922040" cy="3511440"/>
              </a:xfrm>
              <a:prstGeom prst="rect">
                <a:avLst/>
              </a:prstGeom>
              <a:solidFill>
                <a:srgbClr val="ddddd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19160" y="263664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19160" y="328932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9160" y="3695400"/>
                <a:ext cx="19220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19160" y="406548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19160" y="447012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00080" y="487980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19160" y="574020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19160" y="5757840"/>
                <a:ext cx="0" cy="72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41560" y="575784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80920" y="2683800"/>
                <a:ext cx="4852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8200" y="5822280"/>
                <a:ext cx="4852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63440" y="30373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63440" y="34423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63440" y="38311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63440" y="510120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98200" y="185616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内存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54600" y="2218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63440" y="423108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19160" y="5298840"/>
                <a:ext cx="192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938240" y="3503520"/>
              <a:ext cx="196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16280" y="3900600"/>
              <a:ext cx="196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084480" y="68256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变量的地址是指该变量所占存储单元的第一个字节的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833560" y="1870200"/>
            <a:ext cx="4794840" cy="4626000"/>
            <a:chOff x="2833560" y="1870200"/>
            <a:chExt cx="4794840" cy="4626000"/>
          </a:xfrm>
        </p:grpSpPr>
        <p:sp>
          <p:nvSpPr>
            <p:cNvPr id="134" name=""/>
            <p:cNvSpPr/>
            <p:nvPr/>
          </p:nvSpPr>
          <p:spPr>
            <a:xfrm>
              <a:off x="3689280" y="593100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90720" y="5381640"/>
              <a:ext cx="1924200" cy="106704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89280" y="1870200"/>
              <a:ext cx="1922400" cy="35114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08360" y="25657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8360" y="2971800"/>
              <a:ext cx="192240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08360" y="33418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8360" y="37465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89280" y="41562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8360" y="50166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9280" y="539604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11680" y="53960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70480" y="196020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69040" y="54608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3560" y="23900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33560" y="39315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33560" y="47012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3560" y="43171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8360" y="45752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95840" y="257184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58800" y="23274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27560" y="2745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633640" y="415296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640" y="39085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变量</a:t>
              </a: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_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33560" y="27756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33560" y="31615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33560" y="35456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55480" y="344520"/>
            <a:ext cx="67852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：一个变量的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变量：专门存放变量地址的变量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81480" y="43711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16960" y="1755720"/>
            <a:ext cx="689760" cy="566640"/>
          </a:xfrm>
          <a:prstGeom prst="wedgeEllipseCallout">
            <a:avLst>
              <a:gd name="adj1" fmla="val 59231"/>
              <a:gd name="adj2" fmla="val 82759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指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87120" y="4422600"/>
            <a:ext cx="1122840" cy="566640"/>
          </a:xfrm>
          <a:prstGeom prst="wedgeEllipseCallout">
            <a:avLst>
              <a:gd name="adj1" fmla="val -74740"/>
              <a:gd name="adj2" fmla="val -74060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585880" y="2381400"/>
            <a:ext cx="1009800" cy="2228760"/>
            <a:chOff x="2585880" y="2381400"/>
            <a:chExt cx="1009800" cy="2228760"/>
          </a:xfrm>
        </p:grpSpPr>
        <p:grpSp>
          <p:nvGrpSpPr>
            <p:cNvPr id="165" name=""/>
            <p:cNvGrpSpPr/>
            <p:nvPr/>
          </p:nvGrpSpPr>
          <p:grpSpPr>
            <a:xfrm>
              <a:off x="2585880" y="2590920"/>
              <a:ext cx="1009800" cy="2019240"/>
              <a:chOff x="2585880" y="2590920"/>
              <a:chExt cx="1009800" cy="201924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604960" y="2590920"/>
                <a:ext cx="2476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85880" y="2590920"/>
                <a:ext cx="0" cy="201924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85880" y="4610160"/>
                <a:ext cx="100980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843280" y="2381400"/>
              <a:ext cx="676080" cy="442800"/>
            </a:xfrm>
            <a:custGeom>
              <a:avLst/>
              <a:gdLst/>
              <a:ahLst/>
              <a:rect l="l" t="t" r="r" b="b"/>
              <a:pathLst>
                <a:path w="426" h="279">
                  <a:moveTo>
                    <a:pt x="294" y="24"/>
                  </a:moveTo>
                  <a:cubicBezTo>
                    <a:pt x="200" y="11"/>
                    <a:pt x="110" y="5"/>
                    <a:pt x="18" y="36"/>
                  </a:cubicBezTo>
                  <a:cubicBezTo>
                    <a:pt x="0" y="89"/>
                    <a:pt x="0" y="72"/>
                    <a:pt x="18" y="144"/>
                  </a:cubicBezTo>
                  <a:cubicBezTo>
                    <a:pt x="24" y="169"/>
                    <a:pt x="18" y="208"/>
                    <a:pt x="42" y="216"/>
                  </a:cubicBezTo>
                  <a:cubicBezTo>
                    <a:pt x="115" y="240"/>
                    <a:pt x="182" y="261"/>
                    <a:pt x="258" y="276"/>
                  </a:cubicBezTo>
                  <a:cubicBezTo>
                    <a:pt x="276" y="274"/>
                    <a:pt x="377" y="279"/>
                    <a:pt x="402" y="240"/>
                  </a:cubicBezTo>
                  <a:cubicBezTo>
                    <a:pt x="415" y="219"/>
                    <a:pt x="426" y="168"/>
                    <a:pt x="426" y="168"/>
                  </a:cubicBezTo>
                  <a:cubicBezTo>
                    <a:pt x="405" y="104"/>
                    <a:pt x="409" y="70"/>
                    <a:pt x="342" y="48"/>
                  </a:cubicBezTo>
                  <a:cubicBezTo>
                    <a:pt x="326" y="0"/>
                    <a:pt x="342" y="8"/>
                    <a:pt x="294" y="24"/>
                  </a:cubicBezTo>
                  <a:close/>
                </a:path>
              </a:pathLst>
            </a:custGeom>
            <a:noFill/>
            <a:ln w="38160">
              <a:solidFill>
                <a:srgbClr val="7458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793560" y="2859120"/>
            <a:ext cx="1351080" cy="459720"/>
          </a:xfrm>
          <a:prstGeom prst="borderCallout1">
            <a:avLst>
              <a:gd name="adj1" fmla="val 18750"/>
              <a:gd name="adj2" fmla="val -8333"/>
              <a:gd name="adj3" fmla="val 23787"/>
              <a:gd name="adj4" fmla="val -12618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变量的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7480" y="2954160"/>
            <a:ext cx="1403280" cy="459720"/>
          </a:xfrm>
          <a:prstGeom prst="borderCallout1">
            <a:avLst>
              <a:gd name="adj1" fmla="val 18750"/>
              <a:gd name="adj2" fmla="val -8333"/>
              <a:gd name="adj3" fmla="val -111185"/>
              <a:gd name="adj4" fmla="val 15180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变量的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9000" y="6000840"/>
            <a:ext cx="51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指针与指针变量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68480" y="4957920"/>
            <a:ext cx="7580160" cy="1572120"/>
            <a:chOff x="1068480" y="4957920"/>
            <a:chExt cx="7580160" cy="1572120"/>
          </a:xfrm>
        </p:grpSpPr>
        <p:sp>
          <p:nvSpPr>
            <p:cNvPr id="175" name=""/>
            <p:cNvSpPr/>
            <p:nvPr/>
          </p:nvSpPr>
          <p:spPr>
            <a:xfrm>
              <a:off x="1068480" y="4957920"/>
              <a:ext cx="7580160" cy="157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_pointer                              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4                          2000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11280" y="5321160"/>
              <a:ext cx="893880" cy="7066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22800" y="5265720"/>
              <a:ext cx="2027160" cy="71604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40480" y="5265720"/>
              <a:ext cx="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80120" y="5265720"/>
              <a:ext cx="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8600" y="5288040"/>
              <a:ext cx="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963880" y="5662080"/>
              <a:ext cx="21700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2" name="CAMERA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38120" y="3236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2600" y="1114560"/>
            <a:ext cx="1656360" cy="1314000"/>
          </a:xfrm>
          <a:prstGeom prst="wedgeRectCallout">
            <a:avLst>
              <a:gd name="adj1" fmla="val -14736"/>
              <a:gd name="adj2" fmla="val -77416"/>
            </a:avLst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取变量的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单目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结合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自右向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3760" y="1114560"/>
            <a:ext cx="2418480" cy="1314000"/>
          </a:xfrm>
          <a:prstGeom prst="wedgeRectCallout">
            <a:avLst>
              <a:gd name="adj1" fmla="val -66444"/>
              <a:gd name="adj2" fmla="val -78865"/>
            </a:avLst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取指针所指向变量的内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单目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优先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结合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自右向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67360" y="530280"/>
            <a:ext cx="81532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者关系：互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逆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4800" y="2212920"/>
            <a:ext cx="5041440" cy="4626000"/>
            <a:chOff x="604800" y="2212920"/>
            <a:chExt cx="5041440" cy="4626000"/>
          </a:xfrm>
        </p:grpSpPr>
        <p:sp>
          <p:nvSpPr>
            <p:cNvPr id="187" name=""/>
            <p:cNvSpPr/>
            <p:nvPr/>
          </p:nvSpPr>
          <p:spPr>
            <a:xfrm>
              <a:off x="871560" y="4284720"/>
              <a:ext cx="655560" cy="38268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4800" y="2212920"/>
              <a:ext cx="5041440" cy="4626000"/>
              <a:chOff x="604800" y="2212920"/>
              <a:chExt cx="5041440" cy="46260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851760" y="2212920"/>
                <a:ext cx="4794480" cy="4626000"/>
                <a:chOff x="851760" y="2212920"/>
                <a:chExt cx="4794480" cy="46260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707480" y="6273720"/>
                  <a:ext cx="1922040" cy="565200"/>
                </a:xfrm>
                <a:custGeom>
                  <a:avLst/>
                  <a:gdLst/>
                  <a:ahLst/>
                  <a:rect l="l" t="t" r="r" b="b"/>
                  <a:pathLst>
                    <a:path w="1211" h="456">
                      <a:moveTo>
                        <a:pt x="0" y="163"/>
                      </a:moveTo>
                      <a:cubicBezTo>
                        <a:pt x="159" y="81"/>
                        <a:pt x="318" y="0"/>
                        <a:pt x="500" y="41"/>
                      </a:cubicBezTo>
                      <a:cubicBezTo>
                        <a:pt x="682" y="82"/>
                        <a:pt x="970" y="360"/>
                        <a:pt x="1089" y="408"/>
                      </a:cubicBezTo>
                      <a:cubicBezTo>
                        <a:pt x="1208" y="456"/>
                        <a:pt x="1191" y="345"/>
                        <a:pt x="1211" y="33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08920" y="5724360"/>
                  <a:ext cx="1923840" cy="1067040"/>
                </a:xfrm>
                <a:custGeom>
                  <a:avLst/>
                  <a:gdLst/>
                  <a:ahLst/>
                  <a:rect l="l" t="t" r="r" b="b"/>
                  <a:pathLst>
                    <a:path w="1212" h="672">
                      <a:moveTo>
                        <a:pt x="12" y="0"/>
                      </a:moveTo>
                      <a:lnTo>
                        <a:pt x="1212" y="0"/>
                      </a:lnTo>
                      <a:lnTo>
                        <a:pt x="1212" y="624"/>
                      </a:lnTo>
                      <a:lnTo>
                        <a:pt x="1140" y="672"/>
                      </a:lnTo>
                      <a:lnTo>
                        <a:pt x="720" y="468"/>
                      </a:lnTo>
                      <a:lnTo>
                        <a:pt x="540" y="384"/>
                      </a:lnTo>
                      <a:lnTo>
                        <a:pt x="360" y="372"/>
                      </a:lnTo>
                      <a:lnTo>
                        <a:pt x="216" y="408"/>
                      </a:lnTo>
                      <a:lnTo>
                        <a:pt x="0" y="46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707480" y="2212920"/>
                  <a:ext cx="1922040" cy="3511440"/>
                </a:xfrm>
                <a:prstGeom prst="rect">
                  <a:avLst/>
                </a:prstGeom>
                <a:solidFill>
                  <a:srgbClr val="ddddd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26560" y="290844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726560" y="3314520"/>
                  <a:ext cx="192204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726560" y="368460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726560" y="408924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707480" y="449892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726560" y="535932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07480" y="5738760"/>
                  <a:ext cx="0" cy="72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29880" y="5738760"/>
                  <a:ext cx="0" cy="95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88320" y="2302920"/>
                  <a:ext cx="4852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486880" y="5803560"/>
                  <a:ext cx="4852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51760" y="273276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51760" y="427428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51760" y="504396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51760" y="465984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26560" y="4917960"/>
                  <a:ext cx="1922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3613680" y="2914560"/>
                  <a:ext cx="361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076640" y="2670120"/>
                  <a:ext cx="93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整型变量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345400" y="30880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3652200" y="4495680"/>
                  <a:ext cx="36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11480" y="4251240"/>
                  <a:ext cx="1634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变量</a:t>
                  </a:r>
                  <a:r>
                    <a:rPr b="0" lang="en-US" sz="2000" spc="-1" strike="noStrike">
                      <a:solidFill>
                        <a:srgbClr val="7458fe"/>
                      </a:solidFill>
                      <a:latin typeface="Times New Roman"/>
                    </a:rPr>
                    <a:t>i</a:t>
                  </a:r>
                  <a:r>
                    <a:rPr b="0" lang="en-US" sz="2400" spc="-1" strike="noStrike">
                      <a:solidFill>
                        <a:srgbClr val="7458fe"/>
                      </a:solidFill>
                      <a:latin typeface="Times New Roman"/>
                    </a:rPr>
                    <a:t>_point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51760" y="311832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51760" y="350424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51760" y="388836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2299680" y="47138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7458fe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04960" y="4765320"/>
                <a:ext cx="1122840" cy="566640"/>
              </a:xfrm>
              <a:prstGeom prst="wedgeEllipseCallout">
                <a:avLst>
                  <a:gd name="adj1" fmla="val -75254"/>
                  <a:gd name="adj2" fmla="val -74060"/>
                </a:avLst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指针变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04800" y="2724120"/>
                <a:ext cx="1009440" cy="2228760"/>
                <a:chOff x="604800" y="2724120"/>
                <a:chExt cx="1009440" cy="22287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04800" y="2933640"/>
                  <a:ext cx="1009440" cy="2019240"/>
                  <a:chOff x="604800" y="2933640"/>
                  <a:chExt cx="1009440" cy="20192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>
                    <a:off x="623160" y="2933640"/>
                    <a:ext cx="247320" cy="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04800" y="2933640"/>
                    <a:ext cx="0" cy="201924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04800" y="4952880"/>
                    <a:ext cx="1009440" cy="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861840" y="2724120"/>
                  <a:ext cx="675720" cy="442800"/>
                </a:xfrm>
                <a:custGeom>
                  <a:avLst/>
                  <a:gdLst/>
                  <a:ahLst/>
                  <a:rect l="l" t="t" r="r" b="b"/>
                  <a:pathLst>
                    <a:path w="426" h="279">
                      <a:moveTo>
                        <a:pt x="294" y="24"/>
                      </a:moveTo>
                      <a:cubicBezTo>
                        <a:pt x="200" y="11"/>
                        <a:pt x="110" y="5"/>
                        <a:pt x="18" y="36"/>
                      </a:cubicBezTo>
                      <a:cubicBezTo>
                        <a:pt x="0" y="89"/>
                        <a:pt x="0" y="72"/>
                        <a:pt x="18" y="144"/>
                      </a:cubicBezTo>
                      <a:cubicBezTo>
                        <a:pt x="24" y="169"/>
                        <a:pt x="18" y="208"/>
                        <a:pt x="42" y="216"/>
                      </a:cubicBezTo>
                      <a:cubicBezTo>
                        <a:pt x="115" y="240"/>
                        <a:pt x="182" y="261"/>
                        <a:pt x="258" y="276"/>
                      </a:cubicBezTo>
                      <a:cubicBezTo>
                        <a:pt x="276" y="274"/>
                        <a:pt x="377" y="279"/>
                        <a:pt x="402" y="240"/>
                      </a:cubicBezTo>
                      <a:cubicBezTo>
                        <a:pt x="415" y="219"/>
                        <a:pt x="426" y="168"/>
                        <a:pt x="426" y="168"/>
                      </a:cubicBezTo>
                      <a:cubicBezTo>
                        <a:pt x="405" y="104"/>
                        <a:pt x="409" y="70"/>
                        <a:pt x="342" y="48"/>
                      </a:cubicBezTo>
                      <a:cubicBezTo>
                        <a:pt x="326" y="0"/>
                        <a:pt x="342" y="8"/>
                        <a:pt x="294" y="24"/>
                      </a:cubicBezTo>
                      <a:close/>
                    </a:path>
                  </a:pathLst>
                </a:custGeom>
                <a:noFill/>
                <a:ln w="38160">
                  <a:solidFill>
                    <a:srgbClr val="7458f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4" name=""/>
          <p:cNvSpPr/>
          <p:nvPr/>
        </p:nvSpPr>
        <p:spPr>
          <a:xfrm>
            <a:off x="1981440" y="5552640"/>
            <a:ext cx="49842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_pointer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指针变量，它的内容是地址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*i_pointer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指针的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目标变量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，它的内容是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&amp;i_pointer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指针变量占用内存的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11320" y="1409040"/>
            <a:ext cx="3929400" cy="1209960"/>
            <a:chOff x="4711320" y="1409040"/>
            <a:chExt cx="3929400" cy="1209960"/>
          </a:xfrm>
        </p:grpSpPr>
        <p:sp>
          <p:nvSpPr>
            <p:cNvPr id="226" name=""/>
            <p:cNvSpPr/>
            <p:nvPr/>
          </p:nvSpPr>
          <p:spPr>
            <a:xfrm>
              <a:off x="5932080" y="1862280"/>
              <a:ext cx="9702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8120" y="1838520"/>
              <a:ext cx="9702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2280" y="2073240"/>
              <a:ext cx="6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57920" y="14500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1320" y="140904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*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11320" y="186768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&amp;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32240" y="2220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993480" y="3182760"/>
            <a:ext cx="40669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_pointer     &amp;i     &amp;(*i_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i       *i_pointer      *(&amp;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920" y="3201840"/>
            <a:ext cx="4258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_po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amp;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amp;(*i_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*i_po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*(&amp;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60640" y="419040"/>
            <a:ext cx="2976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&amp;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运算符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98440" y="865080"/>
            <a:ext cx="853128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直接访问：按变量地址存取变量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间接访问：通过存放变量地址的变量去访问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23240" y="2052720"/>
            <a:ext cx="3656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4800" y="1889280"/>
            <a:ext cx="4794840" cy="4626000"/>
            <a:chOff x="604800" y="1889280"/>
            <a:chExt cx="4794840" cy="4626000"/>
          </a:xfrm>
        </p:grpSpPr>
        <p:grpSp>
          <p:nvGrpSpPr>
            <p:cNvPr id="239" name=""/>
            <p:cNvGrpSpPr/>
            <p:nvPr/>
          </p:nvGrpSpPr>
          <p:grpSpPr>
            <a:xfrm>
              <a:off x="604800" y="1889280"/>
              <a:ext cx="4794840" cy="4626000"/>
              <a:chOff x="604800" y="1889280"/>
              <a:chExt cx="4794840" cy="4626000"/>
            </a:xfrm>
          </p:grpSpPr>
          <p:sp>
            <p:nvSpPr>
              <p:cNvPr id="240" name=""/>
              <p:cNvSpPr/>
              <p:nvPr/>
            </p:nvSpPr>
            <p:spPr>
              <a:xfrm>
                <a:off x="4157640" y="4441680"/>
                <a:ext cx="1122840" cy="566640"/>
              </a:xfrm>
              <a:prstGeom prst="wedgeEllipseCallout">
                <a:avLst>
                  <a:gd name="adj1" fmla="val -75254"/>
                  <a:gd name="adj2" fmla="val -74060"/>
                </a:avLst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指针变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604800" y="1889280"/>
                <a:ext cx="4794840" cy="4626000"/>
                <a:chOff x="604800" y="1889280"/>
                <a:chExt cx="4794840" cy="462600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04800" y="1889280"/>
                  <a:ext cx="4794840" cy="4626000"/>
                  <a:chOff x="604800" y="1889280"/>
                  <a:chExt cx="4794840" cy="46260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460520" y="5950080"/>
                    <a:ext cx="192240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1" h="456">
                        <a:moveTo>
                          <a:pt x="0" y="163"/>
                        </a:moveTo>
                        <a:cubicBezTo>
                          <a:pt x="159" y="81"/>
                          <a:pt x="318" y="0"/>
                          <a:pt x="500" y="41"/>
                        </a:cubicBezTo>
                        <a:cubicBezTo>
                          <a:pt x="682" y="82"/>
                          <a:pt x="970" y="360"/>
                          <a:pt x="1089" y="408"/>
                        </a:cubicBezTo>
                        <a:cubicBezTo>
                          <a:pt x="1208" y="456"/>
                          <a:pt x="1191" y="345"/>
                          <a:pt x="1211" y="33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461960" y="5400720"/>
                    <a:ext cx="1924200" cy="10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2" h="672">
                        <a:moveTo>
                          <a:pt x="12" y="0"/>
                        </a:moveTo>
                        <a:lnTo>
                          <a:pt x="1212" y="0"/>
                        </a:lnTo>
                        <a:lnTo>
                          <a:pt x="1212" y="624"/>
                        </a:lnTo>
                        <a:lnTo>
                          <a:pt x="1140" y="672"/>
                        </a:lnTo>
                        <a:lnTo>
                          <a:pt x="720" y="468"/>
                        </a:lnTo>
                        <a:lnTo>
                          <a:pt x="540" y="384"/>
                        </a:lnTo>
                        <a:lnTo>
                          <a:pt x="360" y="372"/>
                        </a:lnTo>
                        <a:lnTo>
                          <a:pt x="216" y="408"/>
                        </a:lnTo>
                        <a:lnTo>
                          <a:pt x="0" y="468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460520" y="1889280"/>
                    <a:ext cx="1922400" cy="3511440"/>
                  </a:xfrm>
                  <a:prstGeom prst="rect">
                    <a:avLst/>
                  </a:prstGeom>
                  <a:solidFill>
                    <a:srgbClr val="dddddd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479600" y="258480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479600" y="299088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479600" y="336096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479600" y="376560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460520" y="417528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479600" y="503568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460520" y="5415120"/>
                    <a:ext cx="0" cy="72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382920" y="541512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241720" y="1979280"/>
                    <a:ext cx="485280" cy="54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240280" y="5479920"/>
                    <a:ext cx="485280" cy="54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…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04800" y="240912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04800" y="395064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4800" y="472032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4800" y="433620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79600" y="4594320"/>
                    <a:ext cx="192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>
                    <a:off x="3367080" y="2590920"/>
                    <a:ext cx="362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830040" y="2346480"/>
                    <a:ext cx="93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整型变量</a:t>
                    </a:r>
                    <a:r>
                      <a:rPr b="0" lang="en-US" sz="24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98800" y="2764440"/>
                    <a:ext cx="485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1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>
                    <a:off x="3404880" y="4172040"/>
                    <a:ext cx="36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764880" y="3927600"/>
                    <a:ext cx="1634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变量</a:t>
                    </a:r>
                    <a:r>
                      <a:rPr b="0" lang="en-US" sz="2000" spc="-1" strike="noStrike">
                        <a:solidFill>
                          <a:srgbClr val="7458fe"/>
                        </a:solidFill>
                        <a:latin typeface="Times New Roman"/>
                      </a:rPr>
                      <a:t>i</a:t>
                    </a:r>
                    <a:r>
                      <a:rPr b="0" lang="en-US" sz="2400" spc="-1" strike="noStrike">
                        <a:solidFill>
                          <a:srgbClr val="7458fe"/>
                        </a:solidFill>
                        <a:latin typeface="Times New Roman"/>
                      </a:rPr>
                      <a:t>_point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800" y="279468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800" y="318060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04800" y="3564720"/>
                    <a:ext cx="692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0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09480" y="2419200"/>
                  <a:ext cx="666720" cy="381240"/>
                </a:xfrm>
                <a:prstGeom prst="ellipse">
                  <a:avLst/>
                </a:prstGeom>
                <a:noFill/>
                <a:ln w="38160">
                  <a:solidFill>
                    <a:srgbClr val="7458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2052360" y="43902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226960" y="2772360"/>
            <a:ext cx="3088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95760" y="5367600"/>
            <a:ext cx="49798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_pointer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4400640"/>
            <a:ext cx="666720" cy="3808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71320" y="4667400"/>
            <a:ext cx="148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09480" y="2629080"/>
            <a:ext cx="0" cy="2038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867280" y="3009600"/>
            <a:ext cx="0" cy="2438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06000" y="2810520"/>
            <a:ext cx="4366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81360" y="2457360"/>
            <a:ext cx="3371760" cy="495360"/>
            <a:chOff x="2781360" y="2457360"/>
            <a:chExt cx="3371760" cy="495360"/>
          </a:xfrm>
        </p:grpSpPr>
        <p:sp>
          <p:nvSpPr>
            <p:cNvPr id="279" name=""/>
            <p:cNvSpPr/>
            <p:nvPr/>
          </p:nvSpPr>
          <p:spPr>
            <a:xfrm>
              <a:off x="6153120" y="2457360"/>
              <a:ext cx="0" cy="476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781360" y="2952720"/>
              <a:ext cx="337176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2819520" y="3029040"/>
            <a:ext cx="30477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4924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直接访问与间接访问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93720" y="6343560"/>
            <a:ext cx="1047600" cy="514080"/>
            <a:chOff x="693720" y="6343560"/>
            <a:chExt cx="1047600" cy="514080"/>
          </a:xfrm>
        </p:grpSpPr>
        <p:sp>
          <p:nvSpPr>
            <p:cNvPr id="284" name="">
              <a:hlinkClick r:id="rId2" action="ppaction://hlinksldjump"/>
            </p:cNvPr>
            <p:cNvSpPr/>
            <p:nvPr/>
          </p:nvSpPr>
          <p:spPr>
            <a:xfrm>
              <a:off x="69372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dfd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836640" y="6391080"/>
              <a:ext cx="714240" cy="380880"/>
              <a:chOff x="836640" y="6391080"/>
              <a:chExt cx="714240" cy="380880"/>
            </a:xfrm>
          </p:grpSpPr>
          <p:sp>
            <p:nvSpPr>
              <p:cNvPr id="286" name="">
                <a:hlinkClick r:id="rId3" action="ppaction://hlinksldjump"/>
              </p:cNvPr>
              <p:cNvSpPr/>
              <p:nvPr/>
            </p:nvSpPr>
            <p:spPr>
              <a:xfrm rot="16200000">
                <a:off x="84600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6540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3676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4" name="CAMERA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2243160" y="1603440"/>
            <a:ext cx="4794840" cy="4626000"/>
            <a:chOff x="2243160" y="1603440"/>
            <a:chExt cx="4794840" cy="4626000"/>
          </a:xfrm>
        </p:grpSpPr>
        <p:sp>
          <p:nvSpPr>
            <p:cNvPr id="290" name=""/>
            <p:cNvSpPr/>
            <p:nvPr/>
          </p:nvSpPr>
          <p:spPr>
            <a:xfrm>
              <a:off x="5796000" y="4155840"/>
              <a:ext cx="1122840" cy="566640"/>
            </a:xfrm>
            <a:prstGeom prst="wedgeEllipseCallout">
              <a:avLst>
                <a:gd name="adj1" fmla="val -75254"/>
                <a:gd name="adj2" fmla="val -74060"/>
              </a:avLst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指针变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98880" y="566424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00320" y="5114880"/>
              <a:ext cx="1924200" cy="106668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98880" y="1603440"/>
              <a:ext cx="1922400" cy="35114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17960" y="22986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7960" y="2705040"/>
              <a:ext cx="192240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17960" y="307512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17960" y="347976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98880" y="38894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74984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98880" y="512928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1280" y="51292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0080" y="16934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78640" y="519408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43160" y="21232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43160" y="3664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43160" y="44344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43160" y="40503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17960" y="43084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005080" y="230508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68040" y="20606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36800" y="2478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043240" y="388620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3240" y="364176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变量</a:t>
              </a: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_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43160" y="25088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43160" y="28947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43160" y="32788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47840" y="2133720"/>
              <a:ext cx="666720" cy="380880"/>
            </a:xfrm>
            <a:prstGeom prst="ellipse">
              <a:avLst/>
            </a:prstGeom>
            <a:noFill/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90720" y="41043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458fe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43240" y="308628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06920" y="2841480"/>
              <a:ext cx="10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038480" y="2876400"/>
            <a:ext cx="0" cy="49536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47680" y="479160"/>
            <a:ext cx="43304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i;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en-US" sz="2400" spc="-1" strike="noStrike">
                <a:solidFill>
                  <a:srgbClr val="339933"/>
                </a:solidFill>
                <a:latin typeface="隶书"/>
                <a:ea typeface="隶书"/>
              </a:rPr>
              <a:t>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*i_pointer;     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间接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14840" y="4114800"/>
            <a:ext cx="666720" cy="3808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90600" y="4381560"/>
            <a:ext cx="14860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228760" y="2343240"/>
            <a:ext cx="0" cy="2038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95760" y="2514600"/>
            <a:ext cx="666720" cy="380880"/>
          </a:xfrm>
          <a:prstGeom prst="ellipse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12680" y="320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70920" y="479160"/>
            <a:ext cx="3160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i;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*i_pointer;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1463400"/>
            <a:ext cx="21369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例子图解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523440" y="223560"/>
            <a:ext cx="86202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指针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与其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所指向的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之间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3800" y="2427120"/>
            <a:ext cx="86202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变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形式： 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宋体"/>
              </a:rPr>
              <a:t>数据类型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宋体"/>
              </a:rPr>
              <a:t>*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  <a:ea typeface="宋体"/>
              </a:rPr>
              <a:t>指针变量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76680" y="1221480"/>
            <a:ext cx="5734800" cy="1197360"/>
            <a:chOff x="1876680" y="1221480"/>
            <a:chExt cx="5734800" cy="1197360"/>
          </a:xfrm>
        </p:grpSpPr>
        <p:grpSp>
          <p:nvGrpSpPr>
            <p:cNvPr id="333" name=""/>
            <p:cNvGrpSpPr/>
            <p:nvPr/>
          </p:nvGrpSpPr>
          <p:grpSpPr>
            <a:xfrm>
              <a:off x="1876680" y="1221480"/>
              <a:ext cx="2849400" cy="1197360"/>
              <a:chOff x="1876680" y="1221480"/>
              <a:chExt cx="2849400" cy="1197360"/>
            </a:xfrm>
          </p:grpSpPr>
          <p:sp>
            <p:nvSpPr>
              <p:cNvPr id="334" name=""/>
              <p:cNvSpPr/>
              <p:nvPr/>
            </p:nvSpPr>
            <p:spPr>
              <a:xfrm>
                <a:off x="1898280" y="1596960"/>
                <a:ext cx="95220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01800" y="1625400"/>
                <a:ext cx="952200" cy="42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10600" y="1254600"/>
                <a:ext cx="61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变量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26440" y="16088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76680" y="122148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74600" y="1833480"/>
                <a:ext cx="73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96680" y="2019960"/>
                <a:ext cx="122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*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132160" y="1281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30880" y="128160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27040" y="15930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amp;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88480" y="159300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_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77360" y="19850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=3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11000" y="1985040"/>
              <a:ext cx="150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i_pointer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876680" y="1221480"/>
            <a:ext cx="5734800" cy="1197360"/>
            <a:chOff x="1876680" y="1221480"/>
            <a:chExt cx="5734800" cy="1197360"/>
          </a:xfrm>
        </p:grpSpPr>
        <p:sp>
          <p:nvSpPr>
            <p:cNvPr id="348" name=""/>
            <p:cNvSpPr/>
            <p:nvPr/>
          </p:nvSpPr>
          <p:spPr>
            <a:xfrm>
              <a:off x="5398920" y="1428840"/>
              <a:ext cx="863640" cy="141120"/>
            </a:xfrm>
            <a:prstGeom prst="leftRightArrow">
              <a:avLst>
                <a:gd name="adj1" fmla="val 50000"/>
                <a:gd name="adj2" fmla="val 121831"/>
              </a:avLst>
            </a:prstGeom>
            <a:solidFill>
              <a:srgbClr val="ffffff"/>
            </a:solidFill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92800" y="1739880"/>
              <a:ext cx="863640" cy="141480"/>
            </a:xfrm>
            <a:prstGeom prst="leftRightArrow">
              <a:avLst>
                <a:gd name="adj1" fmla="val 50000"/>
                <a:gd name="adj2" fmla="val 121521"/>
              </a:avLst>
            </a:prstGeom>
            <a:solidFill>
              <a:srgbClr val="ffffff"/>
            </a:solidFill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5120" y="2131920"/>
              <a:ext cx="863280" cy="141480"/>
            </a:xfrm>
            <a:prstGeom prst="leftRightArrow">
              <a:avLst>
                <a:gd name="adj1" fmla="val 50000"/>
                <a:gd name="adj2" fmla="val 121471"/>
              </a:avLst>
            </a:prstGeom>
            <a:solidFill>
              <a:srgbClr val="ffffff"/>
            </a:solidFill>
            <a:ln w="93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876680" y="1221480"/>
              <a:ext cx="5734800" cy="1197360"/>
              <a:chOff x="1876680" y="1221480"/>
              <a:chExt cx="5734800" cy="11973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1876680" y="1221480"/>
                <a:ext cx="2849400" cy="1197360"/>
                <a:chOff x="1876680" y="1221480"/>
                <a:chExt cx="2849400" cy="1197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898280" y="1596960"/>
                  <a:ext cx="952200" cy="424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01800" y="1625400"/>
                  <a:ext cx="952200" cy="424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810600" y="1254600"/>
                  <a:ext cx="61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变量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26440" y="160884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76680" y="1221480"/>
                  <a:ext cx="1101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_poin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74600" y="1833480"/>
                  <a:ext cx="739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496680" y="2019960"/>
                  <a:ext cx="1229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*i_poin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5132160" y="12816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30880" y="1281600"/>
                <a:ext cx="122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*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040" y="1593000"/>
                <a:ext cx="44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amp;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88480" y="159300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_poi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77360" y="19850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=3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11000" y="1985040"/>
                <a:ext cx="150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*i_pointer=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5820480" y="3637800"/>
            <a:ext cx="1182240" cy="496440"/>
          </a:xfrm>
          <a:prstGeom prst="wedgeRoundRectCallout">
            <a:avLst>
              <a:gd name="adj1" fmla="val -55203"/>
              <a:gd name="adj2" fmla="val -167388"/>
              <a:gd name="adj3" fmla="val 1666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合法标识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03960" y="3923640"/>
            <a:ext cx="2564640" cy="496440"/>
          </a:xfrm>
          <a:prstGeom prst="wedgeRoundRectCallout">
            <a:avLst>
              <a:gd name="adj1" fmla="val -9412"/>
              <a:gd name="adj2" fmla="val -190430"/>
              <a:gd name="adj3" fmla="val 1666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指针的目标变量的数据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89120" y="3605760"/>
            <a:ext cx="1812600" cy="891000"/>
          </a:xfrm>
          <a:prstGeom prst="wedgeRoundRectCallout">
            <a:avLst>
              <a:gd name="adj1" fmla="val 70430"/>
              <a:gd name="adj2" fmla="val -103995"/>
              <a:gd name="adj3" fmla="val 1666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定义指针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是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*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26920" y="3460320"/>
            <a:ext cx="331884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,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  *q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 char  *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9200" y="4937760"/>
            <a:ext cx="498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int   *p1, *p2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与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int   *p1, 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、指针变量名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p1,p2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*p1,*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、指针变量只能指向定义时所规定类型的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、指针变量定义后，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  <a:ea typeface="隶书"/>
              </a:rPr>
              <a:t>变量值不确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，应用前必须先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806400" y="474840"/>
            <a:ext cx="75484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指针变量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97000" y="252360"/>
            <a:ext cx="8618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一般形式：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数据类型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指针名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初始地址值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7600" y="1415880"/>
            <a:ext cx="23799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=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&amp;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31360" y="1968480"/>
            <a:ext cx="1643760" cy="825840"/>
          </a:xfrm>
          <a:prstGeom prst="wedgeRectCallout">
            <a:avLst>
              <a:gd name="adj1" fmla="val -111416"/>
              <a:gd name="adj2" fmla="val -36754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变量必须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已说明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隶书"/>
              </a:rPr>
              <a:t>类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应一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33240" y="2958840"/>
            <a:ext cx="4830840" cy="825480"/>
            <a:chOff x="633240" y="2958840"/>
            <a:chExt cx="4830840" cy="825480"/>
          </a:xfrm>
        </p:grpSpPr>
        <p:sp>
          <p:nvSpPr>
            <p:cNvPr id="376" name=""/>
            <p:cNvSpPr/>
            <p:nvPr/>
          </p:nvSpPr>
          <p:spPr>
            <a:xfrm>
              <a:off x="633240" y="2958840"/>
              <a:ext cx="483084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   *p=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&amp;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i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781160" y="3352680"/>
              <a:ext cx="304920" cy="324000"/>
            </a:xfrm>
            <a:prstGeom prst="line">
              <a:avLst/>
            </a:prstGeom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19680" y="3390840"/>
              <a:ext cx="266760" cy="266760"/>
            </a:xfrm>
            <a:prstGeom prst="line">
              <a:avLst/>
            </a:prstGeom>
            <a:ln w="38160">
              <a:solidFill>
                <a:srgbClr val="745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846080" y="4358880"/>
            <a:ext cx="23799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=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&amp;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q=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41400" y="4992840"/>
            <a:ext cx="2375640" cy="460080"/>
          </a:xfrm>
          <a:prstGeom prst="wedgeRectCallout">
            <a:avLst>
              <a:gd name="adj1" fmla="val -112768"/>
              <a:gd name="adj2" fmla="val -48671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用已初始化指针变量作初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066320" y="380880"/>
            <a:ext cx="3948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指针变量的初始化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3" dur="1" fill="hold"/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58080" y="894240"/>
            <a:ext cx="3200040" cy="2288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int   i=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*p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“%d”,*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76480" y="3047760"/>
            <a:ext cx="1572840" cy="987840"/>
          </a:xfrm>
          <a:prstGeom prst="irregularSeal2">
            <a:avLst/>
          </a:prstGeom>
          <a:noFill/>
          <a:ln w="381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58fe"/>
                </a:solidFill>
                <a:latin typeface="Times New Roman"/>
              </a:rPr>
              <a:t>危险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080" y="3959280"/>
            <a:ext cx="3200040" cy="2654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int   i=10,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7458fe"/>
                </a:solidFill>
                <a:latin typeface="Times New Roman"/>
              </a:rPr>
              <a:t>p=&amp;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“%d”,*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81320" y="27468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370400" y="1317600"/>
            <a:ext cx="4095720" cy="4626000"/>
            <a:chOff x="4370400" y="1317600"/>
            <a:chExt cx="4095720" cy="4626000"/>
          </a:xfrm>
        </p:grpSpPr>
        <p:sp>
          <p:nvSpPr>
            <p:cNvPr id="387" name=""/>
            <p:cNvSpPr/>
            <p:nvPr/>
          </p:nvSpPr>
          <p:spPr>
            <a:xfrm>
              <a:off x="5054760" y="537840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456">
                  <a:moveTo>
                    <a:pt x="0" y="163"/>
                  </a:moveTo>
                  <a:cubicBezTo>
                    <a:pt x="159" y="81"/>
                    <a:pt x="318" y="0"/>
                    <a:pt x="500" y="41"/>
                  </a:cubicBezTo>
                  <a:cubicBezTo>
                    <a:pt x="682" y="82"/>
                    <a:pt x="970" y="360"/>
                    <a:pt x="1089" y="408"/>
                  </a:cubicBezTo>
                  <a:cubicBezTo>
                    <a:pt x="1208" y="456"/>
                    <a:pt x="1191" y="345"/>
                    <a:pt x="1211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6200" y="4829040"/>
              <a:ext cx="1924200" cy="1067040"/>
            </a:xfrm>
            <a:custGeom>
              <a:avLst/>
              <a:gdLst/>
              <a:ahLst/>
              <a:rect l="l" t="t" r="r" b="b"/>
              <a:pathLst>
                <a:path w="1212" h="672">
                  <a:moveTo>
                    <a:pt x="12" y="0"/>
                  </a:moveTo>
                  <a:lnTo>
                    <a:pt x="1212" y="0"/>
                  </a:lnTo>
                  <a:lnTo>
                    <a:pt x="1212" y="624"/>
                  </a:lnTo>
                  <a:lnTo>
                    <a:pt x="1140" y="672"/>
                  </a:lnTo>
                  <a:lnTo>
                    <a:pt x="720" y="468"/>
                  </a:lnTo>
                  <a:lnTo>
                    <a:pt x="540" y="384"/>
                  </a:lnTo>
                  <a:lnTo>
                    <a:pt x="360" y="372"/>
                  </a:lnTo>
                  <a:lnTo>
                    <a:pt x="216" y="408"/>
                  </a:lnTo>
                  <a:lnTo>
                    <a:pt x="0" y="4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54760" y="1317600"/>
              <a:ext cx="1922400" cy="35114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73480" y="201312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3480" y="2419200"/>
              <a:ext cx="192276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73480" y="278928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73480" y="319392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54760" y="360360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73480" y="446400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4760" y="484344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77160" y="4843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5960" y="140760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4160" y="4908240"/>
              <a:ext cx="4852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70400" y="1837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70400" y="33789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70400" y="41486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0400" y="37645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73480" y="4022640"/>
              <a:ext cx="1922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960960" y="2019240"/>
              <a:ext cx="36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23920" y="17748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整型变量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92680" y="219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999120" y="360036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62800" y="3355920"/>
              <a:ext cx="10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指针变量</a:t>
              </a:r>
              <a:r>
                <a:rPr b="0" lang="en-US" sz="2400" spc="-1" strike="noStrike">
                  <a:solidFill>
                    <a:srgbClr val="7458fe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70400" y="22230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70400" y="260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70400" y="29930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9920" y="3818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随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03960" y="3619440"/>
              <a:ext cx="1199880" cy="838440"/>
            </a:xfrm>
            <a:prstGeom prst="irregularSeal1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指针变量必须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先赋值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7458fe"/>
                </a:solidFill>
                <a:latin typeface="隶书"/>
                <a:ea typeface="隶书"/>
              </a:rPr>
              <a:t>再使用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04:41:13Z</dcterms:created>
  <dc:creator>hyg</dc:creator>
  <dc:description/>
  <dc:language>en-US</dc:language>
  <cp:lastModifiedBy>YlmF</cp:lastModifiedBy>
  <dcterms:modified xsi:type="dcterms:W3CDTF">2009-05-28T13:55:14Z</dcterms:modified>
  <cp:revision>1295</cp:revision>
  <dc:subject/>
  <dc:title>第八章  指针</dc:title>
</cp:coreProperties>
</file>