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CAMERA.WAV" ContentType="audio/x-wav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7B8D-EDE2-46AF-9674-E25256604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说明：输入时，要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码转换成二进制；输出时，要将二进制转换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第一个参数可以是：字符串常量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数组名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指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隶书"/>
                <a:ea typeface="隶书"/>
              </a:rPr>
              <a:t>因为</a:t>
            </a:r>
            <a:r>
              <a:rPr b="0" lang="en-US" sz="1200" spc="-1" strike="noStrike">
                <a:solidFill>
                  <a:srgbClr val="000000"/>
                </a:solidFill>
                <a:latin typeface="隶书"/>
                <a:ea typeface="隶书"/>
              </a:rPr>
              <a:t>fclose</a:t>
            </a:r>
            <a:r>
              <a:rPr b="0" lang="en-US" sz="1200" spc="-1" strike="noStrike">
                <a:solidFill>
                  <a:srgbClr val="000000"/>
                </a:solidFill>
                <a:latin typeface="隶书"/>
                <a:ea typeface="隶书"/>
              </a:rPr>
              <a:t>先把缓冲区数据输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隶书"/>
                <a:ea typeface="隶书"/>
              </a:rPr>
              <a:t>到磁盘文件，然后才释放文件指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若文件在当前目录下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p=fopen("aa.txt","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若文件不在当前目录下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p=fopen("d:\\fengyi\\bkc\\aa.txt","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若从键盘输入带路径文件名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 infile[3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f("%s",infil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p=fopen(infile,"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必须输入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\fengyi\bkc\aa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C76-C2B2-421A-B63A-4FC403F0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02E-94A8-4B6D-9D12-082E1A47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709-6780-4C82-87F7-6F08C980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A07-B776-42E7-9954-3FFC7871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9A3A-1AFD-484E-A91D-B108EE4D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F3A0-1169-4444-BE26-3C26BB94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7EA4-4955-43CA-A68B-599C1B95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1432-0345-4360-BB5A-A4D4A264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594A-64AC-447E-9AFD-529242F1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F700-001D-4249-AFE0-2A1F9FE6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1674-CFB6-4EEB-A912-A7633188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3A3-9D4D-4C7F-BA28-04703F54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0FA5-3CD2-430B-92B1-28B8B3DC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9879-E9BB-4DEE-9D6E-2A2E551B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EC03-7E14-4DB1-870F-4AF13C19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4CD8-6613-4F09-A7C5-E7D449F7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3566-8257-4015-AB5D-A3FA9017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822-40BB-4FA1-AD01-9C06F827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3DB-0FDD-4F63-B896-E91591EE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730-1DB6-44EA-A265-5A9E2841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6F3-410C-4A9F-B6E2-51FADEA1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A1E-936B-4C12-9960-9486CD56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019-425F-4689-8ADB-4AFE0041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B95-3437-43C7-849A-CB1F696E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B673-0430-4D28-A261-A97698E2C23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9751-F21A-4A82-AB15-715F55DD0273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1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00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1C49-701C-4257-8B8C-4F939D06A85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9600" y="4370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C</a:t>
            </a: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文件概述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308240"/>
            <a:ext cx="85834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文件：存储在外部介质上数据的集合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是操作系统数据管理的单位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520" y="2286000"/>
            <a:ext cx="85834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文件分类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按文件的逻辑结构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记录文件：由具有一定结构的记录组成（定长和不定长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流式文件：由一个个字符（字节）数据顺序组成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按存储介质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普通文件：存储介质文件（磁盘、磁带等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设备文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：非存储介质（键盘、显示器、打印机等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按数据的组织形式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文本文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ASCI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文件，每个字节存放一个字符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ASCI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码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二进制文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：数据按其在内存中的存储形式原样存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79000" y="324000"/>
            <a:ext cx="85834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3840" y="132084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int  fread(char *pt,unsigned  size, unsigned n,FILE   *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int  fwrite(char *pt,unsigned  size, unsigned n,FILE   *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2120" y="2298600"/>
            <a:ext cx="865512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数据块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成功，返回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的块数；出错或文件尾，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说明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pt: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指向要输入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输出数据块的首地址的指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size: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每个要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的数据块的大小（字节数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n: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要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的数据块的个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: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要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的文件指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read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writ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一般用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进制文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的输入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输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11280" y="318600"/>
            <a:ext cx="6186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数据块</a:t>
            </a: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I/O: fread</a:t>
            </a: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与</a:t>
            </a: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writ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80160" y="716760"/>
            <a:ext cx="36432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loat  f[2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LE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=fopen(“aa.dat”,“rb”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ad(f,4,2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85160" y="1353960"/>
            <a:ext cx="2820240" cy="825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(i=0;i&lt;2;i++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ad(&amp;f[i],4,1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85200" y="2572560"/>
            <a:ext cx="6180840" cy="3385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ruct  stud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 int num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 name[2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sex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age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loat  score[3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stud[1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(i=0;i&lt;10;i++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ad(&amp;stud[i],sizeof(struct  student),1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159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例子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9600" y="32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>
            <a:hlinkClick r:id="rId1"/>
          </p:cNvPr>
          <p:cNvSpPr/>
          <p:nvPr/>
        </p:nvSpPr>
        <p:spPr>
          <a:xfrm>
            <a:off x="358920" y="5931000"/>
            <a:ext cx="533160" cy="685800"/>
          </a:xfrm>
          <a:custGeom>
            <a:avLst/>
            <a:gdLst>
              <a:gd name="textAreaLeft" fmla="*/ 69840 w 533160"/>
              <a:gd name="textAreaRight" fmla="*/ 463320 w 53316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18771" y="24951"/>
                </a:lnTo>
                <a:lnTo>
                  <a:pt x="18771" y="2829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2829" y="24951"/>
                </a:lnTo>
                <a:lnTo>
                  <a:pt x="18771" y="24951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51"/>
                </a:lnTo>
                <a:close/>
              </a:path>
              <a:path fill="darkenLess" w="21600" h="27780">
                <a:moveTo>
                  <a:pt x="6113" y="8111"/>
                </a:moveTo>
                <a:lnTo>
                  <a:pt x="12047" y="8111"/>
                </a:lnTo>
                <a:lnTo>
                  <a:pt x="15487" y="11078"/>
                </a:lnTo>
                <a:lnTo>
                  <a:pt x="15487" y="19669"/>
                </a:lnTo>
                <a:lnTo>
                  <a:pt x="6113" y="19669"/>
                </a:lnTo>
                <a:close/>
              </a:path>
              <a:path fill="darken" w="21600" h="27780">
                <a:moveTo>
                  <a:pt x="12047" y="8111"/>
                </a:moveTo>
                <a:lnTo>
                  <a:pt x="15487" y="11078"/>
                </a:lnTo>
                <a:lnTo>
                  <a:pt x="12047" y="11078"/>
                </a:lnTo>
                <a:close/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8840" y="907560"/>
            <a:ext cx="6083280" cy="527760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#define SIZE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struct student_typ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{    char name[10]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int num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int age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char addr[15]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}stud[SIZE]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t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(i=0;i&lt;SIZE;i++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canf("%s%d%d%s",stud[i].name,&amp;stud[i].num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&amp;stud[i].age,stud[i].addr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ave(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isplay(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20600" y="842760"/>
            <a:ext cx="6327000" cy="375300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void save(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FILE *fp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t 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p=fopen("d:\\fengyi\\exe\\stu_dat","wb"))==NULL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 printf("cannot open file\n"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turn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(i=0;i&lt;SIZE;i++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fwrite(&amp;stud[i],sizeof(struct student_type),1,fp)!=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rintf("file write error\n"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17160" y="887040"/>
            <a:ext cx="6125760" cy="436284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void display(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FILE *fp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t 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p=fopen("d:\\fengyi\\exe\\stu_dat","rb"))==NULL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 printf("cannot open file\n"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turn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(i=0;i&lt;SIZE;i++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{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read(&amp;stud[i],sizeof(struct student_type),1,fp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rintf("%-10s %4d %4d %-15s\n",stud[i].name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tud[i].num,stud[i].age,stud[i].addr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222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从键盘输入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个学生数据，把他们转存到磁盘文件中去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14280" y="288720"/>
            <a:ext cx="777240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格式化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/O:fprintf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scan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24720" y="1157400"/>
            <a:ext cx="71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int  fprintf(FILE  *fp,const char  *format[,argument,…]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int  fscanf(FILE  *fp,const char  *format[,address,…]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680" y="2087640"/>
            <a:ext cx="86518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按格式对文件进行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I/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操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成功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I/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的个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出错或文件尾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760" y="3139920"/>
            <a:ext cx="79434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rintf(fp,“%d,%6.2f”,i,t);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将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按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%d,%6.2f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格式输出到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p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文件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scanf(fp,“%d,%f”,&amp;i,&amp;t);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//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若文件中有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3,4.5  ,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则将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送入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, 4.5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送入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>
            <a:hlinkClick r:id="rId1"/>
          </p:cNvPr>
          <p:cNvSpPr/>
          <p:nvPr/>
        </p:nvSpPr>
        <p:spPr>
          <a:xfrm>
            <a:off x="281160" y="5961240"/>
            <a:ext cx="533160" cy="685800"/>
          </a:xfrm>
          <a:custGeom>
            <a:avLst/>
            <a:gdLst>
              <a:gd name="textAreaLeft" fmla="*/ 69840 w 533160"/>
              <a:gd name="textAreaRight" fmla="*/ 463320 w 53316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18771" y="24951"/>
                </a:lnTo>
                <a:lnTo>
                  <a:pt x="18771" y="2829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2829" y="24951"/>
                </a:lnTo>
                <a:lnTo>
                  <a:pt x="18771" y="24951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51"/>
                </a:lnTo>
                <a:close/>
              </a:path>
              <a:path fill="darkenLess" w="21600" h="27780">
                <a:moveTo>
                  <a:pt x="6113" y="8111"/>
                </a:moveTo>
                <a:lnTo>
                  <a:pt x="12047" y="8111"/>
                </a:lnTo>
                <a:lnTo>
                  <a:pt x="15487" y="11078"/>
                </a:lnTo>
                <a:lnTo>
                  <a:pt x="15487" y="19669"/>
                </a:lnTo>
                <a:lnTo>
                  <a:pt x="6113" y="19669"/>
                </a:lnTo>
                <a:close/>
              </a:path>
              <a:path fill="darken" w="21600" h="27780">
                <a:moveTo>
                  <a:pt x="12047" y="8111"/>
                </a:moveTo>
                <a:lnTo>
                  <a:pt x="15487" y="11078"/>
                </a:lnTo>
                <a:lnTo>
                  <a:pt x="12047" y="11078"/>
                </a:lnTo>
                <a:close/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18840" y="413532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从键盘按格式输入数据存到磁盘文件中去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77160" y="743040"/>
            <a:ext cx="6657840" cy="594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char s[80],c[8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a,b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LE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(fp=fopen("test","w"))=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uts("can't open file");   exit() ;   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scanf(stdin,"%s%d",s,&amp;a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;/*read from keaboard*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rintf(fp,"%s  %d",s,a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;/*write to file*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=fopen("test","r"))==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uts("can't open file"); exit();   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scanf(fp,"%s%d",c,&amp;b)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*read from file*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rintf(stdout,"%s %d",c,b)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*print to screen*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785880"/>
            <a:ext cx="8955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原型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04640" y="815760"/>
            <a:ext cx="540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char  *fgets(char  *s,int n,FILE  *f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int   fputs(char  *s,FILE  *f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38160" y="1709640"/>
            <a:ext cx="8955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指向的文件读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写一个字符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ge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时返回读取字符串的首地址；出错或文件尾，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NU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u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时返回写入的最后一个字符；出错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12960" y="3668760"/>
            <a:ext cx="44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从键盘读入字符串存入文件，再从文件读回显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75320" y="2415600"/>
            <a:ext cx="6069240" cy="1191600"/>
          </a:xfrm>
          <a:prstGeom prst="wedgeRectCallout">
            <a:avLst>
              <a:gd name="adj1" fmla="val -13203"/>
              <a:gd name="adj2" fmla="val -145314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fgets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从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所指文件读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n-1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个字符送入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指向的内存区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并在最后加一个‘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\0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若读入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n-1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个字符前遇换行符或文件尾（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EOF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）即结束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66320" y="2274840"/>
            <a:ext cx="4569840" cy="460080"/>
          </a:xfrm>
          <a:prstGeom prst="wedgeRectCallout">
            <a:avLst>
              <a:gd name="adj1" fmla="val -16027"/>
              <a:gd name="adj2" fmla="val -186199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fputs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把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指向的字符串写入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指向的文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2760" y="158760"/>
            <a:ext cx="5166000" cy="6311880"/>
          </a:xfrm>
          <a:prstGeom prst="rect">
            <a:avLst/>
          </a:prstGeom>
          <a:solidFill>
            <a:srgbClr val="9cc2e8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FILE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 string[81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=fopen("file.txt","w"))==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rintf("cann't open file");exit(0); 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strlen(gets(string))&gt;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uts(string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uts("\n"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=fopen("file.txt","r"))==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rintf("cann't open file");exit(0); 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fgets(string,81,fp)!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uts(string,stdout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6680" y="393480"/>
            <a:ext cx="42642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/O: fge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uts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279360" y="269640"/>
            <a:ext cx="8618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几个概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文件位置指针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---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指向当前读写位置的指针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读写方式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顺序读写：位置指针按字节位置顺序移动，叫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~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随机读写：位置指针按需要移动到任意位置，叫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~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wind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函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void  rewind(FILE  *f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功能：重置文件位置指针到文件开头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返值：无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18800" y="47512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对一个磁盘文件进行显示和复制两次操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48680" y="1009800"/>
            <a:ext cx="6077160" cy="4117320"/>
          </a:xfrm>
          <a:prstGeom prst="rect">
            <a:avLst/>
          </a:prstGeom>
          <a:solidFill>
            <a:srgbClr val="9cc2e8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FILE *fp1,*fp2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1=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pen("d:\\fengyi\\bkc\\ch12_4.c","r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p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=fopen("d:\\fengyi\\bkc\\ch12_41.c","w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!feof(fp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)  putchar(getc(fp1)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wind(fp1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!feof(fp1)) 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putc(getc(fp1),fp2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1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2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61520" y="405000"/>
            <a:ext cx="3498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文件的定位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0" y="324000"/>
            <a:ext cx="87580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int  fseek(FILE  *fp,long  offset,int whenc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功能：改变文件位置指针的位置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返值：成功，返回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；失败，返回非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值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91920" y="2198880"/>
            <a:ext cx="912600" cy="460080"/>
          </a:xfrm>
          <a:prstGeom prst="wedgeRectCallout">
            <a:avLst>
              <a:gd name="adj1" fmla="val 102087"/>
              <a:gd name="adj2" fmla="val -277754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文件指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31960" y="2285280"/>
            <a:ext cx="5757840" cy="1191600"/>
          </a:xfrm>
          <a:prstGeom prst="wedgeRectCallout">
            <a:avLst>
              <a:gd name="adj1" fmla="val 21430"/>
              <a:gd name="adj2" fmla="val -138189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位移量（以起始点为基点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移动的字节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gt;0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向后移动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lt;0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向前移动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37440" y="2175480"/>
            <a:ext cx="4089960" cy="1557360"/>
          </a:xfrm>
          <a:prstGeom prst="wedgeRectCallout">
            <a:avLst>
              <a:gd name="adj1" fmla="val 24666"/>
              <a:gd name="adj2" fmla="val -97050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起始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文件开始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SEEK_SET  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文件当前位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SEEK_CUR   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文件末尾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SEEK_END   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31280" y="2306160"/>
            <a:ext cx="295272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seek(fp,100L,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seek(fp,50L,1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seek(fp,-10L,2)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286000"/>
            <a:ext cx="861840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te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原型：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long  ftell(FILE  *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返回位置指针当前位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用相对文件开头的位移量表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成功，返回当前位置指针位置；失败，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-1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9920" y="4613400"/>
            <a:ext cx="59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磁盘文件上有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个学生数据，要求读入第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学生数据并显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31120" y="14040"/>
            <a:ext cx="7104240" cy="6858720"/>
            <a:chOff x="2031120" y="14040"/>
            <a:chExt cx="7104240" cy="6858720"/>
          </a:xfrm>
        </p:grpSpPr>
        <p:sp>
          <p:nvSpPr>
            <p:cNvPr id="304" name=""/>
            <p:cNvSpPr/>
            <p:nvPr/>
          </p:nvSpPr>
          <p:spPr>
            <a:xfrm>
              <a:off x="2031120" y="14040"/>
              <a:ext cx="7104240" cy="4848840"/>
            </a:xfrm>
            <a:prstGeom prst="rect">
              <a:avLst/>
            </a:prstGeom>
            <a:solidFill>
              <a:srgbClr val="9cc2e8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   int i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FILE *fp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f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((fp=fopen("studat","rb"))==NULL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   printf("can't open file\n");exit(0);   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for(i=0;i&lt;3;i+=2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seek(fp,i*sizeof(struct student_type),0)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fread(&amp;stud[i],sizeof(struct student_type),1,fp)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intf("%s  %d  %d  %s\n",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ud[i].name,stud[i].num,stud[i].age,stud[i].addr)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close(fp)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31560" y="3852720"/>
              <a:ext cx="2497320" cy="3020040"/>
            </a:xfrm>
            <a:prstGeom prst="rect">
              <a:avLst/>
            </a:prstGeom>
            <a:solidFill>
              <a:srgbClr val="9cc2e8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#include &lt;stdio.h&gt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struct student_typ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{    int num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char name[10]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int age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char addr[15]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}stud[3];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817000" y="12960"/>
            <a:ext cx="6318000" cy="5946120"/>
          </a:xfrm>
          <a:prstGeom prst="rect">
            <a:avLst/>
          </a:prstGeom>
          <a:solidFill>
            <a:srgbClr val="9cc2e8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"stdio.h"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FILE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filename[8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ong length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ets(filename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=fopen(filename,"rb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fp=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"file not found!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seek(fp,0L,SEEK_END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ength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tell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"Length of File is %1d bytes\n",length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2040" y="539424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求文件长度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ch12_101.c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-360" y="321480"/>
            <a:ext cx="2639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fseek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函数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1899000"/>
            <a:ext cx="8896320" cy="2555280"/>
            <a:chOff x="0" y="1899000"/>
            <a:chExt cx="8896320" cy="2555280"/>
          </a:xfrm>
        </p:grpSpPr>
        <p:sp>
          <p:nvSpPr>
            <p:cNvPr id="152" name=""/>
            <p:cNvSpPr/>
            <p:nvPr/>
          </p:nvSpPr>
          <p:spPr>
            <a:xfrm>
              <a:off x="1172520" y="1899000"/>
              <a:ext cx="192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如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int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型数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000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0" y="1923840"/>
              <a:ext cx="8896320" cy="2530440"/>
              <a:chOff x="0" y="1923840"/>
              <a:chExt cx="8896320" cy="253044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0" y="2820600"/>
                <a:ext cx="2944800" cy="1146240"/>
                <a:chOff x="0" y="2820600"/>
                <a:chExt cx="2944800" cy="11462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793800" y="2820600"/>
                  <a:ext cx="215100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0010011100010000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870200" y="282060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0" y="3472920"/>
                  <a:ext cx="1693800" cy="493920"/>
                </a:xfrm>
                <a:prstGeom prst="wedgeEllipseCallout">
                  <a:avLst>
                    <a:gd name="adj1" fmla="val 60402"/>
                    <a:gd name="adj2" fmla="val -10498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内存存储形式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662280" y="3186000"/>
                <a:ext cx="2963880" cy="1268280"/>
                <a:chOff x="3662280" y="3186000"/>
                <a:chExt cx="2963880" cy="1268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662280" y="3186000"/>
                  <a:ext cx="215100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0010011100010000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745160" y="3192480"/>
                  <a:ext cx="0" cy="4046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932360" y="3960720"/>
                  <a:ext cx="1693800" cy="493560"/>
                </a:xfrm>
                <a:prstGeom prst="wedgeEllipseCallout">
                  <a:avLst>
                    <a:gd name="adj1" fmla="val -62462"/>
                    <a:gd name="adj2" fmla="val -12620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二进制形式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675240" y="1923840"/>
                <a:ext cx="5221080" cy="963720"/>
                <a:chOff x="3675240" y="1923840"/>
                <a:chExt cx="5221080" cy="963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675240" y="2465280"/>
                  <a:ext cx="522108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0011000100110000001100000011000000110000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759200" y="246996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794200" y="248112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816600" y="246384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804080" y="2479680"/>
                  <a:ext cx="0" cy="406440"/>
                </a:xfrm>
                <a:prstGeom prst="line">
                  <a:avLst/>
                </a:prstGeom>
                <a:ln cap="rnd" w="9360">
                  <a:solidFill>
                    <a:srgbClr val="4d4d4d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97720" y="1923840"/>
                  <a:ext cx="1939320" cy="439920"/>
                </a:xfrm>
                <a:prstGeom prst="wedgeEllipseCallout">
                  <a:avLst>
                    <a:gd name="adj1" fmla="val -64731"/>
                    <a:gd name="adj2" fmla="val 734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ASCII</a:t>
                  </a: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形式</a:t>
                  </a: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 flipV="1">
                <a:off x="3070080" y="2715840"/>
                <a:ext cx="528840" cy="31752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70080" y="3033360"/>
                <a:ext cx="528840" cy="37152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3590280" y="745920"/>
            <a:ext cx="1534320" cy="825840"/>
          </a:xfrm>
          <a:prstGeom prst="wedgeRectCallout">
            <a:avLst>
              <a:gd name="adj1" fmla="val 17342"/>
              <a:gd name="adj2" fmla="val 148953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文本文件特点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存储量大、速度慢、便于对字符操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08440" y="4708440"/>
            <a:ext cx="1717200" cy="825840"/>
          </a:xfrm>
          <a:prstGeom prst="wedgeRectCallout">
            <a:avLst>
              <a:gd name="adj1" fmla="val 41129"/>
              <a:gd name="adj2" fmla="val -157796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二进制文件特点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存储量小、速度快、便于存放中间结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99080"/>
            <a:ext cx="277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特点：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14280" y="341280"/>
            <a:ext cx="85485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缓冲文件系统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高级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文件系统，系统自动为正在使用的文件开辟内存缓冲区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非缓冲文件系统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：低级文件系统，由用户在程序中为每个文件设定缓冲区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16400" y="2819520"/>
            <a:ext cx="7946640" cy="2743200"/>
            <a:chOff x="716400" y="2819520"/>
            <a:chExt cx="7946640" cy="2743200"/>
          </a:xfrm>
        </p:grpSpPr>
        <p:grpSp>
          <p:nvGrpSpPr>
            <p:cNvPr id="176" name=""/>
            <p:cNvGrpSpPr/>
            <p:nvPr/>
          </p:nvGrpSpPr>
          <p:grpSpPr>
            <a:xfrm>
              <a:off x="2567160" y="2819520"/>
              <a:ext cx="6095880" cy="2743200"/>
              <a:chOff x="2567160" y="2819520"/>
              <a:chExt cx="6095880" cy="2743200"/>
            </a:xfrm>
          </p:grpSpPr>
          <p:sp>
            <p:nvSpPr>
              <p:cNvPr id="177" name=""/>
              <p:cNvSpPr/>
              <p:nvPr/>
            </p:nvSpPr>
            <p:spPr>
              <a:xfrm>
                <a:off x="2567160" y="2819520"/>
                <a:ext cx="3809880" cy="274320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48040" y="4114800"/>
                <a:ext cx="1067040" cy="12193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81560" y="4114800"/>
                <a:ext cx="0" cy="3808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81560" y="4495680"/>
                <a:ext cx="5335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48240" y="3276720"/>
                <a:ext cx="1600200" cy="53316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548240" y="4495680"/>
                <a:ext cx="1600200" cy="5335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20040" y="3809880"/>
                <a:ext cx="1143000" cy="1067040"/>
              </a:xfrm>
              <a:prstGeom prst="ellipse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24880" y="33526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磁盘文件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77120" y="502920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输出文件缓冲区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77120" y="289548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输入文件缓冲区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5040" y="373392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程序数据区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35640" y="411480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014720" y="3581280"/>
                <a:ext cx="533160" cy="5335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15080" y="4267080"/>
                <a:ext cx="533160" cy="4572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6148440" y="3504960"/>
                <a:ext cx="1447920" cy="6094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148440" y="4495320"/>
                <a:ext cx="1371600" cy="304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716400" y="3341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缓冲文件系统：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685800" y="348480"/>
            <a:ext cx="3124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文件处理方法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517680" y="5530680"/>
            <a:ext cx="81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这种方式使得读、写操作不必频繁地访问外设，从而提高了读、写操作的速度。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68280" y="375840"/>
            <a:ext cx="847872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文件结构体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缓冲文件系统为每个正使用的文件在内存开辟文件信息区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文件信息用系统定义的名为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的结构体描述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定义在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dio.h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06240" y="3263760"/>
            <a:ext cx="4348800" cy="265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ypedef   stru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int   _fd;    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文件号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  _cleft;  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缓冲区中剩下的字符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  _mode; 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文件操作方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 *_next;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文件当前读写位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 *_buff; 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文件缓冲区位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FILE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80960" y="365760"/>
            <a:ext cx="4562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类型指针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69360" y="217080"/>
            <a:ext cx="854892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指针变量说明：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LE   *fp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用法：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文件打开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时，系统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自动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建立文件结构体，并把指向它的指针返回来，程序通过这个指针获得文件信息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访问文件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文件关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后，它的文件结构体被释放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27320" y="2725560"/>
            <a:ext cx="4267080" cy="3637080"/>
            <a:chOff x="2227320" y="2725560"/>
            <a:chExt cx="4267080" cy="3637080"/>
          </a:xfrm>
        </p:grpSpPr>
        <p:sp>
          <p:nvSpPr>
            <p:cNvPr id="201" name=""/>
            <p:cNvSpPr/>
            <p:nvPr/>
          </p:nvSpPr>
          <p:spPr>
            <a:xfrm>
              <a:off x="2227320" y="2840760"/>
              <a:ext cx="1295280" cy="17319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22800" y="2840760"/>
              <a:ext cx="1295280" cy="17319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75080" y="5438880"/>
              <a:ext cx="1219320" cy="92376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22600" y="3013920"/>
              <a:ext cx="1600200" cy="173160"/>
            </a:xfrm>
            <a:prstGeom prst="rightArrow">
              <a:avLst>
                <a:gd name="adj1" fmla="val 50000"/>
                <a:gd name="adj2" fmla="val 231029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22600" y="4110840"/>
              <a:ext cx="1600200" cy="173160"/>
            </a:xfrm>
            <a:prstGeom prst="leftArrow">
              <a:avLst>
                <a:gd name="adj1" fmla="val 50000"/>
                <a:gd name="adj2" fmla="val 231029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08600" y="4572720"/>
              <a:ext cx="228600" cy="865800"/>
            </a:xfrm>
            <a:prstGeom prst="upDownArrow">
              <a:avLst>
                <a:gd name="adj1" fmla="val 50000"/>
                <a:gd name="adj2" fmla="val 75397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05280" y="27255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文件名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3760" y="313056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文件使用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方式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28960" y="4284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文件类型指针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52680" y="3533400"/>
              <a:ext cx="71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程序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03960" y="34167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操作系统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07000" y="57272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磁盘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72760" y="207000"/>
            <a:ext cx="3087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类型指针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360" y="903240"/>
            <a:ext cx="8566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文件操作用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库函数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实现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包含在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dio.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文件使用方式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打开文件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--&gt;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文件读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写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--&g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关闭文件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系统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自动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打开和关闭三个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标准文件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标准输入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----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键盘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d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标准输出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----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显示器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d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标准出错输出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---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显示器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der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打开文件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pe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LE    *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open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(char  *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,char *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ode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7680" y="4692600"/>
            <a:ext cx="77724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按指定方式打开文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正常打开，为指向文件结构体的指针；打开失败，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NU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01720" y="4983120"/>
            <a:ext cx="1461240" cy="460080"/>
          </a:xfrm>
          <a:prstGeom prst="wedgeRectCallout">
            <a:avLst>
              <a:gd name="adj1" fmla="val -11379"/>
              <a:gd name="adj2" fmla="val -138583"/>
            </a:avLst>
          </a:prstGeom>
          <a:solidFill>
            <a:srgbClr val="9cc2e8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要打开的文件名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90200" y="3598920"/>
            <a:ext cx="1278360" cy="460080"/>
          </a:xfrm>
          <a:prstGeom prst="wedgeRectCallout">
            <a:avLst>
              <a:gd name="adj1" fmla="val -25310"/>
              <a:gd name="adj2" fmla="val 108324"/>
            </a:avLst>
          </a:prstGeom>
          <a:solidFill>
            <a:srgbClr val="9cc2e8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使用文件方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32640" y="1087560"/>
            <a:ext cx="4484520" cy="2654280"/>
          </a:xfrm>
          <a:prstGeom prst="rect">
            <a:avLst/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 文件打开与测试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ILE 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p=fopen(“aa.c”,“w”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f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隶书"/>
              </a:rPr>
              <a:t>fp=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{     printf(“File open error!\n”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65200" y="2595240"/>
            <a:ext cx="6373800" cy="825480"/>
          </a:xfrm>
          <a:prstGeom prst="rect">
            <a:avLst/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ILE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p= fopen (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c:\\fengyi\\bkc\\test.da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”,”r”);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22960" y="2410920"/>
            <a:ext cx="5962680" cy="1191240"/>
          </a:xfrm>
          <a:prstGeom prst="rect">
            <a:avLst/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ILE 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char  *filename=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c:\\fengyi\\bkc\\test.da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p= fopen(filename,”r”);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98600" y="265320"/>
            <a:ext cx="48225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文件的打开与关闭</a:t>
            </a:r>
            <a:br>
              <a:rPr sz="3200"/>
            </a:b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9" dur="1" fill="hold"/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903240"/>
            <a:ext cx="8477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作用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使文件指针变量与文件“脱钩”，释放文件结构体和文件指针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函数原型：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int  fclose(FILE  *f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3520" y="2063880"/>
            <a:ext cx="8477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关闭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指向的文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正常关闭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出错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98240" y="2602080"/>
            <a:ext cx="2741040" cy="460080"/>
          </a:xfrm>
          <a:prstGeom prst="wedgeRectCallout">
            <a:avLst>
              <a:gd name="adj1" fmla="val -21847"/>
              <a:gd name="adj2" fmla="val -173532"/>
            </a:avLst>
          </a:prstGeom>
          <a:solidFill>
            <a:srgbClr val="9cc2e8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文件打开时返回的文件类型指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687680" y="3164040"/>
            <a:ext cx="6095520" cy="3162240"/>
            <a:chOff x="1687680" y="3164040"/>
            <a:chExt cx="6095520" cy="3162240"/>
          </a:xfrm>
        </p:grpSpPr>
        <p:sp>
          <p:nvSpPr>
            <p:cNvPr id="226" name=""/>
            <p:cNvSpPr/>
            <p:nvPr/>
          </p:nvSpPr>
          <p:spPr>
            <a:xfrm>
              <a:off x="1687680" y="3583080"/>
              <a:ext cx="3809880" cy="2743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68560" y="4878360"/>
              <a:ext cx="1066320" cy="121932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01720" y="4878360"/>
              <a:ext cx="0" cy="381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01720" y="5259600"/>
              <a:ext cx="5331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68760" y="4040280"/>
              <a:ext cx="1599840" cy="53352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68760" y="5259600"/>
              <a:ext cx="159984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40560" y="4573800"/>
              <a:ext cx="1142640" cy="10666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4540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磁盘文件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97280" y="57927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输出文件缓冲区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7280" y="36594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输入文件缓冲区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5200" y="44974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程序数据区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55800" y="4878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134880" y="4345200"/>
              <a:ext cx="533160" cy="533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35240" y="5031000"/>
              <a:ext cx="53316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5268960" y="4268520"/>
              <a:ext cx="144720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268960" y="5259600"/>
              <a:ext cx="1371240" cy="304560"/>
            </a:xfrm>
            <a:prstGeom prst="line">
              <a:avLst/>
            </a:prstGeom>
            <a:ln w="38160">
              <a:solidFill>
                <a:srgbClr val="d0e2f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24200" y="31640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缓冲文件系统：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562360" y="5400360"/>
            <a:ext cx="1029600" cy="736200"/>
            <a:chOff x="5562360" y="5400360"/>
            <a:chExt cx="1029600" cy="736200"/>
          </a:xfrm>
        </p:grpSpPr>
        <p:sp>
          <p:nvSpPr>
            <p:cNvPr id="244" name=""/>
            <p:cNvSpPr/>
            <p:nvPr/>
          </p:nvSpPr>
          <p:spPr>
            <a:xfrm>
              <a:off x="5562360" y="5616000"/>
              <a:ext cx="10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fclose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0802600">
              <a:off x="5573880" y="5492520"/>
              <a:ext cx="822240" cy="160200"/>
            </a:xfrm>
            <a:prstGeom prst="rightArrow">
              <a:avLst>
                <a:gd name="adj1" fmla="val 50000"/>
                <a:gd name="adj2" fmla="val 128315"/>
              </a:avLst>
            </a:prstGeom>
            <a:solidFill>
              <a:srgbClr val="ff0000"/>
            </a:solidFill>
            <a:ln w="38160">
              <a:solidFill>
                <a:srgbClr val="d0e2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738400" y="3175200"/>
            <a:ext cx="2375640" cy="460080"/>
          </a:xfrm>
          <a:prstGeom prst="wedgeRectCallout">
            <a:avLst>
              <a:gd name="adj1" fmla="val -47712"/>
              <a:gd name="adj2" fmla="val 170796"/>
            </a:avLst>
          </a:prstGeom>
          <a:solidFill>
            <a:srgbClr val="9cc2e8"/>
          </a:solidFill>
          <a:ln w="38160">
            <a:solidFill>
              <a:srgbClr val="d0e2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不关闭文件可能会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丢失数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666360" y="375840"/>
            <a:ext cx="404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关闭</a:t>
            </a: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close</a:t>
            </a:r>
            <a:br>
              <a:rPr sz="3600"/>
            </a:b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34800" y="919080"/>
            <a:ext cx="85140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字符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/O:fput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get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put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函数原型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int  fputc(char ch, FILE *f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功能：将字符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写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指向的文件中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返值：正常，返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;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出错，为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OF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6600" y="3005280"/>
            <a:ext cx="85136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get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原型：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int  fgetc(FILE *f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p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指向的文件中读取下一个字符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正常，返回读到的代码值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读到文件尾或出错，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55040" y="4918680"/>
            <a:ext cx="513360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文件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I/O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与终端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I/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define     putc(ch,fp)       fputc(ch,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define     getc(fp)            fgetc(f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define     putchar( c )      fputc(c,stdou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define     getchar( )         fgetc(stdin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685440" y="339840"/>
            <a:ext cx="42274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文件的读写</a:t>
            </a:r>
            <a:br>
              <a:rPr sz="3600"/>
            </a:b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240440" y="1246680"/>
            <a:ext cx="2704320" cy="192276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判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二进制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文件是否结束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hile(!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eof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fp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{      c=fgetc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   ……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3610080"/>
            <a:ext cx="1698120" cy="459720"/>
            <a:chOff x="0" y="3610080"/>
            <a:chExt cx="1698120" cy="459720"/>
          </a:xfrm>
        </p:grpSpPr>
        <p:sp>
          <p:nvSpPr>
            <p:cNvPr id="254" name=""/>
            <p:cNvSpPr/>
            <p:nvPr/>
          </p:nvSpPr>
          <p:spPr>
            <a:xfrm>
              <a:off x="444600" y="361008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例  文件拷贝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3713400"/>
              <a:ext cx="228600" cy="21096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86760 h 210960"/>
                <a:gd name="textAreaBottom" fmla="*/ 124200 h 21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2640" y="246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83880" y="291960"/>
            <a:ext cx="5177880" cy="631188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FILE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ch,*filename=“out.txt”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fp=fopen(filename,"w"))=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rintf("cannot open file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"Please input string: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=getchar(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ch!='#'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putc(ch,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utchar(ch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=getchar(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7200" y="2523960"/>
            <a:ext cx="19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读文本文件内容，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并显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54880" y="1446120"/>
            <a:ext cx="5071320" cy="448308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FILE *fp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ch,*filename=“out.txt”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((fp=fopen(filename,”r"))==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printf("cannot open file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(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=fgetc(fp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!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OF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utchar(ch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200" y="4048200"/>
            <a:ext cx="8513640" cy="17413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fe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函数原型： 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int  feof(FILE  *f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功能：判断文件是否结束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返值：文件结束，返回真（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）；文件未结束，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84320" y="167760"/>
            <a:ext cx="5347080" cy="6677640"/>
          </a:xfrm>
          <a:prstGeom prst="rect">
            <a:avLst/>
          </a:prstGeom>
          <a:solidFill>
            <a:srgbClr val="ccec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FILE *in, *ou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r ch,infile[10],outfile[10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canf("%s",infile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canf("%s",outfile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((in = fopen(infile, "r"))== NUL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printf("Cannot open infile.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(out = fopen(outfile, "w"))== NU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printf("Cannot open outfile.\n"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hile (!feof(in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putc(fgetc(in), out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close(in)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close(out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847880" y="289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从键盘输入字符，逐个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存到磁盘文件中，直到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输入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“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为止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05:27:31Z</dcterms:created>
  <dc:creator>hyg</dc:creator>
  <dc:description/>
  <dc:language>en-US</dc:language>
  <cp:lastModifiedBy>YlmF</cp:lastModifiedBy>
  <dcterms:modified xsi:type="dcterms:W3CDTF">2009-06-20T03:35:28Z</dcterms:modified>
  <cp:revision>289</cp:revision>
  <dc:subject/>
  <dc:title>第十一章  文件</dc:title>
</cp:coreProperties>
</file>