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1EA-F4A2-4A35-A05F-55FD5E1F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B57-2E63-4505-8CF9-872808AB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575-33BE-4296-ABC3-299C247D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DAF-1E25-4946-B291-BD03D4BD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6A5D-E35A-462D-B092-B6ED18D3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841C-A9FE-4E99-911A-8046205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03CC-1615-4679-9E1B-D59A20A5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8CA6-18C0-4A7B-892C-48CB37AF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66DE-AE22-4C06-946A-E145D897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80C3-5278-4C28-B793-2D514D8A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7503-9DCF-4F26-8A02-60A0D8FE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C6E-E1D4-41A8-8570-A4B7D0E0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793C-93CA-4110-A4EB-5261E2F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2C54-8313-42D4-8BA4-34D676FF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00D0-577C-4B3F-B89D-40D7AEE9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EE83-A227-4749-ACF6-60AC0A16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4529-595D-45D3-9EC9-A6C80A17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537-3007-466E-B84D-A097294D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DD9-92B4-4816-B1A5-B9700401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1A1-87F5-4730-A042-92E84DE0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A3B-057D-4A49-8DD8-14DF2AB1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991-4394-4C5A-9100-DB43F480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09A-E4C4-4079-A27A-E6D9F984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79A-80EA-4F12-8D14-DE8B101B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C2AD-8E70-4310-9EED-4C507DC923EA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8308-C3D3-4F49-8FB5-118094872673}" type="slidenum"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60E-F57C-438E-80BB-014E3B982CC6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CAMERA.WAV"/><Relationship Id="rId40" Type="http://schemas.openxmlformats.org/officeDocument/2006/relationships/audio" Target="../media/CAMERA.WAV"/><Relationship Id="rId41" Type="http://schemas.openxmlformats.org/officeDocument/2006/relationships/audio" Target="../media/CAMERA.WAV"/><Relationship Id="rId42" Type="http://schemas.openxmlformats.org/officeDocument/2006/relationships/audio" Target="../media/CAMERA.WAV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  <a:ea typeface="隶书"/>
              </a:rPr>
              <a:t>数组概念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ffffeb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构造数据类型之一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eb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数组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: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有序数据的集合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用数组名标识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eb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元素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: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属同一数据类型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用数组名和下标确定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31640" y="1878120"/>
            <a:ext cx="5394240" cy="2876400"/>
            <a:chOff x="431640" y="1878120"/>
            <a:chExt cx="5394240" cy="2876400"/>
          </a:xfrm>
        </p:grpSpPr>
        <p:sp>
          <p:nvSpPr>
            <p:cNvPr id="416" name=""/>
            <p:cNvSpPr/>
            <p:nvPr/>
          </p:nvSpPr>
          <p:spPr>
            <a:xfrm>
              <a:off x="431640" y="1878120"/>
              <a:ext cx="5394240" cy="287640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int a[3][4]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779480" y="2503440"/>
              <a:ext cx="3319200" cy="1812960"/>
              <a:chOff x="1779480" y="2503440"/>
              <a:chExt cx="3319200" cy="1812960"/>
            </a:xfrm>
          </p:grpSpPr>
          <p:sp>
            <p:nvSpPr>
              <p:cNvPr id="418" name=""/>
              <p:cNvSpPr/>
              <p:nvPr/>
            </p:nvSpPr>
            <p:spPr>
              <a:xfrm>
                <a:off x="1779480" y="2542680"/>
                <a:ext cx="3298320" cy="165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800720" y="3142800"/>
                <a:ext cx="329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79480" y="3671640"/>
                <a:ext cx="329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28640" y="2542680"/>
                <a:ext cx="0" cy="16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571480" y="2542680"/>
                <a:ext cx="0" cy="16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62400" y="2542680"/>
                <a:ext cx="0" cy="165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1846080" y="3612600"/>
                <a:ext cx="3153960" cy="703800"/>
                <a:chOff x="1846080" y="3612600"/>
                <a:chExt cx="3153960" cy="7038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84608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6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7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63376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8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9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47940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2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307400" y="361260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2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861560" y="3058920"/>
                <a:ext cx="3152160" cy="703800"/>
                <a:chOff x="1861560" y="3058920"/>
                <a:chExt cx="3152160" cy="7038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86156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8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4996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9488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321080" y="305892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1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846080" y="2503440"/>
                <a:ext cx="3220200" cy="703800"/>
                <a:chOff x="1846080" y="2503440"/>
                <a:chExt cx="3220200" cy="703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1846080" y="250344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33760" y="250344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79400" y="2503440"/>
                  <a:ext cx="692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245480" y="2503440"/>
                  <a:ext cx="8208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0006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9" name=""/>
            <p:cNvGrpSpPr/>
            <p:nvPr/>
          </p:nvGrpSpPr>
          <p:grpSpPr>
            <a:xfrm>
              <a:off x="1720800" y="2616120"/>
              <a:ext cx="3405600" cy="398880"/>
              <a:chOff x="1720800" y="2616120"/>
              <a:chExt cx="3405600" cy="398880"/>
            </a:xfrm>
          </p:grpSpPr>
          <p:sp>
            <p:nvSpPr>
              <p:cNvPr id="440" name=""/>
              <p:cNvSpPr/>
              <p:nvPr/>
            </p:nvSpPr>
            <p:spPr>
              <a:xfrm>
                <a:off x="172080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5888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9696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235400" y="2616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720800" y="3187800"/>
              <a:ext cx="3405600" cy="398880"/>
              <a:chOff x="1720800" y="3187800"/>
              <a:chExt cx="3405600" cy="398880"/>
            </a:xfrm>
          </p:grpSpPr>
          <p:sp>
            <p:nvSpPr>
              <p:cNvPr id="445" name=""/>
              <p:cNvSpPr/>
              <p:nvPr/>
            </p:nvSpPr>
            <p:spPr>
              <a:xfrm>
                <a:off x="172080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5888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39696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235400" y="31878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20800" y="3759120"/>
              <a:ext cx="3405600" cy="398880"/>
              <a:chOff x="1720800" y="3759120"/>
              <a:chExt cx="3405600" cy="398880"/>
            </a:xfrm>
          </p:grpSpPr>
          <p:sp>
            <p:nvSpPr>
              <p:cNvPr id="450" name=""/>
              <p:cNvSpPr/>
              <p:nvPr/>
            </p:nvSpPr>
            <p:spPr>
              <a:xfrm>
                <a:off x="172080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5888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696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35400" y="3759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00"/>
                    </a:solidFill>
                    <a:latin typeface="Times New Roman"/>
                  </a:rPr>
                  <a:t>a[2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779480" y="5005800"/>
            <a:ext cx="3452040" cy="999720"/>
          </a:xfrm>
          <a:prstGeom prst="wedgeEllipseCallout">
            <a:avLst>
              <a:gd name="adj1" fmla="val -19824"/>
              <a:gd name="adj2" fmla="val -111587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每个元素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[i]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由包含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个元素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的一维数组组成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74240" y="1198440"/>
            <a:ext cx="3327120" cy="566640"/>
          </a:xfrm>
          <a:prstGeom prst="wedgeEllipseCallout">
            <a:avLst>
              <a:gd name="adj1" fmla="val -1555"/>
              <a:gd name="adj2" fmla="val 150000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二维数组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是由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个元素组成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249200" y="2610360"/>
            <a:ext cx="592200" cy="1427760"/>
            <a:chOff x="1249200" y="2610360"/>
            <a:chExt cx="592200" cy="1427760"/>
          </a:xfrm>
        </p:grpSpPr>
        <p:sp>
          <p:nvSpPr>
            <p:cNvPr id="457" name=""/>
            <p:cNvSpPr/>
            <p:nvPr/>
          </p:nvSpPr>
          <p:spPr>
            <a:xfrm>
              <a:off x="1249200" y="26103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[0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49200" y="312480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[1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49200" y="36392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a[2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82480" y="4038480"/>
            <a:ext cx="903240" cy="605160"/>
            <a:chOff x="582480" y="4038480"/>
            <a:chExt cx="903240" cy="605160"/>
          </a:xfrm>
        </p:grpSpPr>
        <p:sp>
          <p:nvSpPr>
            <p:cNvPr id="461" name=""/>
            <p:cNvSpPr/>
            <p:nvPr/>
          </p:nvSpPr>
          <p:spPr>
            <a:xfrm flipV="1">
              <a:off x="1009440" y="4038480"/>
              <a:ext cx="476280" cy="324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2480" y="42447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行名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133680" y="955800"/>
            <a:ext cx="2810880" cy="4597560"/>
            <a:chOff x="6133680" y="955800"/>
            <a:chExt cx="2810880" cy="4597560"/>
          </a:xfrm>
        </p:grpSpPr>
        <p:grpSp>
          <p:nvGrpSpPr>
            <p:cNvPr id="464" name=""/>
            <p:cNvGrpSpPr/>
            <p:nvPr/>
          </p:nvGrpSpPr>
          <p:grpSpPr>
            <a:xfrm>
              <a:off x="6133680" y="1001880"/>
              <a:ext cx="2110320" cy="4551480"/>
              <a:chOff x="6133680" y="1001880"/>
              <a:chExt cx="2110320" cy="4551480"/>
            </a:xfrm>
          </p:grpSpPr>
          <p:sp>
            <p:nvSpPr>
              <p:cNvPr id="465" name=""/>
              <p:cNvSpPr/>
              <p:nvPr/>
            </p:nvSpPr>
            <p:spPr>
              <a:xfrm>
                <a:off x="6478560" y="1039680"/>
                <a:ext cx="1765440" cy="449568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65960" y="1428840"/>
                <a:ext cx="1749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65960" y="1800000"/>
                <a:ext cx="1749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65960" y="217332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65960" y="2544840"/>
                <a:ext cx="176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465960" y="291780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465960" y="328932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65960" y="366228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465960" y="4035240"/>
                <a:ext cx="176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465960" y="440676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465960" y="478008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65960" y="5151240"/>
                <a:ext cx="1765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6152760" y="1060560"/>
                <a:ext cx="324720" cy="2263320"/>
                <a:chOff x="6152760" y="1060560"/>
                <a:chExt cx="324720" cy="22633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168600" y="10605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168600" y="14061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168600" y="2544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168600" y="2925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152760" y="1706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152760" y="2163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6873840" y="13827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73840" y="17636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873840" y="21445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73840" y="25257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73840" y="29066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73840" y="10018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a[0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873840" y="36306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73840" y="40114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73840" y="43927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73840" y="477360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73840" y="51544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a[2]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73840" y="32497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a[1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6133680" y="3289320"/>
                <a:ext cx="452160" cy="2263680"/>
                <a:chOff x="6133680" y="3289320"/>
                <a:chExt cx="452160" cy="22636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149520" y="3289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149520" y="36349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149160" y="477324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149160" y="515412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133680" y="3934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133680" y="4392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3" name=""/>
            <p:cNvSpPr/>
            <p:nvPr/>
          </p:nvSpPr>
          <p:spPr>
            <a:xfrm>
              <a:off x="8176320" y="95580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14480" y="24987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a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71720" y="396540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a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442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理解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80880" y="457200"/>
            <a:ext cx="87631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形式：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数组名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下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下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元素的初始化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分行初始化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88920" y="1369080"/>
            <a:ext cx="7299360" cy="3355200"/>
            <a:chOff x="988920" y="1369080"/>
            <a:chExt cx="7299360" cy="3355200"/>
          </a:xfrm>
        </p:grpSpPr>
        <p:grpSp>
          <p:nvGrpSpPr>
            <p:cNvPr id="509" name=""/>
            <p:cNvGrpSpPr/>
            <p:nvPr/>
          </p:nvGrpSpPr>
          <p:grpSpPr>
            <a:xfrm>
              <a:off x="988920" y="2214720"/>
              <a:ext cx="6423120" cy="2509560"/>
              <a:chOff x="988920" y="2214720"/>
              <a:chExt cx="6423120" cy="2509560"/>
            </a:xfrm>
          </p:grpSpPr>
          <p:sp>
            <p:nvSpPr>
              <p:cNvPr id="510" name=""/>
              <p:cNvSpPr/>
              <p:nvPr/>
            </p:nvSpPr>
            <p:spPr>
              <a:xfrm>
                <a:off x="988920" y="2214720"/>
                <a:ext cx="642312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3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,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4,5,6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09760" y="3192480"/>
                <a:ext cx="5676840" cy="5299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0012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34800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9588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24340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191280" y="320040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41300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36232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31164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5916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0848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56360" y="376236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1404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4284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67308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0188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3212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62360" y="3309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6845040" y="1369080"/>
              <a:ext cx="1443240" cy="614520"/>
            </a:xfrm>
            <a:prstGeom prst="cloudCallout">
              <a:avLst>
                <a:gd name="adj1" fmla="val -68203"/>
                <a:gd name="adj2" fmla="val 8395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全部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80880" y="2193840"/>
            <a:ext cx="8763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按元素排列顺序初始化 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25640" y="1350000"/>
            <a:ext cx="6422760" cy="3540960"/>
            <a:chOff x="1025640" y="1350000"/>
            <a:chExt cx="6422760" cy="3540960"/>
          </a:xfrm>
        </p:grpSpPr>
        <p:grpSp>
          <p:nvGrpSpPr>
            <p:cNvPr id="532" name=""/>
            <p:cNvGrpSpPr/>
            <p:nvPr/>
          </p:nvGrpSpPr>
          <p:grpSpPr>
            <a:xfrm>
              <a:off x="1025640" y="2381400"/>
              <a:ext cx="6422760" cy="2509560"/>
              <a:chOff x="1025640" y="2381400"/>
              <a:chExt cx="6422760" cy="2509560"/>
            </a:xfrm>
          </p:grpSpPr>
          <p:sp>
            <p:nvSpPr>
              <p:cNvPr id="533" name=""/>
              <p:cNvSpPr/>
              <p:nvPr/>
            </p:nvSpPr>
            <p:spPr>
              <a:xfrm>
                <a:off x="1025640" y="2381400"/>
                <a:ext cx="642276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,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4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46120" y="3281400"/>
                <a:ext cx="5676480" cy="62496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455560" y="329400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9876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34160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28444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27640" y="32716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44936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39868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4800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9552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4484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192720" y="38671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85040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7884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0944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3788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56812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9836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511600" y="1350000"/>
              <a:ext cx="1443240" cy="614520"/>
            </a:xfrm>
            <a:prstGeom prst="cloudCallout">
              <a:avLst>
                <a:gd name="adj1" fmla="val -56305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部分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006560" y="1502640"/>
            <a:ext cx="6597360" cy="3731400"/>
            <a:chOff x="1006560" y="1502640"/>
            <a:chExt cx="6597360" cy="3731400"/>
          </a:xfrm>
        </p:grpSpPr>
        <p:grpSp>
          <p:nvGrpSpPr>
            <p:cNvPr id="554" name=""/>
            <p:cNvGrpSpPr/>
            <p:nvPr/>
          </p:nvGrpSpPr>
          <p:grpSpPr>
            <a:xfrm>
              <a:off x="1006560" y="2724120"/>
              <a:ext cx="6423120" cy="2509920"/>
              <a:chOff x="1006560" y="2724120"/>
              <a:chExt cx="6423120" cy="2509920"/>
            </a:xfrm>
          </p:grpSpPr>
          <p:sp>
            <p:nvSpPr>
              <p:cNvPr id="555" name=""/>
              <p:cNvSpPr/>
              <p:nvPr/>
            </p:nvSpPr>
            <p:spPr>
              <a:xfrm>
                <a:off x="1006560" y="2724120"/>
                <a:ext cx="6423120" cy="250992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,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4,5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7400" y="3624480"/>
                <a:ext cx="567684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36840" y="363708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38004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2288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6572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08920" y="3614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3064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96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32928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27680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2612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74000" y="421020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3168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6048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9072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61952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4976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80000" y="3695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5304600" y="1502640"/>
              <a:ext cx="2299320" cy="614520"/>
            </a:xfrm>
            <a:prstGeom prst="cloudCallout">
              <a:avLst>
                <a:gd name="adj1" fmla="val -67138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第一维</a:t>
              </a: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长度省略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74800" y="2188440"/>
            <a:ext cx="7299360" cy="3355200"/>
            <a:chOff x="874800" y="2188440"/>
            <a:chExt cx="7299360" cy="3355200"/>
          </a:xfrm>
        </p:grpSpPr>
        <p:grpSp>
          <p:nvGrpSpPr>
            <p:cNvPr id="576" name=""/>
            <p:cNvGrpSpPr/>
            <p:nvPr/>
          </p:nvGrpSpPr>
          <p:grpSpPr>
            <a:xfrm>
              <a:off x="874800" y="3034080"/>
              <a:ext cx="6423120" cy="2509560"/>
              <a:chOff x="874800" y="3034080"/>
              <a:chExt cx="6423120" cy="2509560"/>
            </a:xfrm>
          </p:grpSpPr>
          <p:sp>
            <p:nvSpPr>
              <p:cNvPr id="577" name=""/>
              <p:cNvSpPr/>
              <p:nvPr/>
            </p:nvSpPr>
            <p:spPr>
              <a:xfrm>
                <a:off x="874800" y="3034080"/>
                <a:ext cx="642312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3,4,5,6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295640" y="4011840"/>
                <a:ext cx="5676840" cy="5299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8600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3388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18176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2928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77160" y="4019760"/>
                <a:ext cx="0" cy="5522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29888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4820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19752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4504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09436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042240" y="458172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9992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62872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55896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8776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1800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348240" y="4129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6730920" y="2188440"/>
              <a:ext cx="1443240" cy="614520"/>
            </a:xfrm>
            <a:prstGeom prst="cloudCallout">
              <a:avLst>
                <a:gd name="adj1" fmla="val -68203"/>
                <a:gd name="adj2" fmla="val 8395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全部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063800" y="2131200"/>
            <a:ext cx="6422760" cy="3540960"/>
            <a:chOff x="1063800" y="2131200"/>
            <a:chExt cx="6422760" cy="3540960"/>
          </a:xfrm>
        </p:grpSpPr>
        <p:grpSp>
          <p:nvGrpSpPr>
            <p:cNvPr id="598" name=""/>
            <p:cNvGrpSpPr/>
            <p:nvPr/>
          </p:nvGrpSpPr>
          <p:grpSpPr>
            <a:xfrm>
              <a:off x="1063800" y="3162600"/>
              <a:ext cx="6422760" cy="2509560"/>
              <a:chOff x="1063800" y="3162600"/>
              <a:chExt cx="6422760" cy="2509560"/>
            </a:xfrm>
          </p:grpSpPr>
          <p:sp>
            <p:nvSpPr>
              <p:cNvPr id="599" name=""/>
              <p:cNvSpPr/>
              <p:nvPr/>
            </p:nvSpPr>
            <p:spPr>
              <a:xfrm>
                <a:off x="1063800" y="3162600"/>
                <a:ext cx="642276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2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4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484280" y="4062600"/>
                <a:ext cx="5676480" cy="62496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493720" y="407520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43692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7976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32260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65800" y="40528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48752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3684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8616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3368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8300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30880" y="4648320"/>
                <a:ext cx="102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8856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81700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4760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7604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60628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536520" y="413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5549760" y="2131200"/>
              <a:ext cx="1443240" cy="614520"/>
            </a:xfrm>
            <a:prstGeom prst="cloudCallout">
              <a:avLst>
                <a:gd name="adj1" fmla="val -56305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部分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006560" y="2245320"/>
            <a:ext cx="6597360" cy="3731400"/>
            <a:chOff x="1006560" y="2245320"/>
            <a:chExt cx="6597360" cy="3731400"/>
          </a:xfrm>
        </p:grpSpPr>
        <p:grpSp>
          <p:nvGrpSpPr>
            <p:cNvPr id="620" name=""/>
            <p:cNvGrpSpPr/>
            <p:nvPr/>
          </p:nvGrpSpPr>
          <p:grpSpPr>
            <a:xfrm>
              <a:off x="1006560" y="3466800"/>
              <a:ext cx="6423120" cy="2509920"/>
              <a:chOff x="1006560" y="3466800"/>
              <a:chExt cx="6423120" cy="2509920"/>
            </a:xfrm>
          </p:grpSpPr>
          <p:sp>
            <p:nvSpPr>
              <p:cNvPr id="621" name=""/>
              <p:cNvSpPr/>
              <p:nvPr/>
            </p:nvSpPr>
            <p:spPr>
              <a:xfrm>
                <a:off x="1006560" y="3466800"/>
                <a:ext cx="6423120" cy="250992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int a[][3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1,2,3,4,5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427400" y="4367160"/>
                <a:ext cx="567684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36840" y="437976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38004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2288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6572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08920" y="435744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43064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37996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32928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0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7680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2612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74000" y="4952880"/>
                <a:ext cx="1027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a[1]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83168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6048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9072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61952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54976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480000" y="4438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5304600" y="2245320"/>
              <a:ext cx="2299320" cy="614520"/>
            </a:xfrm>
            <a:prstGeom prst="cloudCallout">
              <a:avLst>
                <a:gd name="adj1" fmla="val -67138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第一维</a:t>
              </a: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长度省略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0440" y="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元素的引用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5" dur="1" fill="hold"/>
                                  <p:tgtEl>
                                    <p:spTgt spid="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66760" y="0"/>
            <a:ext cx="73152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839960" y="9414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将二维数组行列元素互换，存到另一个数组中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13080" y="1766880"/>
            <a:ext cx="3405240" cy="1008720"/>
            <a:chOff x="5113080" y="1766880"/>
            <a:chExt cx="3405240" cy="1008720"/>
          </a:xfrm>
        </p:grpSpPr>
        <p:grpSp>
          <p:nvGrpSpPr>
            <p:cNvPr id="645" name=""/>
            <p:cNvGrpSpPr/>
            <p:nvPr/>
          </p:nvGrpSpPr>
          <p:grpSpPr>
            <a:xfrm>
              <a:off x="5113080" y="1792440"/>
              <a:ext cx="1398600" cy="703800"/>
              <a:chOff x="5113080" y="1792440"/>
              <a:chExt cx="1398600" cy="703800"/>
            </a:xfrm>
          </p:grpSpPr>
          <p:sp>
            <p:nvSpPr>
              <p:cNvPr id="646" name=""/>
              <p:cNvSpPr/>
              <p:nvPr/>
            </p:nvSpPr>
            <p:spPr>
              <a:xfrm>
                <a:off x="5113080" y="18813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=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639400" y="1792440"/>
                <a:ext cx="820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  2  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4  5  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605200" y="1906920"/>
                <a:ext cx="74880" cy="493560"/>
              </a:xfrm>
              <a:custGeom>
                <a:avLst/>
                <a:gdLst>
                  <a:gd name="textAreaLeft" fmla="*/ 21960 w 74880"/>
                  <a:gd name="textAreaRight" fmla="*/ 75240 w 74880"/>
                  <a:gd name="textAreaTop" fmla="*/ 20520 h 493560"/>
                  <a:gd name="textAreaBottom" fmla="*/ 473040 h 49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19520" y="1906920"/>
                <a:ext cx="92160" cy="475920"/>
              </a:xfrm>
              <a:custGeom>
                <a:avLst/>
                <a:gdLst>
                  <a:gd name="textAreaLeft" fmla="*/ 0 w 92160"/>
                  <a:gd name="textAreaRight" fmla="*/ 64800 w 92160"/>
                  <a:gd name="textAreaTop" fmla="*/ 19800 h 475920"/>
                  <a:gd name="textAreaBottom" fmla="*/ 456120 h 47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7275960" y="1766880"/>
              <a:ext cx="1242360" cy="1008720"/>
              <a:chOff x="7275960" y="1766880"/>
              <a:chExt cx="1242360" cy="1008720"/>
            </a:xfrm>
          </p:grpSpPr>
          <p:sp>
            <p:nvSpPr>
              <p:cNvPr id="651" name=""/>
              <p:cNvSpPr/>
              <p:nvPr/>
            </p:nvSpPr>
            <p:spPr>
              <a:xfrm>
                <a:off x="7275960" y="1997280"/>
                <a:ext cx="45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b=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840440" y="1766880"/>
                <a:ext cx="6289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   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   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3   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70600" y="1881360"/>
                <a:ext cx="109440" cy="776160"/>
              </a:xfrm>
              <a:custGeom>
                <a:avLst/>
                <a:gdLst>
                  <a:gd name="textAreaLeft" fmla="*/ 32040 w 109440"/>
                  <a:gd name="textAreaRight" fmla="*/ 109800 w 109440"/>
                  <a:gd name="textAreaTop" fmla="*/ 32040 h 776160"/>
                  <a:gd name="textAreaBottom" fmla="*/ 744120 h 7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407080" y="1863720"/>
                <a:ext cx="111240" cy="793800"/>
              </a:xfrm>
              <a:custGeom>
                <a:avLst/>
                <a:gdLst>
                  <a:gd name="textAreaLeft" fmla="*/ 0 w 111240"/>
                  <a:gd name="textAreaRight" fmla="*/ 78120 w 111240"/>
                  <a:gd name="textAreaTop" fmla="*/ 32760 h 793800"/>
                  <a:gd name="textAreaBottom" fmla="*/ 761040 h 79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705240" y="1483920"/>
            <a:ext cx="8159040" cy="4483080"/>
            <a:chOff x="705240" y="1483920"/>
            <a:chExt cx="8159040" cy="4483080"/>
          </a:xfrm>
        </p:grpSpPr>
        <p:sp>
          <p:nvSpPr>
            <p:cNvPr id="656" name=""/>
            <p:cNvSpPr/>
            <p:nvPr/>
          </p:nvSpPr>
          <p:spPr>
            <a:xfrm>
              <a:off x="705240" y="1483920"/>
              <a:ext cx="4234680" cy="448308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#include &lt;stdio.h&gt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   int a[2][3]={{1,2,3},{4,5,6}}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t b[3][2],i,j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intf("array a: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(i=0;i&lt;=1;i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{   for(j=0;j&lt;=2;j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{   printf("%5d",a[i][j]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[j][i]=a[i][j]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intf("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}    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54320" y="3084120"/>
              <a:ext cx="3909960" cy="265428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intf("array b: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for(i=0;i&lt;=2;i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{   for(j=0;j&lt;=1;j++)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printf("%5d",b[i][j]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printf("\n")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6699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58600" y="3139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程序举例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8436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30200" y="1365120"/>
            <a:ext cx="4419720" cy="4151160"/>
            <a:chOff x="430200" y="1365120"/>
            <a:chExt cx="4419720" cy="4151160"/>
          </a:xfrm>
        </p:grpSpPr>
        <p:sp>
          <p:nvSpPr>
            <p:cNvPr id="661" name=""/>
            <p:cNvSpPr/>
            <p:nvPr/>
          </p:nvSpPr>
          <p:spPr>
            <a:xfrm>
              <a:off x="430200" y="1365120"/>
              <a:ext cx="4419720" cy="415116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0200" y="1898640"/>
              <a:ext cx="4419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39680" y="2431800"/>
              <a:ext cx="381024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73200" y="2965320"/>
              <a:ext cx="3276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73200" y="3498840"/>
              <a:ext cx="3276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39680" y="2431800"/>
              <a:ext cx="0" cy="245916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73200" y="2949480"/>
              <a:ext cx="0" cy="19414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47920" y="3489120"/>
              <a:ext cx="1800" cy="14018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0200" y="4890960"/>
              <a:ext cx="44197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97120" y="1420560"/>
              <a:ext cx="14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max=a[0][0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25520" y="191268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for i=0  to  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93640" y="250812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for j=0  to  3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73200" y="2965320"/>
              <a:ext cx="1676520" cy="5335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249720" y="2965320"/>
              <a:ext cx="1600200" cy="5335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37720" y="296532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a[i][j]&gt;max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02080" y="311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45280" y="311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40960" y="3633840"/>
              <a:ext cx="135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max=a[i][j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row=i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colum=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01480" y="4967280"/>
              <a:ext cx="25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输出：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max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和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row,colu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065560" y="272880"/>
            <a:ext cx="4065480" cy="631188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int a[3][4]={{1,2,3,4}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9,8,7,6}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-10,10,-5,2}}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i,j,row=0,colum=0,max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max=a[0][0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(i=0;i&lt;=2;i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(j=0;j&lt;=3;j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(a[i][j]&gt;max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{  max=a[i][j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row=i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olum=j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"max=%d,row=%d, \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lum=%d\n",max,row,colum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5720" y="38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求二维数组中最大元素值及其行列号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457200"/>
            <a:ext cx="8839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eb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定义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1790640"/>
            <a:ext cx="88390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的初始化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逐个字符赋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用字符串常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的引用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989800" y="1108080"/>
            <a:ext cx="3471120" cy="45972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char c[10], ch[3][4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987480" y="2588400"/>
            <a:ext cx="6423120" cy="3731040"/>
            <a:chOff x="987480" y="2588400"/>
            <a:chExt cx="6423120" cy="3731040"/>
          </a:xfrm>
        </p:grpSpPr>
        <p:sp>
          <p:nvSpPr>
            <p:cNvPr id="686" name=""/>
            <p:cNvSpPr/>
            <p:nvPr/>
          </p:nvSpPr>
          <p:spPr>
            <a:xfrm>
              <a:off x="987480" y="3809880"/>
              <a:ext cx="6423120" cy="25095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5]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{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‘H’,’e’,’l’,’l’,’o’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}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07960" y="4709880"/>
              <a:ext cx="4743720" cy="62532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17760" y="472248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60600" y="47005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03800" y="47005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46640" y="47005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6844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812960" y="4781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41760" y="47815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2000" y="47815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00440" y="47815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30320" y="478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42200" y="258840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逐个字符赋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9724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568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5448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3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83280" y="52956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4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930240" y="2493000"/>
            <a:ext cx="8084880" cy="3731040"/>
            <a:chOff x="930240" y="2493000"/>
            <a:chExt cx="8084880" cy="3731040"/>
          </a:xfrm>
        </p:grpSpPr>
        <p:sp>
          <p:nvSpPr>
            <p:cNvPr id="704" name=""/>
            <p:cNvSpPr/>
            <p:nvPr/>
          </p:nvSpPr>
          <p:spPr>
            <a:xfrm>
              <a:off x="7537320" y="2824560"/>
              <a:ext cx="1477800" cy="1283400"/>
            </a:xfrm>
            <a:prstGeom prst="irregularSeal1">
              <a:avLst/>
            </a:prstGeom>
            <a:solidFill>
              <a:srgbClr val="ffffeb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有问题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930240" y="2493000"/>
              <a:ext cx="6423120" cy="3731040"/>
              <a:chOff x="930240" y="2493000"/>
              <a:chExt cx="6423120" cy="3731040"/>
            </a:xfrm>
          </p:grpSpPr>
          <p:sp>
            <p:nvSpPr>
              <p:cNvPr id="706" name=""/>
              <p:cNvSpPr/>
              <p:nvPr/>
            </p:nvSpPr>
            <p:spPr>
              <a:xfrm>
                <a:off x="930240" y="3714480"/>
                <a:ext cx="6423120" cy="25095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char ch[5]=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{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‘H’,’e’,’l’,’l’,’o’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}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;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50720" y="4614480"/>
                <a:ext cx="474372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360520" y="462708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303360" y="460512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46560" y="460512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89400" y="4605120"/>
                <a:ext cx="0" cy="626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1120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55720" y="4686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684520" y="46861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14760" y="46861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43200" y="46861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73080" y="4686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84960" y="2493000"/>
                <a:ext cx="1676520" cy="614520"/>
              </a:xfrm>
              <a:prstGeom prst="cloudCallout">
                <a:avLst>
                  <a:gd name="adj1" fmla="val -57277"/>
                  <a:gd name="adj2" fmla="val 111824"/>
                </a:avLst>
              </a:prstGeom>
              <a:solidFill>
                <a:srgbClr val="ffffeb"/>
              </a:solidFill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9900"/>
                    </a:solidFill>
                    <a:latin typeface="Times New Roman"/>
                  </a:rPr>
                  <a:t>逐个字符赋值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34000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6844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9724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3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126040" y="520020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4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"/>
          <p:cNvGrpSpPr/>
          <p:nvPr/>
        </p:nvGrpSpPr>
        <p:grpSpPr>
          <a:xfrm>
            <a:off x="1120680" y="2574000"/>
            <a:ext cx="6423120" cy="3731040"/>
            <a:chOff x="1120680" y="2574000"/>
            <a:chExt cx="6423120" cy="3731040"/>
          </a:xfrm>
        </p:grpSpPr>
        <p:sp>
          <p:nvSpPr>
            <p:cNvPr id="724" name=""/>
            <p:cNvSpPr/>
            <p:nvPr/>
          </p:nvSpPr>
          <p:spPr>
            <a:xfrm>
              <a:off x="1120680" y="3795480"/>
              <a:ext cx="6423120" cy="25095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5]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{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‘B’,’o’,’y’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}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541160" y="4695480"/>
              <a:ext cx="4743720" cy="62532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50960" y="470808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93800" y="46861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37000" y="46861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79840" y="4686120"/>
              <a:ext cx="0" cy="62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164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46520" y="47671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74600" y="4767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04840" y="4767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33280" y="4767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63520" y="4767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75400" y="257400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逐个字符赋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3044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5888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8768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3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16480" y="52812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4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139760" y="2535840"/>
            <a:ext cx="6423120" cy="3731760"/>
            <a:chOff x="1139760" y="2535840"/>
            <a:chExt cx="6423120" cy="3731760"/>
          </a:xfrm>
        </p:grpSpPr>
        <p:sp>
          <p:nvSpPr>
            <p:cNvPr id="742" name=""/>
            <p:cNvSpPr/>
            <p:nvPr/>
          </p:nvSpPr>
          <p:spPr>
            <a:xfrm>
              <a:off x="1139760" y="3757680"/>
              <a:ext cx="6423120" cy="250992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5]=“Boy”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60240" y="4657680"/>
              <a:ext cx="4743720" cy="62568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70040" y="467028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12880" y="464832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56080" y="464832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98920" y="4648320"/>
              <a:ext cx="0" cy="627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2072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0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65600" y="4729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93680" y="4729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23920" y="4729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752360" y="4729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82600" y="4729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94480" y="253584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用字符串常量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4952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1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7796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2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0676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3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35560" y="52434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[4]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197000" y="2516760"/>
            <a:ext cx="6422760" cy="3731400"/>
            <a:chOff x="1197000" y="2516760"/>
            <a:chExt cx="6422760" cy="3731400"/>
          </a:xfrm>
        </p:grpSpPr>
        <p:sp>
          <p:nvSpPr>
            <p:cNvPr id="760" name=""/>
            <p:cNvSpPr/>
            <p:nvPr/>
          </p:nvSpPr>
          <p:spPr>
            <a:xfrm>
              <a:off x="1197000" y="3738600"/>
              <a:ext cx="6422760" cy="25095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6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]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{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“Hello”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}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6]=“Hello”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har ch[]=“Hello”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51720" y="2516760"/>
              <a:ext cx="1676520" cy="614520"/>
            </a:xfrm>
            <a:prstGeom prst="cloudCallout">
              <a:avLst>
                <a:gd name="adj1" fmla="val -57277"/>
                <a:gd name="adj2" fmla="val 111824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用字符串常量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1636560" y="5067000"/>
              <a:ext cx="5697720" cy="1055160"/>
              <a:chOff x="1636560" y="5067000"/>
              <a:chExt cx="5697720" cy="1055160"/>
            </a:xfrm>
          </p:grpSpPr>
          <p:sp>
            <p:nvSpPr>
              <p:cNvPr id="763" name=""/>
              <p:cNvSpPr/>
              <p:nvPr/>
            </p:nvSpPr>
            <p:spPr>
              <a:xfrm>
                <a:off x="1636560" y="5076720"/>
                <a:ext cx="5524560" cy="625320"/>
              </a:xfrm>
              <a:prstGeom prst="rect">
                <a:avLst/>
              </a:prstGeom>
              <a:solidFill>
                <a:srgbClr val="ffffeb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627280" y="508932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57012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51296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45616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67796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0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022480" y="51480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50920" y="514800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881160" y="51480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09960" y="51480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39840" y="5148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60640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1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53520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2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464000" y="5662440"/>
                <a:ext cx="102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3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92440" y="5662440"/>
                <a:ext cx="102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4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332400" y="5067000"/>
                <a:ext cx="0" cy="627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9200" y="5205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306840" y="5662440"/>
                <a:ext cx="102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ch[5]</a:t>
                </a: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09200" y="-360"/>
            <a:ext cx="8001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数组和字符串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783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785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4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9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5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7" dur="1" fill="hold"/>
                                  <p:tgtEl>
                                    <p:spTgt spid="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324160" y="4229280"/>
            <a:ext cx="443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835200" y="526320"/>
            <a:ext cx="7337160" cy="5141160"/>
            <a:chOff x="835200" y="526320"/>
            <a:chExt cx="7337160" cy="5141160"/>
          </a:xfrm>
        </p:grpSpPr>
        <p:sp>
          <p:nvSpPr>
            <p:cNvPr id="790" name=""/>
            <p:cNvSpPr/>
            <p:nvPr/>
          </p:nvSpPr>
          <p:spPr>
            <a:xfrm>
              <a:off x="835200" y="1538640"/>
              <a:ext cx="7337160" cy="412884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ar diamond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[]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[5]={{'.', '.','*'},{'.','*','.','*'},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{'*', '.', '.', '.' ,'*'},{'.','*', '.','*'},{'.', '.','*'}}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86360" y="526320"/>
              <a:ext cx="2376360" cy="614520"/>
            </a:xfrm>
            <a:prstGeom prst="cloudCallout">
              <a:avLst>
                <a:gd name="adj1" fmla="val -47851"/>
                <a:gd name="adj2" fmla="val 10251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二维字符数组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857520" y="2791080"/>
              <a:ext cx="5809680" cy="2514600"/>
              <a:chOff x="857520" y="2791080"/>
              <a:chExt cx="5809680" cy="2514600"/>
            </a:xfrm>
          </p:grpSpPr>
          <p:grpSp>
            <p:nvGrpSpPr>
              <p:cNvPr id="793" name=""/>
              <p:cNvGrpSpPr/>
              <p:nvPr/>
            </p:nvGrpSpPr>
            <p:grpSpPr>
              <a:xfrm>
                <a:off x="2190600" y="2791080"/>
                <a:ext cx="4476600" cy="2514600"/>
                <a:chOff x="2190600" y="2791080"/>
                <a:chExt cx="4476600" cy="2514600"/>
              </a:xfrm>
            </p:grpSpPr>
            <p:grpSp>
              <p:nvGrpSpPr>
                <p:cNvPr id="794" name=""/>
                <p:cNvGrpSpPr/>
                <p:nvPr/>
              </p:nvGrpSpPr>
              <p:grpSpPr>
                <a:xfrm>
                  <a:off x="2207880" y="2791080"/>
                  <a:ext cx="4457880" cy="2514600"/>
                  <a:chOff x="2207880" y="2791080"/>
                  <a:chExt cx="4457880" cy="251460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2207880" y="2827080"/>
                    <a:ext cx="4457880" cy="2424240"/>
                  </a:xfrm>
                  <a:prstGeom prst="rect">
                    <a:avLst/>
                  </a:prstGeom>
                  <a:solidFill>
                    <a:srgbClr val="ffffeb"/>
                  </a:solidFill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046320" y="287604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989160" y="279108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932000" y="279108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875200" y="2791080"/>
                    <a:ext cx="0" cy="242964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2190600" y="2853000"/>
                  <a:ext cx="4438440" cy="457200"/>
                  <a:chOff x="2190600" y="2853000"/>
                  <a:chExt cx="4438440" cy="45720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2403360" y="285300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331800" y="285300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261680" y="285300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5190480" y="285300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6120720" y="285300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190600" y="3310200"/>
                    <a:ext cx="4438440" cy="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7" name=""/>
                <p:cNvSpPr/>
                <p:nvPr/>
              </p:nvSpPr>
              <p:spPr>
                <a:xfrm>
                  <a:off x="2228760" y="3792600"/>
                  <a:ext cx="44384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228760" y="4275360"/>
                  <a:ext cx="44384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228760" y="4757760"/>
                  <a:ext cx="44384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2190600" y="3324240"/>
                  <a:ext cx="4438440" cy="457200"/>
                  <a:chOff x="2190600" y="3324240"/>
                  <a:chExt cx="4438440" cy="4572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2403360" y="33242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3331440" y="33242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4262040" y="33242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5190480" y="33242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120720" y="332424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190600" y="3781440"/>
                    <a:ext cx="4438440" cy="0"/>
                  </a:xfrm>
                  <a:prstGeom prst="line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2190600" y="3795840"/>
                  <a:ext cx="4438440" cy="457200"/>
                  <a:chOff x="2190600" y="3795840"/>
                  <a:chExt cx="4438440" cy="45720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2403000" y="37958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331800" y="37958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262040" y="37958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5190840" y="37958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120720" y="37958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190600" y="4253040"/>
                    <a:ext cx="4438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2190600" y="4267440"/>
                  <a:ext cx="4438440" cy="457200"/>
                  <a:chOff x="2190600" y="4267440"/>
                  <a:chExt cx="4438440" cy="45720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2403360" y="42674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3331440" y="42674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4262040" y="426744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5190480" y="42674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120720" y="426744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190600" y="4724640"/>
                    <a:ext cx="4438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2190600" y="4738680"/>
                  <a:ext cx="4438440" cy="457200"/>
                  <a:chOff x="2190600" y="4738680"/>
                  <a:chExt cx="4438440" cy="45720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2403360" y="473868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3331800" y="4738680"/>
                    <a:ext cx="244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261680" y="473868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190480" y="473868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120720" y="4738680"/>
                    <a:ext cx="37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\0</a:t>
                    </a:r>
                    <a:endParaRPr b="0" lang="en-US" sz="20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190600" y="5195880"/>
                    <a:ext cx="4438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eb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8" name=""/>
              <p:cNvSpPr/>
              <p:nvPr/>
            </p:nvSpPr>
            <p:spPr>
              <a:xfrm>
                <a:off x="857520" y="286740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57520" y="335304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57520" y="383868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57520" y="432468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57520" y="481032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amond[4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987480" y="1026360"/>
            <a:ext cx="7337520" cy="5141160"/>
            <a:chOff x="987480" y="1026360"/>
            <a:chExt cx="7337520" cy="5141160"/>
          </a:xfrm>
        </p:grpSpPr>
        <p:sp>
          <p:nvSpPr>
            <p:cNvPr id="844" name=""/>
            <p:cNvSpPr/>
            <p:nvPr/>
          </p:nvSpPr>
          <p:spPr>
            <a:xfrm>
              <a:off x="987480" y="2038680"/>
              <a:ext cx="7337520" cy="412884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例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har fruit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[]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[7]={“Apple”,”Orange”,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                             ”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Grape”,”Pear”,”Peach”};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38640" y="1026360"/>
              <a:ext cx="2376360" cy="614520"/>
            </a:xfrm>
            <a:prstGeom prst="cloudCallout">
              <a:avLst>
                <a:gd name="adj1" fmla="val -47851"/>
                <a:gd name="adj2" fmla="val 102513"/>
              </a:avLst>
            </a:prstGeom>
            <a:solidFill>
              <a:srgbClr val="ffffeb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二维字符数组初始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284560" y="3289320"/>
              <a:ext cx="4533840" cy="2424240"/>
            </a:xfrm>
            <a:prstGeom prst="rect">
              <a:avLst/>
            </a:prstGeom>
            <a:solidFill>
              <a:srgbClr val="ffffeb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9404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88808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5300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828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81400" y="5189760"/>
              <a:ext cx="443844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24160" y="4737240"/>
              <a:ext cx="44388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2305080" y="3810240"/>
              <a:ext cx="4495320" cy="1414440"/>
              <a:chOff x="2305080" y="3810240"/>
              <a:chExt cx="4495320" cy="1414440"/>
            </a:xfrm>
          </p:grpSpPr>
          <p:sp>
            <p:nvSpPr>
              <p:cNvPr id="854" name=""/>
              <p:cNvSpPr/>
              <p:nvPr/>
            </p:nvSpPr>
            <p:spPr>
              <a:xfrm>
                <a:off x="2305080" y="3810240"/>
                <a:ext cx="44953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05080" y="4286520"/>
                <a:ext cx="44953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05080" y="4753080"/>
                <a:ext cx="449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05080" y="5224680"/>
                <a:ext cx="449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391760" y="3367080"/>
              <a:ext cx="918360" cy="2342160"/>
              <a:chOff x="1391760" y="3367080"/>
              <a:chExt cx="918360" cy="2342160"/>
            </a:xfrm>
          </p:grpSpPr>
          <p:sp>
            <p:nvSpPr>
              <p:cNvPr id="859" name=""/>
              <p:cNvSpPr/>
              <p:nvPr/>
            </p:nvSpPr>
            <p:spPr>
              <a:xfrm>
                <a:off x="1391760" y="336708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391760" y="385308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391760" y="433872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91760" y="482472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391760" y="5310360"/>
                <a:ext cx="91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fruit[4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355752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22800" y="3291120"/>
              <a:ext cx="0" cy="2430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2381400" y="3353040"/>
              <a:ext cx="4308480" cy="417960"/>
              <a:chOff x="2381400" y="3353040"/>
              <a:chExt cx="4308480" cy="417960"/>
            </a:xfrm>
          </p:grpSpPr>
          <p:sp>
            <p:nvSpPr>
              <p:cNvPr id="867" name=""/>
              <p:cNvSpPr/>
              <p:nvPr/>
            </p:nvSpPr>
            <p:spPr>
              <a:xfrm>
                <a:off x="2381400" y="335304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36960" y="335304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92880" y="335304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48440" y="335304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005440" y="335304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04120" y="337212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259680" y="335304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2381400" y="3811680"/>
              <a:ext cx="4308480" cy="417960"/>
              <a:chOff x="2381400" y="3811680"/>
              <a:chExt cx="4308480" cy="417960"/>
            </a:xfrm>
          </p:grpSpPr>
          <p:sp>
            <p:nvSpPr>
              <p:cNvPr id="875" name=""/>
              <p:cNvSpPr/>
              <p:nvPr/>
            </p:nvSpPr>
            <p:spPr>
              <a:xfrm>
                <a:off x="2381400" y="3811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036960" y="3811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92880" y="3811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348440" y="381168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005440" y="3811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604120" y="383076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259680" y="381168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2381400" y="4270680"/>
              <a:ext cx="4308480" cy="417960"/>
              <a:chOff x="2381400" y="4270680"/>
              <a:chExt cx="4308480" cy="417960"/>
            </a:xfrm>
          </p:grpSpPr>
          <p:sp>
            <p:nvSpPr>
              <p:cNvPr id="883" name=""/>
              <p:cNvSpPr/>
              <p:nvPr/>
            </p:nvSpPr>
            <p:spPr>
              <a:xfrm>
                <a:off x="2381400" y="4270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036960" y="4270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92880" y="42706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348440" y="427068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05440" y="42706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604120" y="428976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259680" y="427068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381400" y="4711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36960" y="4711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92520" y="4711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348080" y="471168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05440" y="47116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603760" y="473076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59680" y="4711680"/>
              <a:ext cx="4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\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2381400" y="5276880"/>
              <a:ext cx="4308480" cy="417960"/>
              <a:chOff x="2381400" y="5276880"/>
              <a:chExt cx="4308480" cy="417960"/>
            </a:xfrm>
          </p:grpSpPr>
          <p:sp>
            <p:nvSpPr>
              <p:cNvPr id="898" name=""/>
              <p:cNvSpPr/>
              <p:nvPr/>
            </p:nvSpPr>
            <p:spPr>
              <a:xfrm>
                <a:off x="2381400" y="52768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036960" y="52768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92880" y="5276880"/>
                <a:ext cx="37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48440" y="5276880"/>
                <a:ext cx="37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05440" y="5276880"/>
                <a:ext cx="37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604120" y="5295960"/>
                <a:ext cx="4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259680" y="5276880"/>
                <a:ext cx="4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197316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例子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3" dur="1" fill="hold"/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285840"/>
            <a:ext cx="86104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及其结束标志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无字符串变量，用字符数组处理字符串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结束标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：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\0’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71400" y="2193840"/>
            <a:ext cx="7485120" cy="2833200"/>
            <a:chOff x="671400" y="2193840"/>
            <a:chExt cx="7485120" cy="2833200"/>
          </a:xfrm>
        </p:grpSpPr>
        <p:grpSp>
          <p:nvGrpSpPr>
            <p:cNvPr id="908" name=""/>
            <p:cNvGrpSpPr/>
            <p:nvPr/>
          </p:nvGrpSpPr>
          <p:grpSpPr>
            <a:xfrm>
              <a:off x="671400" y="2193840"/>
              <a:ext cx="7485120" cy="2000160"/>
              <a:chOff x="671400" y="2193840"/>
              <a:chExt cx="7485120" cy="2000160"/>
            </a:xfrm>
          </p:grpSpPr>
          <p:sp>
            <p:nvSpPr>
              <p:cNvPr id="909" name=""/>
              <p:cNvSpPr/>
              <p:nvPr/>
            </p:nvSpPr>
            <p:spPr>
              <a:xfrm>
                <a:off x="671400" y="2193840"/>
                <a:ext cx="7485120" cy="2000160"/>
              </a:xfrm>
              <a:prstGeom prst="rect">
                <a:avLst/>
              </a:prstGeom>
              <a:solidFill>
                <a:srgbClr val="ffffeb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例  “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hello”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共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5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个字符，在内存占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6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个字节   字符串长度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隶书"/>
                  </a:rPr>
                  <a:t>5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910" name=""/>
              <p:cNvGrpSpPr/>
              <p:nvPr/>
            </p:nvGrpSpPr>
            <p:grpSpPr>
              <a:xfrm>
                <a:off x="2411280" y="2779560"/>
                <a:ext cx="3668400" cy="477720"/>
                <a:chOff x="2411280" y="2779560"/>
                <a:chExt cx="3668400" cy="4777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4174920" y="281772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011040" y="281592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592080" y="281592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792320" y="279720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409720" y="281592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411280" y="2779560"/>
                  <a:ext cx="3668400" cy="4777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宋体"/>
                    </a:rPr>
                    <a:t>h    e    l    l   o    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宋体"/>
                    </a:rPr>
                    <a:t>\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2425680" y="3428640"/>
                <a:ext cx="3668400" cy="477720"/>
                <a:chOff x="2425680" y="3428640"/>
                <a:chExt cx="3668400" cy="4777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4189320" y="346680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025440" y="346500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606480" y="346500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806720" y="3446280"/>
                  <a:ext cx="0" cy="4237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424120" y="3465000"/>
                  <a:ext cx="0" cy="4240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425680" y="3428640"/>
                  <a:ext cx="3668400" cy="4777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宋体"/>
                    </a:rPr>
                    <a:t>104  101 108  108  111   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4" name=""/>
            <p:cNvSpPr/>
            <p:nvPr/>
          </p:nvSpPr>
          <p:spPr>
            <a:xfrm>
              <a:off x="4862520" y="4460400"/>
              <a:ext cx="2891880" cy="566640"/>
            </a:xfrm>
            <a:prstGeom prst="wedgeEllipseCallout">
              <a:avLst>
                <a:gd name="adj1" fmla="val -39087"/>
                <a:gd name="adj2" fmla="val -139078"/>
              </a:avLst>
            </a:prstGeom>
            <a:solidFill>
              <a:srgbClr val="ffffeb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内存存放字符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SCII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码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14160" y="388440"/>
            <a:ext cx="8001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228600" y="609480"/>
            <a:ext cx="86104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逐个字符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I/O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： 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%c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整个字符串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I/O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：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%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0360" y="1928520"/>
            <a:ext cx="3524400" cy="33249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用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%c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char   str[5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i;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5;i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“%c”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[i]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(i=0;i&lt;5;i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“%c”, str[i]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15040" y="3609000"/>
            <a:ext cx="2710440" cy="22276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例  用</a:t>
            </a:r>
            <a:r>
              <a:rPr b="0" lang="en-US" sz="2400" spc="-1" strike="noStrike">
                <a:solidFill>
                  <a:srgbClr val="000066"/>
                </a:solidFill>
                <a:latin typeface="隶书"/>
                <a:ea typeface="隶书"/>
              </a:rPr>
              <a:t>%s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{    char   str[5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canf(“%s”, str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“%s”, str)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95200" y="1398240"/>
            <a:ext cx="3056760" cy="2024640"/>
          </a:xfrm>
          <a:prstGeom prst="cloudCallout">
            <a:avLst>
              <a:gd name="adj1" fmla="val -79250"/>
              <a:gd name="adj2" fmla="val 116185"/>
            </a:avLst>
          </a:prstGeom>
          <a:solidFill>
            <a:srgbClr val="ffffeb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用字符数组名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不要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输入串长度</a:t>
            </a: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数组维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遇空格或回车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自动加‘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\0’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069160" y="5258520"/>
            <a:ext cx="1867320" cy="1084680"/>
          </a:xfrm>
          <a:prstGeom prst="cloudCallout">
            <a:avLst>
              <a:gd name="adj1" fmla="val -100828"/>
              <a:gd name="adj2" fmla="val -26046"/>
            </a:avLst>
          </a:prstGeom>
          <a:solidFill>
            <a:srgbClr val="ffffeb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用字符数组名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遇‘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\0’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64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字符串的输入输出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881640" y="386640"/>
            <a:ext cx="3186000" cy="3506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 i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r a[5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canf("%s",a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(i=0;i&lt;5;i++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"%d,",a[i]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617480" y="4276800"/>
            <a:ext cx="4166280" cy="1313640"/>
          </a:xfrm>
          <a:prstGeom prst="rect">
            <a:avLst/>
          </a:prstGeom>
          <a:solidFill>
            <a:srgbClr val="000066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运行情况：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）若输入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hel ,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正常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）若输入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hell ,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正常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）若输入 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hello ,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用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%s </a:t>
            </a:r>
            <a:r>
              <a:rPr b="0" lang="en-US" sz="2000" spc="-1" strike="noStrike">
                <a:solidFill>
                  <a:srgbClr val="ffffeb"/>
                </a:solidFill>
                <a:latin typeface="Times New Roman"/>
              </a:rPr>
              <a:t>输出时，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会出现问题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616800" y="3728880"/>
            <a:ext cx="2009160" cy="1419480"/>
            <a:chOff x="6616800" y="3728880"/>
            <a:chExt cx="2009160" cy="1419480"/>
          </a:xfrm>
        </p:grpSpPr>
        <p:grpSp>
          <p:nvGrpSpPr>
            <p:cNvPr id="935" name=""/>
            <p:cNvGrpSpPr/>
            <p:nvPr/>
          </p:nvGrpSpPr>
          <p:grpSpPr>
            <a:xfrm>
              <a:off x="6616800" y="3728880"/>
              <a:ext cx="1993680" cy="419400"/>
              <a:chOff x="6616800" y="3728880"/>
              <a:chExt cx="1993680" cy="41940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6616800" y="3728880"/>
                <a:ext cx="1993680" cy="389160"/>
                <a:chOff x="6616800" y="3728880"/>
                <a:chExt cx="1993680" cy="38916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7812000" y="37605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022880" y="37591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16720" y="37591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231040" y="3743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616800" y="372888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2" name=""/>
              <p:cNvSpPr/>
              <p:nvPr/>
            </p:nvSpPr>
            <p:spPr>
              <a:xfrm>
                <a:off x="6715440" y="3749400"/>
                <a:ext cx="1521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 e     l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616800" y="4218120"/>
              <a:ext cx="2009160" cy="419040"/>
              <a:chOff x="6616800" y="4218120"/>
              <a:chExt cx="2009160" cy="41904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6616800" y="4218120"/>
                <a:ext cx="1993680" cy="388800"/>
                <a:chOff x="6616800" y="4218120"/>
                <a:chExt cx="1993680" cy="38880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7812000" y="424944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022880" y="42480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16720" y="42480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231040" y="423216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616800" y="4218120"/>
                  <a:ext cx="1993680" cy="38880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6714000" y="4238280"/>
                <a:ext cx="191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 e     l     l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6616800" y="4729320"/>
              <a:ext cx="1993680" cy="419040"/>
              <a:chOff x="6616800" y="4729320"/>
              <a:chExt cx="1993680" cy="41904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6616800" y="4729320"/>
                <a:ext cx="1993680" cy="388800"/>
                <a:chOff x="6616800" y="4729320"/>
                <a:chExt cx="1993680" cy="3888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7812000" y="476064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022880" y="47592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16720" y="475920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231040" y="4743360"/>
                  <a:ext cx="0" cy="34416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616800" y="4729320"/>
                  <a:ext cx="1993680" cy="38880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6714360" y="4749480"/>
                <a:ext cx="184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 e     l    l     o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9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52800" y="1824840"/>
            <a:ext cx="5446800" cy="1283400"/>
          </a:xfrm>
          <a:prstGeom prst="irregularSeal1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输入字符串长度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数组维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90720" y="649080"/>
            <a:ext cx="17305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例子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701640" y="48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08120" y="5646600"/>
            <a:ext cx="5976720" cy="1212840"/>
            <a:chOff x="1608120" y="5646600"/>
            <a:chExt cx="5976720" cy="1212840"/>
          </a:xfrm>
        </p:grpSpPr>
        <p:grpSp>
          <p:nvGrpSpPr>
            <p:cNvPr id="964" name=""/>
            <p:cNvGrpSpPr/>
            <p:nvPr/>
          </p:nvGrpSpPr>
          <p:grpSpPr>
            <a:xfrm>
              <a:off x="1611360" y="5652720"/>
              <a:ext cx="1993680" cy="419400"/>
              <a:chOff x="1611360" y="5652720"/>
              <a:chExt cx="1993680" cy="41940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611360" y="5652720"/>
                <a:ext cx="1993680" cy="389160"/>
                <a:chOff x="1611360" y="5652720"/>
                <a:chExt cx="1993680" cy="3891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2806560" y="568440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017440" y="56829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411280" y="56829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225600" y="56671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611360" y="565272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>
                <a:off x="1710360" y="5673240"/>
                <a:ext cx="157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H   o    w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1611360" y="6054480"/>
              <a:ext cx="1993680" cy="419400"/>
              <a:chOff x="1611360" y="6054480"/>
              <a:chExt cx="1993680" cy="41940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1611360" y="6054480"/>
                <a:ext cx="1993680" cy="389160"/>
                <a:chOff x="1611360" y="6054480"/>
                <a:chExt cx="1993680" cy="3891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2806560" y="608616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17440" y="60847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11280" y="60847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225600" y="60688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611360" y="605448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" name=""/>
              <p:cNvSpPr/>
              <p:nvPr/>
            </p:nvSpPr>
            <p:spPr>
              <a:xfrm>
                <a:off x="1710000" y="6075000"/>
                <a:ext cx="1521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    r     e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608120" y="6440040"/>
              <a:ext cx="1996920" cy="419400"/>
              <a:chOff x="1608120" y="6440040"/>
              <a:chExt cx="1996920" cy="41940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1608120" y="6440040"/>
                <a:ext cx="1993680" cy="389160"/>
                <a:chOff x="1608120" y="6440040"/>
                <a:chExt cx="1993680" cy="38916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2803320" y="647172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014200" y="6470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408040" y="6470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222360" y="64544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608120" y="644004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1705320" y="6460560"/>
                <a:ext cx="189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y    o    u    ?    \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3598920" y="5646600"/>
              <a:ext cx="1993680" cy="399960"/>
              <a:chOff x="3598920" y="5646600"/>
              <a:chExt cx="1993680" cy="39996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3598920" y="5646600"/>
                <a:ext cx="1993680" cy="389160"/>
                <a:chOff x="3598920" y="5646600"/>
                <a:chExt cx="1993680" cy="38916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794120" y="5678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0500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39884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213160" y="566100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598920" y="564660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3700440" y="56498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5591160" y="5646600"/>
              <a:ext cx="1993680" cy="399960"/>
              <a:chOff x="5591160" y="5646600"/>
              <a:chExt cx="1993680" cy="39996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5591160" y="5646600"/>
                <a:ext cx="1993680" cy="389160"/>
                <a:chOff x="5591160" y="5646600"/>
                <a:chExt cx="1993680" cy="38916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786360" y="567828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99724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391080" y="567684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205400" y="5661000"/>
                  <a:ext cx="0" cy="344520"/>
                </a:xfrm>
                <a:prstGeom prst="line">
                  <a:avLst/>
                </a:prstGeom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91160" y="5646600"/>
                  <a:ext cx="1993680" cy="389160"/>
                </a:xfrm>
                <a:prstGeom prst="rect">
                  <a:avLst/>
                </a:prstGeom>
                <a:noFill/>
                <a:ln w="9360">
                  <a:solidFill>
                    <a:srgbClr val="ffff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ffffeb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3" name=""/>
              <p:cNvSpPr/>
              <p:nvPr/>
            </p:nvSpPr>
            <p:spPr>
              <a:xfrm>
                <a:off x="5692680" y="56498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4" name=""/>
          <p:cNvSpPr/>
          <p:nvPr/>
        </p:nvSpPr>
        <p:spPr>
          <a:xfrm>
            <a:off x="499680" y="1146960"/>
            <a:ext cx="5848560" cy="3506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(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{ char a[15],b[5],c[5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canf("%s%s%s",a,b,c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"a=%s\nb=%s\nc=%s\n",a,b,c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canf("%s",a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"a=%s\n",a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983560" y="247680"/>
            <a:ext cx="266472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运行情况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入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How  are  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出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a=How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b=are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c=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入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How  are  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出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a=How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097160" y="3188160"/>
            <a:ext cx="5446800" cy="2264760"/>
          </a:xfrm>
          <a:prstGeom prst="irregularSeal1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scanf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中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%s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输入时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遇空格或回车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7600" y="4610160"/>
            <a:ext cx="26647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运行情况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输入：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How  are  you?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965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字符串输入举例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1010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1012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7080" y="0"/>
            <a:ext cx="777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168640"/>
            <a:ext cx="8574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一维数组的定义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e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定义方式：   </a:t>
            </a:r>
            <a:r>
              <a:rPr b="0" lang="en-US" sz="2400" spc="-1" strike="noStrike">
                <a:solidFill>
                  <a:srgbClr val="ffff99"/>
                </a:solidFill>
                <a:latin typeface="隶书"/>
                <a:ea typeface="隶书"/>
              </a:rPr>
              <a:t>数据类型  数组名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[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常量</a:t>
            </a:r>
            <a:r>
              <a:rPr b="0" lang="en-US" sz="2400" spc="-1" strike="noStrike">
                <a:solidFill>
                  <a:srgbClr val="ffff99"/>
                </a:solidFill>
                <a:latin typeface="隶书"/>
                <a:ea typeface="隶书"/>
              </a:rPr>
              <a:t>表达式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]</a:t>
            </a:r>
            <a:r>
              <a:rPr b="0" lang="en-US" sz="2400" spc="-1" strike="noStrike">
                <a:solidFill>
                  <a:srgbClr val="ffff99"/>
                </a:solidFill>
                <a:latin typeface="隶书"/>
                <a:ea typeface="隶书"/>
              </a:rPr>
              <a:t>；</a:t>
            </a: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08240" y="3515040"/>
            <a:ext cx="943200" cy="399240"/>
          </a:xfrm>
          <a:prstGeom prst="wedgeRectCallout">
            <a:avLst>
              <a:gd name="adj1" fmla="val 35805"/>
              <a:gd name="adj2" fmla="val -166754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合法标识符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45840" y="3542040"/>
            <a:ext cx="1193040" cy="704160"/>
          </a:xfrm>
          <a:prstGeom prst="wedgeRectCallout">
            <a:avLst>
              <a:gd name="adj1" fmla="val -70268"/>
              <a:gd name="adj2" fmla="val -126694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表示元素个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下标从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开始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04520" y="847800"/>
            <a:ext cx="1500840" cy="1618920"/>
          </a:xfrm>
          <a:prstGeom prst="wedgeRectCallout">
            <a:avLst>
              <a:gd name="adj1" fmla="val -57453"/>
              <a:gd name="adj2" fmla="val 71518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[ ]   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数组运算符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单目运算符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左结合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不能用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 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880" y="3164040"/>
            <a:ext cx="8574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隶书"/>
                <a:ea typeface="隶书"/>
              </a:rPr>
              <a:t>例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宋体"/>
              </a:rPr>
              <a:t>int a[6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38200" y="3827880"/>
            <a:ext cx="2624040" cy="2411640"/>
            <a:chOff x="2338200" y="3827880"/>
            <a:chExt cx="2624040" cy="2411640"/>
          </a:xfrm>
        </p:grpSpPr>
        <p:grpSp>
          <p:nvGrpSpPr>
            <p:cNvPr id="100" name=""/>
            <p:cNvGrpSpPr/>
            <p:nvPr/>
          </p:nvGrpSpPr>
          <p:grpSpPr>
            <a:xfrm>
              <a:off x="3161880" y="3935520"/>
              <a:ext cx="1800360" cy="2304000"/>
              <a:chOff x="3161880" y="3935520"/>
              <a:chExt cx="1800360" cy="2304000"/>
            </a:xfrm>
          </p:grpSpPr>
          <p:sp>
            <p:nvSpPr>
              <p:cNvPr id="101" name=""/>
              <p:cNvSpPr/>
              <p:nvPr/>
            </p:nvSpPr>
            <p:spPr>
              <a:xfrm>
                <a:off x="3386520" y="3935520"/>
                <a:ext cx="1564560" cy="2286000"/>
              </a:xfrm>
              <a:prstGeom prst="rect">
                <a:avLst/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72840" y="4324320"/>
                <a:ext cx="155088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71440" y="3935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08840" y="4670640"/>
                <a:ext cx="155088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375360" y="5062680"/>
                <a:ext cx="156456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97680" y="5459400"/>
                <a:ext cx="156456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174120" y="3975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74120" y="4321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74120" y="5459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75360" y="5823000"/>
                <a:ext cx="1564560" cy="0"/>
              </a:xfrm>
              <a:prstGeom prst="line">
                <a:avLst/>
              </a:prstGeom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74120" y="5840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71440" y="431640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71440" y="46976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71440" y="5078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3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71440" y="545940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4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71440" y="58406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5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61880" y="4621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61880" y="5078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610000" y="4095720"/>
              <a:ext cx="666720" cy="0"/>
            </a:xfrm>
            <a:prstGeom prst="line">
              <a:avLst/>
            </a:prstGeom>
            <a:ln w="38160">
              <a:solidFill>
                <a:srgbClr val="ffff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38200" y="382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b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6720" y="4897440"/>
            <a:ext cx="3404160" cy="1009080"/>
          </a:xfrm>
          <a:prstGeom prst="wedgeRectCallout">
            <a:avLst>
              <a:gd name="adj1" fmla="val -63481"/>
              <a:gd name="adj2" fmla="val -35379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编译时分配连续内存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内存字节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数组维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zeof(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元素数据类型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0480" y="5343840"/>
            <a:ext cx="1857600" cy="704160"/>
          </a:xfrm>
          <a:prstGeom prst="wedgeRectCallout">
            <a:avLst>
              <a:gd name="adj1" fmla="val 42888"/>
              <a:gd name="adj2" fmla="val -207842"/>
            </a:avLst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数组名表示内存首地址，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是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地址常量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1080" y="1217160"/>
            <a:ext cx="3914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eb"/>
                </a:solidFill>
                <a:latin typeface="隶书"/>
                <a:ea typeface="隶书"/>
              </a:rPr>
              <a:t>一维数组</a:t>
            </a:r>
            <a:br>
              <a:rPr sz="3600"/>
            </a:b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848720" y="6058080"/>
            <a:ext cx="1047600" cy="514080"/>
            <a:chOff x="7848720" y="6058080"/>
            <a:chExt cx="1047600" cy="514080"/>
          </a:xfrm>
        </p:grpSpPr>
        <p:sp>
          <p:nvSpPr>
            <p:cNvPr id="125" name="">
              <a:hlinkClick r:id="rId1" action="ppaction://hlinksldjump"/>
            </p:cNvPr>
            <p:cNvSpPr/>
            <p:nvPr/>
          </p:nvSpPr>
          <p:spPr>
            <a:xfrm>
              <a:off x="7848720" y="605808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991640" y="6105600"/>
              <a:ext cx="714240" cy="380880"/>
              <a:chOff x="7991640" y="6105600"/>
              <a:chExt cx="714240" cy="380880"/>
            </a:xfrm>
          </p:grpSpPr>
          <p:sp>
            <p:nvSpPr>
              <p:cNvPr id="127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001000" y="609588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42040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59176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2" name="CAMERA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58800"/>
            <a:ext cx="5105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包含在头文件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string.h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225520" y="1380240"/>
            <a:ext cx="383832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输出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put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pu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向显示器输出字符串（输出完，换行）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字符数组必须以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结束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7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02440" y="3236040"/>
            <a:ext cx="4935600" cy="1922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输入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get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ge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从键盘输入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回车结束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字符串放入字符数组中，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并自动加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输入串长度应小于字符数组维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64920" y="2904480"/>
            <a:ext cx="4859280" cy="393336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#include &lt;stdio.h&gt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( 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{     char string[80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intf(“Input a string:”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ets(string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uts(string)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输入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 are  you?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输出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ow  are  you ?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95560" y="6229440"/>
            <a:ext cx="476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01360" y="2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常用的字符串处理函数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1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369720" y="301680"/>
            <a:ext cx="8106120" cy="26542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连接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at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strc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把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连到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后面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首地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必须足够大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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连接前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两串均以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结束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连接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取消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,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新串最后加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757160" y="3236760"/>
            <a:ext cx="4240440" cy="26542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拷贝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py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strcp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将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拷贝到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中去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的首地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必须足够大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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拷贝时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一同拷贝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不能使用赋值语句为一个字符数组赋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64680" y="5203440"/>
            <a:ext cx="4953600" cy="137376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例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r str1[20],str2[20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r1={“Hello!”};               (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r2=str1;                          (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095560" y="6229440"/>
            <a:ext cx="476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203720" y="1282320"/>
            <a:ext cx="46036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常用的字符串处理函数（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）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1281600" y="318240"/>
            <a:ext cx="7012440" cy="33858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比较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mp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mp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比较两个字符串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比较规则：对两串从左向右逐个字符比较（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ASCI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码），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直到遇到不同字符或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为止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型整数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a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若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 返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负整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b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若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&gt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 返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正整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c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若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=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， 返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零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说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字符串比较不能用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==”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必须用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cmp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8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49600" y="3882240"/>
            <a:ext cx="414144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串长度函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le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格式：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strlen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字符数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功能：计算字符串长度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返值：返回字符串实际长度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不包括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\0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在内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31200" y="5220360"/>
            <a:ext cx="4492800" cy="143532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例  对于以下字符串，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trlen(s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的值为：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 s[10]={‘A’,‘\0’,‘B’,‘C’,‘\0’,‘D’}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 s[ ]=“\t\v\\\0will\n”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 s[ ]=“\x69\082\n”; 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24520" y="627696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   3   1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23800" y="5202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常用的字符串处理函数（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）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2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>
            <a:hlinkClick r:id="rId1"/>
          </p:cNvPr>
          <p:cNvSpPr/>
          <p:nvPr/>
        </p:nvSpPr>
        <p:spPr>
          <a:xfrm>
            <a:off x="647640" y="61722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878760" y="231840"/>
            <a:ext cx="6927480" cy="5369040"/>
            <a:chOff x="878760" y="231840"/>
            <a:chExt cx="6927480" cy="5369040"/>
          </a:xfrm>
        </p:grpSpPr>
        <p:sp>
          <p:nvSpPr>
            <p:cNvPr id="1035" name=""/>
            <p:cNvSpPr/>
            <p:nvPr/>
          </p:nvSpPr>
          <p:spPr>
            <a:xfrm>
              <a:off x="878760" y="933120"/>
              <a:ext cx="6927480" cy="466776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#include &lt;string.h&gt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#include &lt;stdio.h&gt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main(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{   char str1[] = ”Hello!", str2[] = ”How are you?”,str[20]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int len1,len2,len3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ff"/>
                  </a:solidFill>
                  <a:latin typeface="Verdana"/>
                </a:rPr>
                <a:t>len1=strlen(str1);       len2=strlen(str2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if(strcmp(str1, str2)&gt;0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{   </a:t>
              </a:r>
              <a:r>
                <a:rPr b="0" lang="en-US" sz="2000" spc="-1" strike="noStrike">
                  <a:solidFill>
                    <a:srgbClr val="669900"/>
                  </a:solidFill>
                  <a:latin typeface="Verdana"/>
                </a:rPr>
                <a:t>strcpy(str,str1);      strcat(str,str2);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}      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else  if (strcmp(str1, str2)&lt;0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{   </a:t>
              </a:r>
              <a:r>
                <a:rPr b="0" lang="en-US" sz="2000" spc="-1" strike="noStrike">
                  <a:solidFill>
                    <a:srgbClr val="669900"/>
                  </a:solidFill>
                  <a:latin typeface="Verdana"/>
                </a:rPr>
                <a:t>strcpy(str,str2);      strcat(str,str1);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}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else    strcpy(str,str1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len3=strlen(str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puts(str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printf(”Len1=%d,Len2=%d,Len3=%d\n”,len1,len2,len3);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810400" y="231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4636080" y="5354640"/>
            <a:ext cx="3490920" cy="825480"/>
          </a:xfrm>
          <a:prstGeom prst="rect">
            <a:avLst/>
          </a:prstGeom>
          <a:solidFill>
            <a:srgbClr val="000066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 are  you?Hello!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1=6,Len2=12,Len3=18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87800" y="649440"/>
            <a:ext cx="37828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例  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strcmp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strlen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举例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438120" y="28584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892880" y="95868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输入一行字符，统计其中有多少个单词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17960" y="1486080"/>
            <a:ext cx="3869640" cy="4232160"/>
            <a:chOff x="417960" y="1486080"/>
            <a:chExt cx="3869640" cy="4232160"/>
          </a:xfrm>
        </p:grpSpPr>
        <p:sp>
          <p:nvSpPr>
            <p:cNvPr id="1042" name=""/>
            <p:cNvSpPr/>
            <p:nvPr/>
          </p:nvSpPr>
          <p:spPr>
            <a:xfrm>
              <a:off x="439560" y="1486080"/>
              <a:ext cx="3808440" cy="4232160"/>
            </a:xfrm>
            <a:prstGeom prst="rect">
              <a:avLst/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9560" y="1979640"/>
              <a:ext cx="378936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9560" y="2421000"/>
              <a:ext cx="37908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6960" y="2881080"/>
              <a:ext cx="342108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960" y="2879640"/>
              <a:ext cx="0" cy="23284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04600" y="3408120"/>
              <a:ext cx="3441600" cy="187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86960" y="2879640"/>
              <a:ext cx="1167120" cy="56628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1935000" y="2841120"/>
              <a:ext cx="2352600" cy="6044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4600" y="3446280"/>
              <a:ext cx="0" cy="125244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36440" y="3917880"/>
              <a:ext cx="229392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36440" y="3389400"/>
              <a:ext cx="1446120" cy="5454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3382560" y="3389040"/>
              <a:ext cx="847800" cy="52812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47640" y="3917880"/>
              <a:ext cx="0" cy="72360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9680" y="4697280"/>
              <a:ext cx="34974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8640" y="5189400"/>
              <a:ext cx="3790800" cy="0"/>
            </a:xfrm>
            <a:prstGeom prst="line">
              <a:avLst/>
            </a:prstGeom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43840" y="1550880"/>
              <a:ext cx="201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输入一字符串给 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string 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0400" y="2008080"/>
              <a:ext cx="24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i=0    num=0   word=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7960" y="2482920"/>
              <a:ext cx="241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当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((c=string[i])!=‘\0’)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97960" y="288612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c=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空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88840" y="3031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012760" y="351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13080" y="3035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830400" y="3533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假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000800" y="38433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word=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08720" y="3944880"/>
              <a:ext cx="150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word=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num=num+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24360" y="474192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i=i+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61480" y="5214960"/>
              <a:ext cx="11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输出：</a:t>
              </a: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96120" y="340020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word==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070" name="">
            <a:hlinkClick r:id="rId1"/>
          </p:cNvPr>
          <p:cNvSpPr/>
          <p:nvPr/>
        </p:nvSpPr>
        <p:spPr>
          <a:xfrm>
            <a:off x="6858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78200" y="1517400"/>
            <a:ext cx="3896280" cy="4057920"/>
          </a:xfrm>
          <a:prstGeom prst="rect">
            <a:avLst/>
          </a:prstGeom>
          <a:solidFill>
            <a:srgbClr val="ffffeb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{   char string[81]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nt i,</a:t>
            </a: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num=0,word=0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r c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ets(string)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for(i=0;(c=string[i])!='\0';i++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if(c==' ')  word=0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c68dff"/>
                </a:solidFill>
                <a:latin typeface="Verdana"/>
              </a:rPr>
              <a:t>else if(word==0)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8d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c68dff"/>
                </a:solidFill>
                <a:latin typeface="Verdana"/>
              </a:rPr>
              <a:t>{   word=1;  num++;   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intf("There are %d words  \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n the line\n",num);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01360" y="294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应用举例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"/>
          <p:cNvGrpSpPr/>
          <p:nvPr/>
        </p:nvGrpSpPr>
        <p:grpSpPr>
          <a:xfrm>
            <a:off x="448560" y="361800"/>
            <a:ext cx="7525800" cy="1624320"/>
            <a:chOff x="448560" y="361800"/>
            <a:chExt cx="7525800" cy="1624320"/>
          </a:xfrm>
        </p:grpSpPr>
        <p:sp>
          <p:nvSpPr>
            <p:cNvPr id="1074" name=""/>
            <p:cNvSpPr/>
            <p:nvPr/>
          </p:nvSpPr>
          <p:spPr>
            <a:xfrm>
              <a:off x="448560" y="977760"/>
              <a:ext cx="136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当前字符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空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1954080" y="545760"/>
              <a:ext cx="1023840" cy="635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54080" y="1180800"/>
              <a:ext cx="636480" cy="317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977920" y="545760"/>
              <a:ext cx="404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43080" y="572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108160" y="1279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86120" y="361800"/>
              <a:ext cx="329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未出现新单词，使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=0,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不累加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587320" y="1515960"/>
              <a:ext cx="2653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852640" y="1215720"/>
              <a:ext cx="299880" cy="300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52640" y="1515960"/>
              <a:ext cx="280800" cy="28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35240" y="1215720"/>
              <a:ext cx="1047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135240" y="1798560"/>
              <a:ext cx="1047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77440" y="958680"/>
              <a:ext cx="261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前一字符为空格</a:t>
              </a:r>
              <a:r>
                <a:rPr b="0" lang="en-US" sz="2000" spc="-1" strike="noStrike">
                  <a:solidFill>
                    <a:srgbClr val="ffff99"/>
                  </a:solidFill>
                  <a:latin typeface="Times New Roman"/>
                </a:rPr>
                <a:t>(word=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=0),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新单词出现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=1,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加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383360" y="1587240"/>
              <a:ext cx="35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前一字符为非空格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(word==1),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未出现新单词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,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不变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722680" y="3502080"/>
            <a:ext cx="352080" cy="2691360"/>
            <a:chOff x="2722680" y="3502080"/>
            <a:chExt cx="352080" cy="2691360"/>
          </a:xfrm>
        </p:grpSpPr>
        <p:sp>
          <p:nvSpPr>
            <p:cNvPr id="1089" name=""/>
            <p:cNvSpPr/>
            <p:nvPr/>
          </p:nvSpPr>
          <p:spPr>
            <a:xfrm>
              <a:off x="27226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24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417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7266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7266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3198960" y="3502080"/>
            <a:ext cx="352080" cy="2691360"/>
            <a:chOff x="3198960" y="3502080"/>
            <a:chExt cx="352080" cy="2691360"/>
          </a:xfrm>
        </p:grpSpPr>
        <p:sp>
          <p:nvSpPr>
            <p:cNvPr id="1095" name=""/>
            <p:cNvSpPr/>
            <p:nvPr/>
          </p:nvSpPr>
          <p:spPr>
            <a:xfrm>
              <a:off x="319896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1876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1804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0292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20292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691080" y="3502080"/>
            <a:ext cx="352080" cy="2691360"/>
            <a:chOff x="3691080" y="3502080"/>
            <a:chExt cx="352080" cy="2691360"/>
          </a:xfrm>
        </p:grpSpPr>
        <p:sp>
          <p:nvSpPr>
            <p:cNvPr id="1101" name=""/>
            <p:cNvSpPr/>
            <p:nvPr/>
          </p:nvSpPr>
          <p:spPr>
            <a:xfrm>
              <a:off x="36910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108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101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950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950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133880" y="3502080"/>
            <a:ext cx="352080" cy="2691360"/>
            <a:chOff x="4133880" y="3502080"/>
            <a:chExt cx="352080" cy="2691360"/>
          </a:xfrm>
        </p:grpSpPr>
        <p:sp>
          <p:nvSpPr>
            <p:cNvPr id="1107" name=""/>
            <p:cNvSpPr/>
            <p:nvPr/>
          </p:nvSpPr>
          <p:spPr>
            <a:xfrm>
              <a:off x="41338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536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1529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1378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1378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4591080" y="3502080"/>
            <a:ext cx="352080" cy="2691360"/>
            <a:chOff x="4591080" y="3502080"/>
            <a:chExt cx="352080" cy="2691360"/>
          </a:xfrm>
        </p:grpSpPr>
        <p:sp>
          <p:nvSpPr>
            <p:cNvPr id="1113" name=""/>
            <p:cNvSpPr/>
            <p:nvPr/>
          </p:nvSpPr>
          <p:spPr>
            <a:xfrm>
              <a:off x="459108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1088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1016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9504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9504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5069160" y="3502080"/>
            <a:ext cx="352080" cy="2691360"/>
            <a:chOff x="5069160" y="3502080"/>
            <a:chExt cx="352080" cy="2691360"/>
          </a:xfrm>
        </p:grpSpPr>
        <p:sp>
          <p:nvSpPr>
            <p:cNvPr id="1119" name=""/>
            <p:cNvSpPr/>
            <p:nvPr/>
          </p:nvSpPr>
          <p:spPr>
            <a:xfrm>
              <a:off x="506916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8896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8824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07312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07312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5527800" y="3502080"/>
            <a:ext cx="352080" cy="2691360"/>
            <a:chOff x="5527800" y="3502080"/>
            <a:chExt cx="352080" cy="2691360"/>
          </a:xfrm>
        </p:grpSpPr>
        <p:sp>
          <p:nvSpPr>
            <p:cNvPr id="1125" name=""/>
            <p:cNvSpPr/>
            <p:nvPr/>
          </p:nvSpPr>
          <p:spPr>
            <a:xfrm>
              <a:off x="552780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54760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54688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3176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3176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6019920" y="3502080"/>
            <a:ext cx="352080" cy="2691360"/>
            <a:chOff x="6019920" y="3502080"/>
            <a:chExt cx="352080" cy="2691360"/>
          </a:xfrm>
        </p:grpSpPr>
        <p:sp>
          <p:nvSpPr>
            <p:cNvPr id="1131" name=""/>
            <p:cNvSpPr/>
            <p:nvPr/>
          </p:nvSpPr>
          <p:spPr>
            <a:xfrm>
              <a:off x="601992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3972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3900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是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2388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02388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6497640" y="3502080"/>
            <a:ext cx="352080" cy="2691360"/>
            <a:chOff x="6497640" y="3502080"/>
            <a:chExt cx="352080" cy="2691360"/>
          </a:xfrm>
        </p:grpSpPr>
        <p:sp>
          <p:nvSpPr>
            <p:cNvPr id="1137" name=""/>
            <p:cNvSpPr/>
            <p:nvPr/>
          </p:nvSpPr>
          <p:spPr>
            <a:xfrm>
              <a:off x="649764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17440" y="408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516720" y="468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501600" y="5266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501600" y="579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967800" y="3511440"/>
            <a:ext cx="352080" cy="2691360"/>
            <a:chOff x="6967800" y="3511440"/>
            <a:chExt cx="352080" cy="2691360"/>
          </a:xfrm>
        </p:grpSpPr>
        <p:sp>
          <p:nvSpPr>
            <p:cNvPr id="1143" name=""/>
            <p:cNvSpPr/>
            <p:nvPr/>
          </p:nvSpPr>
          <p:spPr>
            <a:xfrm>
              <a:off x="6967800" y="3511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987600" y="409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986880" y="4692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71760" y="527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71760" y="5803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409160" y="3514680"/>
            <a:ext cx="352080" cy="2691360"/>
            <a:chOff x="7409160" y="3514680"/>
            <a:chExt cx="352080" cy="2691360"/>
          </a:xfrm>
        </p:grpSpPr>
        <p:sp>
          <p:nvSpPr>
            <p:cNvPr id="1149" name=""/>
            <p:cNvSpPr/>
            <p:nvPr/>
          </p:nvSpPr>
          <p:spPr>
            <a:xfrm>
              <a:off x="7409160" y="3514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28960" y="4095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28240" y="469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未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13120" y="527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413120" y="5807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987480" y="2340000"/>
            <a:ext cx="7850160" cy="4221000"/>
            <a:chOff x="987480" y="2340000"/>
            <a:chExt cx="7850160" cy="4221000"/>
          </a:xfrm>
        </p:grpSpPr>
        <p:sp>
          <p:nvSpPr>
            <p:cNvPr id="1155" name=""/>
            <p:cNvSpPr/>
            <p:nvPr/>
          </p:nvSpPr>
          <p:spPr>
            <a:xfrm>
              <a:off x="361152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511640" y="234000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例 输入：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m </a:t>
              </a:r>
              <a:r>
                <a:rPr b="0" lang="en-US" sz="24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oy.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87480" y="2840040"/>
              <a:ext cx="6757920" cy="345744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987480" y="3386160"/>
              <a:ext cx="674208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987480" y="3970440"/>
              <a:ext cx="674208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987480" y="4554000"/>
              <a:ext cx="674208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987480" y="5138280"/>
              <a:ext cx="674208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987480" y="5724000"/>
              <a:ext cx="674208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8128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14640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7664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54176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0688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47200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3712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0224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6736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32840" y="2840040"/>
              <a:ext cx="0" cy="3438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82760" y="29192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当前字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65480" y="3449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是否空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96280" y="404820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原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90600" y="46306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新单词开始否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13920" y="5195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ord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新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269720" y="582948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num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值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32800" y="292752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660200" y="292752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579280" y="2909880"/>
              <a:ext cx="2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Wingdings 3"/>
                  <a:ea typeface="Wingdings 3"/>
                </a:rPr>
                <a:t>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83880" y="29541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21320" y="29559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06520" y="29368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95800" y="29718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30360" y="2938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71720" y="293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65280" y="295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78640" y="29732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90" name="">
              <a:hlinkClick r:id="" action="ppaction://hlinkshowjump?jump=previousslide"/>
            </p:cNvPr>
            <p:cNvSpPr/>
            <p:nvPr/>
          </p:nvSpPr>
          <p:spPr>
            <a:xfrm>
              <a:off x="8379000" y="6208560"/>
              <a:ext cx="458640" cy="352440"/>
            </a:xfrm>
            <a:custGeom>
              <a:avLst/>
              <a:gdLst>
                <a:gd name="textAreaLeft" fmla="*/ 75960 w 458640"/>
                <a:gd name="textAreaRight" fmla="*/ 382680 w 458640"/>
                <a:gd name="textAreaTop" fmla="*/ 75960 h 352440"/>
                <a:gd name="textAreaBottom" fmla="*/ 276480 h 352440"/>
              </a:gdLst>
              <a:ahLst/>
              <a:rect l="textAreaLeft" t="textAreaTop" r="textAreaRight" b="textAreaBottom"/>
              <a:pathLst>
                <a:path w="28102" h="21600">
                  <a:moveTo>
                    <a:pt x="0" y="0"/>
                  </a:moveTo>
                  <a:lnTo>
                    <a:pt x="28102" y="0"/>
                  </a:lnTo>
                  <a:lnTo>
                    <a:pt x="28102" y="21600"/>
                  </a:lnTo>
                  <a:lnTo>
                    <a:pt x="0" y="21600"/>
                  </a:lnTo>
                  <a:close/>
                </a:path>
                <a:path fill="lightenLess" w="28102" h="21600">
                  <a:moveTo>
                    <a:pt x="0" y="0"/>
                  </a:moveTo>
                  <a:lnTo>
                    <a:pt x="28102" y="0"/>
                  </a:lnTo>
                  <a:lnTo>
                    <a:pt x="23432" y="4670"/>
                  </a:lnTo>
                  <a:lnTo>
                    <a:pt x="4670" y="4670"/>
                  </a:lnTo>
                  <a:close/>
                </a:path>
                <a:path fill="darken" w="28102" h="21600">
                  <a:moveTo>
                    <a:pt x="28102" y="0"/>
                  </a:moveTo>
                  <a:lnTo>
                    <a:pt x="28102" y="21600"/>
                  </a:lnTo>
                  <a:lnTo>
                    <a:pt x="23432" y="16930"/>
                  </a:lnTo>
                  <a:lnTo>
                    <a:pt x="23432" y="4670"/>
                  </a:lnTo>
                  <a:close/>
                </a:path>
                <a:path fill="darkenLess" w="28102" h="21600">
                  <a:moveTo>
                    <a:pt x="28102" y="21600"/>
                  </a:moveTo>
                  <a:lnTo>
                    <a:pt x="0" y="21600"/>
                  </a:lnTo>
                  <a:lnTo>
                    <a:pt x="4670" y="16930"/>
                  </a:lnTo>
                  <a:lnTo>
                    <a:pt x="23432" y="16930"/>
                  </a:lnTo>
                  <a:close/>
                </a:path>
                <a:path fill="lighten" w="28102" h="21600">
                  <a:moveTo>
                    <a:pt x="0" y="21600"/>
                  </a:moveTo>
                  <a:lnTo>
                    <a:pt x="0" y="0"/>
                  </a:lnTo>
                  <a:lnTo>
                    <a:pt x="4670" y="4670"/>
                  </a:lnTo>
                  <a:lnTo>
                    <a:pt x="4670" y="16930"/>
                  </a:lnTo>
                  <a:close/>
                </a:path>
                <a:path fill="darken" w="28102" h="21600">
                  <a:moveTo>
                    <a:pt x="9482" y="10800"/>
                  </a:moveTo>
                  <a:lnTo>
                    <a:pt x="18620" y="6231"/>
                  </a:lnTo>
                  <a:lnTo>
                    <a:pt x="18620" y="15369"/>
                  </a:lnTo>
                  <a:close/>
                </a:path>
              </a:pathLst>
            </a:cu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216072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例子图解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1193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1195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"/>
          <p:cNvGrpSpPr/>
          <p:nvPr/>
        </p:nvGrpSpPr>
        <p:grpSpPr>
          <a:xfrm>
            <a:off x="709560" y="458640"/>
            <a:ext cx="6276960" cy="956880"/>
            <a:chOff x="709560" y="458640"/>
            <a:chExt cx="6276960" cy="956880"/>
          </a:xfrm>
        </p:grpSpPr>
        <p:sp>
          <p:nvSpPr>
            <p:cNvPr id="1199" name=""/>
            <p:cNvSpPr/>
            <p:nvPr/>
          </p:nvSpPr>
          <p:spPr>
            <a:xfrm>
              <a:off x="709560" y="458640"/>
              <a:ext cx="1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85880" y="955800"/>
              <a:ext cx="62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eb"/>
                  </a:solidFill>
                  <a:latin typeface="Times New Roman"/>
                </a:rPr>
                <a:t>92     85    68   75   54      88   98     45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     61     79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7184880" y="1504800"/>
            <a:ext cx="1200240" cy="3943440"/>
            <a:chOff x="7184880" y="1504800"/>
            <a:chExt cx="1200240" cy="3943440"/>
          </a:xfrm>
        </p:grpSpPr>
        <p:sp>
          <p:nvSpPr>
            <p:cNvPr id="1202" name=""/>
            <p:cNvSpPr/>
            <p:nvPr/>
          </p:nvSpPr>
          <p:spPr>
            <a:xfrm>
              <a:off x="7203960" y="1504800"/>
              <a:ext cx="1181160" cy="39434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84880" y="19238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84880" y="23144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84880" y="27050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84880" y="30956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4880" y="348624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4880" y="38764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4880" y="42670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84880" y="46576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84880" y="5048280"/>
              <a:ext cx="1181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587360" y="1519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92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587360" y="19098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8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87360" y="2298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6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7360" y="3078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54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87360" y="3467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8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87360" y="3855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9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87360" y="42465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87360" y="2687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7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87360" y="46353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61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87360" y="5024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79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6616800" y="1481040"/>
            <a:ext cx="592200" cy="3961080"/>
            <a:chOff x="6616800" y="1481040"/>
            <a:chExt cx="592200" cy="3961080"/>
          </a:xfrm>
        </p:grpSpPr>
        <p:sp>
          <p:nvSpPr>
            <p:cNvPr id="1223" name=""/>
            <p:cNvSpPr/>
            <p:nvPr/>
          </p:nvSpPr>
          <p:spPr>
            <a:xfrm>
              <a:off x="6616800" y="14810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0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616800" y="18777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1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16800" y="22730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2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16800" y="266832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3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16800" y="306540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4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16800" y="34606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5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16800" y="38559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6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16800" y="42526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7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16800" y="46479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8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16800" y="50432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a[9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8366040" y="1317600"/>
            <a:ext cx="778320" cy="459720"/>
            <a:chOff x="8366040" y="1317600"/>
            <a:chExt cx="778320" cy="459720"/>
          </a:xfrm>
        </p:grpSpPr>
        <p:sp>
          <p:nvSpPr>
            <p:cNvPr id="1234" name=""/>
            <p:cNvSpPr/>
            <p:nvPr/>
          </p:nvSpPr>
          <p:spPr>
            <a:xfrm flipH="1">
              <a:off x="8366040" y="152388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27920" y="131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1726560" y="2185920"/>
            <a:ext cx="4100400" cy="2562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#include  &lt;stdio.h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in()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{    int  k ,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[10]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r(k=0;k&lt;10;k++)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canf(“%d”,&amp;a[k])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r(k=0;k&lt;10;k++)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um+=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[k]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intf(“Average  is  %d\n”,sum/10)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2828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例   有十个学生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成绩，求平均分</a:t>
            </a:r>
            <a:br>
              <a:rPr sz="2400"/>
            </a:b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1239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124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2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2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5" dur="1" fill="hold"/>
                                  <p:tgtEl>
                                    <p:spTgt spid="1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5760" y="1327320"/>
            <a:ext cx="815328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必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先定义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后使用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只能逐个引用数组元素，不能一次引用整个数组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元素表示形式：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数组名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下标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其中：下标可以是常量或整型表达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20000" y="493560"/>
            <a:ext cx="5516280" cy="8254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i=15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data[i]; 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不能用变量定义数组维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3880" y="3344040"/>
            <a:ext cx="553608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a[10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ntf(“%d”,a);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必须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(j=0;j&lt;10;j++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intf(“%d\t”,a[j]);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                (</a:t>
            </a:r>
            <a:r>
              <a:rPr b="0" lang="en-US" sz="2400" spc="-1" strike="noStrike">
                <a:solidFill>
                  <a:srgbClr val="ffffeb"/>
                </a:solidFill>
                <a:latin typeface="Wingdings 2"/>
                <a:ea typeface="Wingdings 2"/>
              </a:rPr>
              <a:t>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96880" y="633240"/>
            <a:ext cx="6264360" cy="8254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 data[5];   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[5]=10;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//C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语言对数组不作越界检查，使用时要 注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一维数组的引用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38088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初始化方式               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47840" y="1330200"/>
            <a:ext cx="3838680" cy="825840"/>
          </a:xfrm>
          <a:prstGeom prst="wedgeRectCallout">
            <a:avLst>
              <a:gd name="adj1" fmla="val -54078"/>
              <a:gd name="adj2" fmla="val -111652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在定义数组时，为数组元素赋初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在编译阶段使之得到初值）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21840"/>
            <a:ext cx="7726320" cy="9471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5]=</a:t>
            </a:r>
            <a:r>
              <a:rPr b="0" lang="en-US" sz="2800" spc="-1" strike="noStrike">
                <a:solidFill>
                  <a:srgbClr val="669900"/>
                </a:solidFill>
                <a:latin typeface="Times New Roman"/>
                <a:ea typeface="隶书"/>
              </a:rPr>
              <a:t>{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1,2,3,4,5</a:t>
            </a:r>
            <a:r>
              <a:rPr b="0" lang="en-US" sz="2800" spc="-1" strike="noStrike">
                <a:solidFill>
                  <a:srgbClr val="669900"/>
                </a:solidFill>
                <a:latin typeface="Times New Roman"/>
                <a:ea typeface="隶书"/>
              </a:rPr>
              <a:t>}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等价于：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a[0]=1;  a[1]=2; a[2]=3; a[3]=4; a[4]=5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360" y="2209680"/>
            <a:ext cx="82296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说明：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不初始化，其元素值为随机数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static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元素不赋初值，系统会自动赋以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值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560" y="3697200"/>
            <a:ext cx="82296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当全部数组元素赋初值时，可不指定数组长度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760" y="4151160"/>
            <a:ext cx="8944920" cy="13737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如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5]={6,2,3}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等价于：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a[0]=6; a[1]=2;a[2]=3; a[3]=0; a[4]=0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如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3]={6,2,3,5,1};     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0640" y="4176000"/>
            <a:ext cx="7726320" cy="9471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static int a[5]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等价于：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a[0]=0;  a[1]=0; a[2]=0; a[3]=0; a[4]=0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360" y="3402000"/>
            <a:ext cx="8229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只给部分数组元素赋初值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560" y="4455360"/>
            <a:ext cx="4509000" cy="94716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]={1,2,3,4,5,6};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编译系统根据初值个数确定数组维数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一维数组的初始化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57160" y="72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17600" y="1630440"/>
            <a:ext cx="5561280" cy="283824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排序过程：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比较第一个数与第二个数，若为逆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a[0]&gt;a[1]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，则交换；然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后比较第二个数与第三个数；依次类推，直至第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和第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比较为止——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趟冒泡排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，结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最大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数被安置在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最后一个元素位置上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对前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进行第二趟冒泡排序，结果使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次大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数被安置在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第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元素位置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重复上述过程，共经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趟冒泡排序后，在第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趟比较中，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进行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j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次两两比较排序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8600" y="426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用冒泡法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个数排序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848720" y="6058080"/>
            <a:ext cx="1047600" cy="514080"/>
            <a:chOff x="7848720" y="6058080"/>
            <a:chExt cx="1047600" cy="514080"/>
          </a:xfrm>
        </p:grpSpPr>
        <p:sp>
          <p:nvSpPr>
            <p:cNvPr id="149" name="">
              <a:hlinkClick r:id="rId1" action="ppaction://hlinksldjump"/>
            </p:cNvPr>
            <p:cNvSpPr/>
            <p:nvPr/>
          </p:nvSpPr>
          <p:spPr>
            <a:xfrm>
              <a:off x="7848720" y="605808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991640" y="6105600"/>
              <a:ext cx="714240" cy="380880"/>
              <a:chOff x="7991640" y="6105600"/>
              <a:chExt cx="714240" cy="380880"/>
            </a:xfrm>
          </p:grpSpPr>
          <p:sp>
            <p:nvSpPr>
              <p:cNvPr id="151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001000" y="609588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2040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91760" y="636264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30080" y="0"/>
            <a:ext cx="7921800" cy="65530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750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例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02360" y="673200"/>
            <a:ext cx="502920" cy="4862880"/>
            <a:chOff x="2502360" y="673200"/>
            <a:chExt cx="502920" cy="4862880"/>
          </a:xfrm>
        </p:grpSpPr>
        <p:sp>
          <p:nvSpPr>
            <p:cNvPr id="157" name=""/>
            <p:cNvSpPr/>
            <p:nvPr/>
          </p:nvSpPr>
          <p:spPr>
            <a:xfrm>
              <a:off x="2520000" y="673200"/>
              <a:ext cx="485280" cy="38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49    65    76    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97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02360" y="4623480"/>
              <a:ext cx="4852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一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28040" y="683280"/>
            <a:ext cx="502560" cy="5228640"/>
            <a:chOff x="3128040" y="683280"/>
            <a:chExt cx="502560" cy="5228640"/>
          </a:xfrm>
        </p:grpSpPr>
        <p:sp>
          <p:nvSpPr>
            <p:cNvPr id="160" name=""/>
            <p:cNvSpPr/>
            <p:nvPr/>
          </p:nvSpPr>
          <p:spPr>
            <a:xfrm>
              <a:off x="3145320" y="683280"/>
              <a:ext cx="485280" cy="33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49    65    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76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8040" y="4260240"/>
              <a:ext cx="485280" cy="16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二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467520" y="554040"/>
            <a:ext cx="807120" cy="5566680"/>
            <a:chOff x="3467520" y="554040"/>
            <a:chExt cx="807120" cy="5566680"/>
          </a:xfrm>
        </p:grpSpPr>
        <p:sp>
          <p:nvSpPr>
            <p:cNvPr id="163" name=""/>
            <p:cNvSpPr/>
            <p:nvPr/>
          </p:nvSpPr>
          <p:spPr>
            <a:xfrm>
              <a:off x="3789360" y="554040"/>
              <a:ext cx="485280" cy="30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49    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67520" y="4881960"/>
              <a:ext cx="790200" cy="12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三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377240" y="673920"/>
            <a:ext cx="520200" cy="5208840"/>
            <a:chOff x="4377240" y="673920"/>
            <a:chExt cx="520200" cy="5208840"/>
          </a:xfrm>
        </p:grpSpPr>
        <p:sp>
          <p:nvSpPr>
            <p:cNvPr id="166" name=""/>
            <p:cNvSpPr/>
            <p:nvPr/>
          </p:nvSpPr>
          <p:spPr>
            <a:xfrm>
              <a:off x="4412160" y="673920"/>
              <a:ext cx="485280" cy="22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38    13    27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77240" y="4296600"/>
              <a:ext cx="48528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四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150520" y="522360"/>
            <a:ext cx="502560" cy="5349960"/>
            <a:chOff x="5150520" y="522360"/>
            <a:chExt cx="502560" cy="5349960"/>
          </a:xfrm>
        </p:grpSpPr>
        <p:sp>
          <p:nvSpPr>
            <p:cNvPr id="169" name=""/>
            <p:cNvSpPr/>
            <p:nvPr/>
          </p:nvSpPr>
          <p:spPr>
            <a:xfrm>
              <a:off x="5167800" y="522360"/>
              <a:ext cx="48528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3    27    30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50520" y="4613760"/>
              <a:ext cx="48528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五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644080" y="613080"/>
            <a:ext cx="520200" cy="5163120"/>
            <a:chOff x="5644080" y="613080"/>
            <a:chExt cx="520200" cy="5163120"/>
          </a:xfrm>
        </p:grpSpPr>
        <p:sp>
          <p:nvSpPr>
            <p:cNvPr id="172" name=""/>
            <p:cNvSpPr/>
            <p:nvPr/>
          </p:nvSpPr>
          <p:spPr>
            <a:xfrm>
              <a:off x="5679000" y="613080"/>
              <a:ext cx="48528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3    27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44080" y="4255560"/>
              <a:ext cx="48528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六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53280" y="663120"/>
            <a:ext cx="594000" cy="5961240"/>
            <a:chOff x="1853280" y="663120"/>
            <a:chExt cx="594000" cy="5961240"/>
          </a:xfrm>
        </p:grpSpPr>
        <p:grpSp>
          <p:nvGrpSpPr>
            <p:cNvPr id="175" name=""/>
            <p:cNvGrpSpPr/>
            <p:nvPr/>
          </p:nvGrpSpPr>
          <p:grpSpPr>
            <a:xfrm>
              <a:off x="1944720" y="663120"/>
              <a:ext cx="502560" cy="5827320"/>
              <a:chOff x="1944720" y="663120"/>
              <a:chExt cx="502560" cy="5827320"/>
            </a:xfrm>
          </p:grpSpPr>
          <p:sp>
            <p:nvSpPr>
              <p:cNvPr id="176" name=""/>
              <p:cNvSpPr/>
              <p:nvPr/>
            </p:nvSpPr>
            <p:spPr>
              <a:xfrm>
                <a:off x="1962000" y="663120"/>
                <a:ext cx="485280" cy="39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49    38    65    97    76    13    27    3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44720" y="4015800"/>
                <a:ext cx="485280" cy="24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       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初始关键字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853280" y="5005800"/>
              <a:ext cx="5799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n=8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83600" y="6159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3600" y="1190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18440" y="2143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8440" y="26719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3600" y="26719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5560" y="32306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38960" y="37702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0" y="32083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3600" y="37688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2720" y="42465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9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85160" y="2251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6760" y="37702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81920" y="28144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64640" y="2252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88400" y="28130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5320" y="3286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7600" y="1703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600" y="22604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85280" y="22604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50440" y="28479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29560" y="27874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8120" y="33670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36160" y="11444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21960" y="6094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01320" y="28098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9000" y="22622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56680" y="22464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01320" y="16905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58480" y="16556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960" y="125568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9640" y="13003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9640" y="175752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8200" y="17748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77320" y="22352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267960" y="282600"/>
            <a:ext cx="520200" cy="5968800"/>
            <a:chOff x="6267960" y="282600"/>
            <a:chExt cx="520200" cy="5968800"/>
          </a:xfrm>
        </p:grpSpPr>
        <p:sp>
          <p:nvSpPr>
            <p:cNvPr id="214" name=""/>
            <p:cNvSpPr/>
            <p:nvPr/>
          </p:nvSpPr>
          <p:spPr>
            <a:xfrm>
              <a:off x="6302880" y="282600"/>
              <a:ext cx="48528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3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7960" y="4595760"/>
              <a:ext cx="48528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第七趟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22800" y="3336480"/>
            <a:ext cx="43624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例  用冒泡法对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个数排序（图解）</a:t>
            </a:r>
            <a:endParaRPr b="1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1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20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33480" y="72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58520" y="1767240"/>
            <a:ext cx="5928480" cy="192348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排序过程：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首先通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次比较，从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中找出最小的， 将它与第一个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交换—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趟选择排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，结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最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数被安置在第一个元素位置上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再通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次比较，从剩余的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个数中找出关键字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次小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的记录，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将它与第二个数交换—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趟选择排序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）重复上述过程，共经过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-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趟排序后，排序结束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用简单选择法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个数排序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27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29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5960" y="311040"/>
            <a:ext cx="7981920" cy="62676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5840" y="909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例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714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13840" y="905040"/>
            <a:ext cx="49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初始：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[ 49     38     65     97     76     13     27 ]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0" y="326880"/>
            <a:ext cx="308880" cy="625680"/>
            <a:chOff x="3049200" y="326880"/>
            <a:chExt cx="308880" cy="625680"/>
          </a:xfrm>
        </p:grpSpPr>
        <p:sp>
          <p:nvSpPr>
            <p:cNvPr id="237" name=""/>
            <p:cNvSpPr/>
            <p:nvPr/>
          </p:nvSpPr>
          <p:spPr>
            <a:xfrm>
              <a:off x="3174840" y="66996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9200" y="32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684600" y="1217520"/>
            <a:ext cx="250920" cy="600480"/>
            <a:chOff x="3684600" y="1217520"/>
            <a:chExt cx="250920" cy="600480"/>
          </a:xfrm>
        </p:grpSpPr>
        <p:sp>
          <p:nvSpPr>
            <p:cNvPr id="240" name=""/>
            <p:cNvSpPr/>
            <p:nvPr/>
          </p:nvSpPr>
          <p:spPr>
            <a:xfrm flipV="1">
              <a:off x="3809880" y="121752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4600" y="1419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337400" y="9428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=1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50280" y="97776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71240" y="9446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73240" y="2502000"/>
            <a:ext cx="47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一趟：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[38     65     97     76     49     27 ]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67640" y="24717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=2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2240" y="253224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30240" y="2514600"/>
            <a:ext cx="43668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967040" y="3521160"/>
            <a:ext cx="4971960" cy="558720"/>
            <a:chOff x="1967040" y="3521160"/>
            <a:chExt cx="4971960" cy="558720"/>
          </a:xfrm>
        </p:grpSpPr>
        <p:sp>
          <p:nvSpPr>
            <p:cNvPr id="250" name=""/>
            <p:cNvSpPr/>
            <p:nvPr/>
          </p:nvSpPr>
          <p:spPr>
            <a:xfrm>
              <a:off x="1967040" y="3521160"/>
              <a:ext cx="49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二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65     97     76     49     38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405320" y="3822840"/>
              <a:ext cx="2254320" cy="257040"/>
              <a:chOff x="4405320" y="3822840"/>
              <a:chExt cx="2254320" cy="257040"/>
            </a:xfrm>
          </p:grpSpPr>
          <p:sp>
            <p:nvSpPr>
              <p:cNvPr id="252" name=""/>
              <p:cNvSpPr/>
              <p:nvPr/>
            </p:nvSpPr>
            <p:spPr>
              <a:xfrm>
                <a:off x="6657840" y="3851280"/>
                <a:ext cx="18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405320" y="382284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429080" y="4022640"/>
                <a:ext cx="2205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1967040" y="4254480"/>
            <a:ext cx="4971960" cy="504720"/>
            <a:chOff x="1967040" y="4254480"/>
            <a:chExt cx="4971960" cy="504720"/>
          </a:xfrm>
        </p:grpSpPr>
        <p:sp>
          <p:nvSpPr>
            <p:cNvPr id="256" name=""/>
            <p:cNvSpPr/>
            <p:nvPr/>
          </p:nvSpPr>
          <p:spPr>
            <a:xfrm>
              <a:off x="1967040" y="4254480"/>
              <a:ext cx="49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三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     38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97     76     49     65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933800" y="4530600"/>
              <a:ext cx="1125720" cy="228600"/>
              <a:chOff x="4933800" y="4530600"/>
              <a:chExt cx="1125720" cy="228600"/>
            </a:xfrm>
          </p:grpSpPr>
          <p:sp>
            <p:nvSpPr>
              <p:cNvPr id="258" name=""/>
              <p:cNvSpPr/>
              <p:nvPr/>
            </p:nvSpPr>
            <p:spPr>
              <a:xfrm>
                <a:off x="6058080" y="4530600"/>
                <a:ext cx="144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933800" y="453852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48200" y="4745160"/>
                <a:ext cx="109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966680" y="4776840"/>
            <a:ext cx="4972320" cy="539640"/>
            <a:chOff x="1966680" y="4776840"/>
            <a:chExt cx="4972320" cy="539640"/>
          </a:xfrm>
        </p:grpSpPr>
        <p:sp>
          <p:nvSpPr>
            <p:cNvPr id="262" name=""/>
            <p:cNvSpPr/>
            <p:nvPr/>
          </p:nvSpPr>
          <p:spPr>
            <a:xfrm>
              <a:off x="1966680" y="4776840"/>
              <a:ext cx="49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四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     38     49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76     97     65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479920" y="5087880"/>
              <a:ext cx="1125720" cy="228600"/>
              <a:chOff x="5479920" y="5087880"/>
              <a:chExt cx="1125720" cy="228600"/>
            </a:xfrm>
          </p:grpSpPr>
          <p:sp>
            <p:nvSpPr>
              <p:cNvPr id="264" name=""/>
              <p:cNvSpPr/>
              <p:nvPr/>
            </p:nvSpPr>
            <p:spPr>
              <a:xfrm>
                <a:off x="6603840" y="5087880"/>
                <a:ext cx="18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5479920" y="509580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94320" y="5302080"/>
                <a:ext cx="109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1967040" y="5334120"/>
            <a:ext cx="4971960" cy="539640"/>
            <a:chOff x="1967040" y="5334120"/>
            <a:chExt cx="4971960" cy="539640"/>
          </a:xfrm>
        </p:grpSpPr>
        <p:sp>
          <p:nvSpPr>
            <p:cNvPr id="268" name=""/>
            <p:cNvSpPr/>
            <p:nvPr/>
          </p:nvSpPr>
          <p:spPr>
            <a:xfrm>
              <a:off x="1967040" y="5334120"/>
              <a:ext cx="497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五趟：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3      27     38     49     65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   [97     76 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07040" y="5645160"/>
              <a:ext cx="498600" cy="228600"/>
              <a:chOff x="6107040" y="5645160"/>
              <a:chExt cx="498600" cy="228600"/>
            </a:xfrm>
          </p:grpSpPr>
          <p:sp>
            <p:nvSpPr>
              <p:cNvPr id="270" name=""/>
              <p:cNvSpPr/>
              <p:nvPr/>
            </p:nvSpPr>
            <p:spPr>
              <a:xfrm>
                <a:off x="6603840" y="5645160"/>
                <a:ext cx="18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114960" y="5653080"/>
                <a:ext cx="0" cy="19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07040" y="5837400"/>
                <a:ext cx="493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1967040" y="589932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六趟：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3      27     38     49     65     76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[97 ]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944680" y="403200"/>
            <a:ext cx="308880" cy="625680"/>
            <a:chOff x="5944680" y="403200"/>
            <a:chExt cx="308880" cy="625680"/>
          </a:xfrm>
        </p:grpSpPr>
        <p:sp>
          <p:nvSpPr>
            <p:cNvPr id="275" name=""/>
            <p:cNvSpPr/>
            <p:nvPr/>
          </p:nvSpPr>
          <p:spPr>
            <a:xfrm>
              <a:off x="6070320" y="74628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4680" y="403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382800" y="1965240"/>
            <a:ext cx="308880" cy="625680"/>
            <a:chOff x="6382800" y="1965240"/>
            <a:chExt cx="308880" cy="625680"/>
          </a:xfrm>
        </p:grpSpPr>
        <p:sp>
          <p:nvSpPr>
            <p:cNvPr id="278" name=""/>
            <p:cNvSpPr/>
            <p:nvPr/>
          </p:nvSpPr>
          <p:spPr>
            <a:xfrm>
              <a:off x="6508440" y="230832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82800" y="1965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696840" y="1927080"/>
            <a:ext cx="308880" cy="625680"/>
            <a:chOff x="3696840" y="1927080"/>
            <a:chExt cx="308880" cy="625680"/>
          </a:xfrm>
        </p:grpSpPr>
        <p:sp>
          <p:nvSpPr>
            <p:cNvPr id="281" name=""/>
            <p:cNvSpPr/>
            <p:nvPr/>
          </p:nvSpPr>
          <p:spPr>
            <a:xfrm>
              <a:off x="3822480" y="227016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96840" y="192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677760" y="345960"/>
            <a:ext cx="308880" cy="625680"/>
            <a:chOff x="3677760" y="345960"/>
            <a:chExt cx="308880" cy="625680"/>
          </a:xfrm>
        </p:grpSpPr>
        <p:sp>
          <p:nvSpPr>
            <p:cNvPr id="284" name=""/>
            <p:cNvSpPr/>
            <p:nvPr/>
          </p:nvSpPr>
          <p:spPr>
            <a:xfrm>
              <a:off x="3803400" y="689040"/>
              <a:ext cx="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77760" y="345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275000" y="1198440"/>
            <a:ext cx="250920" cy="600480"/>
            <a:chOff x="4275000" y="1198440"/>
            <a:chExt cx="250920" cy="600480"/>
          </a:xfrm>
        </p:grpSpPr>
        <p:sp>
          <p:nvSpPr>
            <p:cNvPr id="287" name=""/>
            <p:cNvSpPr/>
            <p:nvPr/>
          </p:nvSpPr>
          <p:spPr>
            <a:xfrm flipV="1">
              <a:off x="4400280" y="119844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75000" y="1400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89440" y="1217520"/>
            <a:ext cx="250920" cy="600480"/>
            <a:chOff x="4789440" y="1217520"/>
            <a:chExt cx="250920" cy="600480"/>
          </a:xfrm>
        </p:grpSpPr>
        <p:sp>
          <p:nvSpPr>
            <p:cNvPr id="290" name=""/>
            <p:cNvSpPr/>
            <p:nvPr/>
          </p:nvSpPr>
          <p:spPr>
            <a:xfrm flipV="1">
              <a:off x="4914720" y="121752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419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360760" y="1236600"/>
            <a:ext cx="250920" cy="600480"/>
            <a:chOff x="5360760" y="1236600"/>
            <a:chExt cx="250920" cy="600480"/>
          </a:xfrm>
        </p:grpSpPr>
        <p:sp>
          <p:nvSpPr>
            <p:cNvPr id="293" name=""/>
            <p:cNvSpPr/>
            <p:nvPr/>
          </p:nvSpPr>
          <p:spPr>
            <a:xfrm flipV="1">
              <a:off x="5486040" y="123660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60760" y="14382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856120" y="1255680"/>
            <a:ext cx="250920" cy="600480"/>
            <a:chOff x="5856120" y="1255680"/>
            <a:chExt cx="250920" cy="600480"/>
          </a:xfrm>
        </p:grpSpPr>
        <p:sp>
          <p:nvSpPr>
            <p:cNvPr id="296" name=""/>
            <p:cNvSpPr/>
            <p:nvPr/>
          </p:nvSpPr>
          <p:spPr>
            <a:xfrm flipV="1">
              <a:off x="5981400" y="125568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6120" y="14572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522840" y="1198440"/>
            <a:ext cx="250920" cy="600480"/>
            <a:chOff x="6522840" y="1198440"/>
            <a:chExt cx="250920" cy="600480"/>
          </a:xfrm>
        </p:grpSpPr>
        <p:sp>
          <p:nvSpPr>
            <p:cNvPr id="299" name=""/>
            <p:cNvSpPr/>
            <p:nvPr/>
          </p:nvSpPr>
          <p:spPr>
            <a:xfrm flipV="1">
              <a:off x="6648120" y="119844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22840" y="1400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198680" y="2893680"/>
            <a:ext cx="250920" cy="600480"/>
            <a:chOff x="4198680" y="2893680"/>
            <a:chExt cx="250920" cy="600480"/>
          </a:xfrm>
        </p:grpSpPr>
        <p:sp>
          <p:nvSpPr>
            <p:cNvPr id="302" name=""/>
            <p:cNvSpPr/>
            <p:nvPr/>
          </p:nvSpPr>
          <p:spPr>
            <a:xfrm flipV="1">
              <a:off x="4323960" y="289368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98680" y="30952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32200" y="2874600"/>
            <a:ext cx="250920" cy="600480"/>
            <a:chOff x="4732200" y="2874600"/>
            <a:chExt cx="250920" cy="600480"/>
          </a:xfrm>
        </p:grpSpPr>
        <p:sp>
          <p:nvSpPr>
            <p:cNvPr id="305" name=""/>
            <p:cNvSpPr/>
            <p:nvPr/>
          </p:nvSpPr>
          <p:spPr>
            <a:xfrm flipV="1">
              <a:off x="4857480" y="287460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32200" y="30762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322600" y="2874600"/>
            <a:ext cx="250920" cy="600480"/>
            <a:chOff x="5322600" y="2874600"/>
            <a:chExt cx="250920" cy="600480"/>
          </a:xfrm>
        </p:grpSpPr>
        <p:sp>
          <p:nvSpPr>
            <p:cNvPr id="308" name=""/>
            <p:cNvSpPr/>
            <p:nvPr/>
          </p:nvSpPr>
          <p:spPr>
            <a:xfrm flipV="1">
              <a:off x="5447880" y="287460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2600" y="30762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932440" y="2855880"/>
            <a:ext cx="250920" cy="600480"/>
            <a:chOff x="5932440" y="2855880"/>
            <a:chExt cx="250920" cy="600480"/>
          </a:xfrm>
        </p:grpSpPr>
        <p:sp>
          <p:nvSpPr>
            <p:cNvPr id="311" name=""/>
            <p:cNvSpPr/>
            <p:nvPr/>
          </p:nvSpPr>
          <p:spPr>
            <a:xfrm flipV="1">
              <a:off x="6057720" y="2855880"/>
              <a:ext cx="0" cy="26352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32440" y="30574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389640" y="2931840"/>
            <a:ext cx="250920" cy="600480"/>
            <a:chOff x="6389640" y="2931840"/>
            <a:chExt cx="250920" cy="600480"/>
          </a:xfrm>
        </p:grpSpPr>
        <p:sp>
          <p:nvSpPr>
            <p:cNvPr id="314" name=""/>
            <p:cNvSpPr/>
            <p:nvPr/>
          </p:nvSpPr>
          <p:spPr>
            <a:xfrm flipV="1">
              <a:off x="6514920" y="2931840"/>
              <a:ext cx="0" cy="26316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89640" y="31334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例  用简单选择法对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</a:rPr>
              <a:t>个数排序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31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320" name="">
                <a:hlinkClick r:id="" action="ppaction://hlinkshowjump?jump=firstslide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228600"/>
            <a:ext cx="83822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eb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的定义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定义方式：　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　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数据类型　数组名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常量表达式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[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常量表达式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]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隶书"/>
              </a:rPr>
              <a:t>；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1800" y="200016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数组元素的存放顺序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原因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:</a:t>
            </a: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内存是一维的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：按行序优先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Times New Roman"/>
                <a:ea typeface="隶书"/>
              </a:rPr>
              <a:t>多维数组：最右下标变化最快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04840" y="302112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06880" y="2001960"/>
            <a:ext cx="3966480" cy="1557000"/>
          </a:xfrm>
          <a:prstGeom prst="rect">
            <a:avLst/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nt a[3][4]; 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float b[2][5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int c[2][3][4];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int a[3,4]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82480" y="896760"/>
            <a:ext cx="690120" cy="566640"/>
          </a:xfrm>
          <a:prstGeom prst="wedgeEllipseCallout">
            <a:avLst>
              <a:gd name="adj1" fmla="val -59486"/>
              <a:gd name="adj2" fmla="val 69236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行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0840" y="801360"/>
            <a:ext cx="690120" cy="566640"/>
          </a:xfrm>
          <a:prstGeom prst="wedgeEllipseCallout">
            <a:avLst>
              <a:gd name="adj1" fmla="val -40305"/>
              <a:gd name="adj2" fmla="val 82759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列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97240" y="765000"/>
            <a:ext cx="2720880" cy="566640"/>
          </a:xfrm>
          <a:prstGeom prst="wedgeEllipseCallout">
            <a:avLst>
              <a:gd name="adj1" fmla="val -24402"/>
              <a:gd name="adj2" fmla="val 96157"/>
            </a:avLst>
          </a:prstGeom>
          <a:solidFill>
            <a:srgbClr val="ffffeb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元素个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行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列数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751040" y="4011480"/>
            <a:ext cx="5439960" cy="2303640"/>
            <a:chOff x="1751040" y="4011480"/>
            <a:chExt cx="5439960" cy="2303640"/>
          </a:xfrm>
        </p:grpSpPr>
        <p:grpSp>
          <p:nvGrpSpPr>
            <p:cNvPr id="331" name=""/>
            <p:cNvGrpSpPr/>
            <p:nvPr/>
          </p:nvGrpSpPr>
          <p:grpSpPr>
            <a:xfrm>
              <a:off x="3005280" y="4011480"/>
              <a:ext cx="4185720" cy="2303640"/>
              <a:chOff x="3005280" y="4011480"/>
              <a:chExt cx="4185720" cy="2303640"/>
            </a:xfrm>
          </p:grpSpPr>
          <p:sp>
            <p:nvSpPr>
              <p:cNvPr id="332" name=""/>
              <p:cNvSpPr/>
              <p:nvPr/>
            </p:nvSpPr>
            <p:spPr>
              <a:xfrm>
                <a:off x="3005280" y="4070880"/>
                <a:ext cx="1738080" cy="566640"/>
              </a:xfrm>
              <a:prstGeom prst="wedgeEllipseCallout">
                <a:avLst>
                  <a:gd name="adj1" fmla="val 54824"/>
                  <a:gd name="adj2" fmla="val 88662"/>
                </a:avLst>
              </a:pr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int a[3][2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65640" y="4011480"/>
                <a:ext cx="2010960" cy="2285640"/>
              </a:xfrm>
              <a:prstGeom prst="rect">
                <a:avLst/>
              </a:prstGeom>
              <a:solidFill>
                <a:srgbClr val="ffffeb"/>
              </a:solidFill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48000" y="4400280"/>
                <a:ext cx="199368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94080" y="4746240"/>
                <a:ext cx="199368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51240" y="5138280"/>
                <a:ext cx="201096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80040" y="5535360"/>
                <a:ext cx="201096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51240" y="5898960"/>
                <a:ext cx="2010960" cy="0"/>
              </a:xfrm>
              <a:prstGeom prst="line">
                <a:avLst/>
              </a:prstGeom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87720" y="43923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87720" y="47732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6699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87720" y="515412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6699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87720" y="553536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87720" y="591624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4875840" y="4051080"/>
                <a:ext cx="324360" cy="2263680"/>
                <a:chOff x="4875840" y="4051080"/>
                <a:chExt cx="324360" cy="22636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891320" y="40510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891320" y="4396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891320" y="5535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91320" y="5915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75840" y="46965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875840" y="5153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eb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e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5787720" y="4011480"/>
                <a:ext cx="89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a[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][0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751040" y="5253120"/>
              <a:ext cx="2024280" cy="1008720"/>
              <a:chOff x="1751040" y="5253120"/>
              <a:chExt cx="2024280" cy="1008720"/>
            </a:xfrm>
          </p:grpSpPr>
          <p:sp>
            <p:nvSpPr>
              <p:cNvPr id="353" name=""/>
              <p:cNvSpPr/>
              <p:nvPr/>
            </p:nvSpPr>
            <p:spPr>
              <a:xfrm>
                <a:off x="1814760" y="5253120"/>
                <a:ext cx="1920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0][0]     a[0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1][0]     a[1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a[2][0]     a[2][1]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51040" y="5367240"/>
                <a:ext cx="109800" cy="776520"/>
              </a:xfrm>
              <a:custGeom>
                <a:avLst/>
                <a:gdLst>
                  <a:gd name="textAreaLeft" fmla="*/ 32040 w 109800"/>
                  <a:gd name="textAreaRight" fmla="*/ 110160 w 109800"/>
                  <a:gd name="textAreaTop" fmla="*/ 32040 h 776520"/>
                  <a:gd name="textAreaBottom" fmla="*/ 744480 h 7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64080" y="5388120"/>
                <a:ext cx="111240" cy="793440"/>
              </a:xfrm>
              <a:custGeom>
                <a:avLst/>
                <a:gdLst>
                  <a:gd name="textAreaLeft" fmla="*/ 0 w 111240"/>
                  <a:gd name="textAreaRight" fmla="*/ 78120 w 111240"/>
                  <a:gd name="textAreaTop" fmla="*/ 32760 h 793440"/>
                  <a:gd name="textAreaBottom" fmla="*/ 760680 h 79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4298400" y="0"/>
            <a:ext cx="4845600" cy="6604920"/>
            <a:chOff x="4298400" y="0"/>
            <a:chExt cx="4845600" cy="6604920"/>
          </a:xfrm>
        </p:grpSpPr>
        <p:sp>
          <p:nvSpPr>
            <p:cNvPr id="357" name=""/>
            <p:cNvSpPr/>
            <p:nvPr/>
          </p:nvSpPr>
          <p:spPr>
            <a:xfrm>
              <a:off x="4298400" y="886680"/>
              <a:ext cx="2161800" cy="566640"/>
            </a:xfrm>
            <a:prstGeom prst="wedgeEllipseCallout">
              <a:avLst>
                <a:gd name="adj1" fmla="val 56708"/>
                <a:gd name="adj2" fmla="val 90504"/>
              </a:avLst>
            </a:prstGeom>
            <a:noFill/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b"/>
                  </a:solidFill>
                  <a:latin typeface="Times New Roman"/>
                </a:rPr>
                <a:t>int c[2][3][4]</a:t>
              </a:r>
              <a:endParaRPr b="0" lang="en-US" sz="20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93000" y="112680"/>
              <a:ext cx="2133360" cy="6489720"/>
            </a:xfrm>
            <a:prstGeom prst="rect">
              <a:avLst/>
            </a:prstGeom>
            <a:solidFill>
              <a:srgbClr val="ffffeb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3000" y="412560"/>
              <a:ext cx="21333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10280" y="67932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10280" y="9478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10280" y="12160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10280" y="14828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0280" y="17510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20192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10280" y="22860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10280" y="25542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10280" y="28224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08916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10280" y="335772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10280" y="362592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10280" y="38926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10280" y="41608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10280" y="442908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10280" y="46958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49640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10280" y="523224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0280" y="54990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10280" y="576720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10280" y="603576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10280" y="6303960"/>
              <a:ext cx="2133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645960" y="0"/>
              <a:ext cx="613800" cy="6604920"/>
              <a:chOff x="6645960" y="0"/>
              <a:chExt cx="613800" cy="6604920"/>
            </a:xfrm>
          </p:grpSpPr>
          <p:sp>
            <p:nvSpPr>
              <p:cNvPr id="383" name=""/>
              <p:cNvSpPr/>
              <p:nvPr/>
            </p:nvSpPr>
            <p:spPr>
              <a:xfrm>
                <a:off x="6759000" y="0"/>
                <a:ext cx="3088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59000" y="1103400"/>
                <a:ext cx="3088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74480" y="2481840"/>
                <a:ext cx="485280" cy="10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………</a:t>
                </a: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45960" y="5291280"/>
                <a:ext cx="4366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eb"/>
                    </a:solidFill>
                    <a:latin typeface="Times New Roman"/>
                  </a:rPr>
                  <a:t>23</a:t>
                </a:r>
                <a:endParaRPr b="0" lang="en-US" sz="20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516800" y="52200"/>
              <a:ext cx="1085760" cy="6551640"/>
              <a:chOff x="7516800" y="52200"/>
              <a:chExt cx="1085760" cy="6551640"/>
            </a:xfrm>
          </p:grpSpPr>
          <p:sp>
            <p:nvSpPr>
              <p:cNvPr id="388" name=""/>
              <p:cNvSpPr/>
              <p:nvPr/>
            </p:nvSpPr>
            <p:spPr>
              <a:xfrm>
                <a:off x="7518240" y="52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18240" y="3286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18240" y="5968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18240" y="8650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Times New Roman"/>
                  </a:rPr>
                  <a:t>c[0][0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16800" y="1133640"/>
                <a:ext cx="1085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18240" y="14018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8240" y="167148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18240" y="19400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00"/>
                    </a:solidFill>
                    <a:latin typeface="Times New Roman"/>
                  </a:rPr>
                  <a:t>c[0][1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18240" y="22082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518240" y="24764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518240" y="27446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518240" y="3013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c[0][2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8240" y="328284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18240" y="35514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18240" y="38196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518240" y="40878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00"/>
                    </a:solidFill>
                    <a:latin typeface="Times New Roman"/>
                  </a:rPr>
                  <a:t>c[1][0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18240" y="43560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18240" y="4624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18240" y="48942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518240" y="516240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c[1][1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518240" y="54309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0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18240" y="56991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1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8240" y="59673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2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18240" y="62355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c[1][2][3]</a:t>
                </a:r>
                <a:endParaRPr b="0" lang="en-US" sz="18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952560" y="4133880"/>
            <a:ext cx="55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5920" y="0"/>
            <a:ext cx="8001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Times New Roman"/>
                <a:ea typeface="隶书"/>
              </a:rPr>
              <a:t>二维数组及多维数组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5:51:25Z</dcterms:created>
  <dc:creator>hyg</dc:creator>
  <dc:description/>
  <dc:language>en-US</dc:language>
  <cp:lastModifiedBy>YlmF</cp:lastModifiedBy>
  <dcterms:modified xsi:type="dcterms:W3CDTF">2009-06-13T14:22:36Z</dcterms:modified>
  <cp:revision>538</cp:revision>
  <dc:subject/>
  <dc:title>第五章 数组</dc:title>
</cp:coreProperties>
</file>