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514-B2F9-4959-B9AE-B3DF51FA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使每一个模块成为相对独立、功能单一、结构清晰、接口简单、容易理解的程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每个模块可以独立设计算法，单独编写和测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一个模块中的错误不易扩散和蔓延到其它模块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众人可同时进行集体性开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软件具有模块结构，软件开发工作如同搭积木，一个模块可以在不同程序中多次使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CB5-C464-40DE-89F0-9EA50F5A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66B-CF79-4094-A91F-4F8A506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4FE-73B7-456A-99DB-D72472C7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55F-FFFC-4A4C-8B3E-0D44774F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7918-DE09-45D6-B1F7-1537E3E0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2CA-2508-478A-B680-C42DBED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DAA-C889-448D-9477-2C7B507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38D-8617-4636-8BD6-62933F5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9F1-1750-4515-86F1-BCBE936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A721-0127-409F-910C-ABA9B172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ADBA-FD1E-4B1B-BF00-92192AB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F1C-8727-4ED4-A74C-36BACED3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7C1-146E-4B3C-BE76-377C4D4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7D07-FA5E-4F97-B383-2947863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5947-00A8-446D-9DC1-C2CBA57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D0B8-3E68-4B46-9F08-FF2DD71C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AB31-AD58-4BAF-9695-932DB68B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AC2-6D88-442E-9F4B-E6E3468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DAB-AFE3-4140-A9B3-70467A9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F72-C6A6-4C18-BC72-EFA919F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F6B-DB66-4032-909E-58C7271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A76-4071-4F99-9C86-61EF92A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53F-0691-437F-8727-E0693E6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14D-6875-45D2-95C4-ADE8C67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2D6-A95E-4042-84A3-FC96215F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5B9-F7CB-47C9-B076-2DD93E609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D:\TC\TC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隶书"/>
                <a:ea typeface="隶书"/>
              </a:rPr>
              <a:t>第七章  函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88960" y="1789200"/>
            <a:ext cx="21128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ea typeface="隶书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82760" y="2257560"/>
            <a:ext cx="2840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84560" y="2712960"/>
            <a:ext cx="3857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返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92480" y="3206880"/>
            <a:ext cx="32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6880" y="3672000"/>
            <a:ext cx="33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参数及其传递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32080" y="4289400"/>
            <a:ext cx="18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93920" y="4121280"/>
            <a:ext cx="40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ahoma"/>
                <a:ea typeface="隶书"/>
              </a:rPr>
              <a:t>函数的嵌套与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84640" y="560232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8160" y="542880"/>
            <a:ext cx="8745480" cy="63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对被调用函数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必须是已存在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库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#include &lt;*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类型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一般形式：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类型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…..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            函数类型    函数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作用：告诉编译系统函数类型、参数个数及类型，以便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定义与函数说明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说明位置：程序的数据说明部分（函数内或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下列情况下，可不作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返值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，系统自动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被调用函数定义出现在主调函数之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些系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land C+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要求函数说明指出函数返值类型和形参类型，并且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型函数也要进行函数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5904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说明</a:t>
            </a:r>
            <a:br>
              <a:rPr sz="2800"/>
            </a:b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247680" y="803160"/>
            <a:ext cx="8548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形参与实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3040" y="382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63400" y="3398760"/>
            <a:ext cx="3475440" cy="2059920"/>
            <a:chOff x="563400" y="3398760"/>
            <a:chExt cx="3475440" cy="2059920"/>
          </a:xfrm>
        </p:grpSpPr>
        <p:sp>
          <p:nvSpPr>
            <p:cNvPr id="570" name=""/>
            <p:cNvSpPr/>
            <p:nvPr/>
          </p:nvSpPr>
          <p:spPr>
            <a:xfrm>
              <a:off x="563400" y="3867120"/>
              <a:ext cx="3211560" cy="0"/>
            </a:xfrm>
            <a:prstGeom prst="line">
              <a:avLst/>
            </a:prstGeom>
            <a:ln w="9360">
              <a:solidFill>
                <a:srgbClr val="e4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660600" y="3398760"/>
              <a:ext cx="3378240" cy="2059920"/>
              <a:chOff x="660600" y="3398760"/>
              <a:chExt cx="3378240" cy="20599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4600" y="3398760"/>
                <a:ext cx="142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=max(a,b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53840" y="3435480"/>
                <a:ext cx="148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in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65000" y="3871800"/>
                <a:ext cx="141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）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0600" y="3840120"/>
                <a:ext cx="19029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x(int x, int 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   int z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z=x&gt;y?x:y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urn(z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}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 flipH="1">
            <a:off x="1374840" y="3689280"/>
            <a:ext cx="317520" cy="3002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87480" y="3689280"/>
            <a:ext cx="349200" cy="3556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98320" y="3672000"/>
            <a:ext cx="1235160" cy="1834560"/>
            <a:chOff x="598320" y="3672000"/>
            <a:chExt cx="1235160" cy="1834560"/>
          </a:xfrm>
        </p:grpSpPr>
        <p:sp>
          <p:nvSpPr>
            <p:cNvPr id="579" name=""/>
            <p:cNvSpPr/>
            <p:nvPr/>
          </p:nvSpPr>
          <p:spPr>
            <a:xfrm>
              <a:off x="1816200" y="5100480"/>
              <a:ext cx="0" cy="406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15960" y="5472000"/>
              <a:ext cx="1217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98320" y="3971520"/>
              <a:ext cx="0" cy="1535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98320" y="3672000"/>
              <a:ext cx="565200" cy="299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73880" y="21286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比较两个数并输出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50800" y="2313000"/>
            <a:ext cx="3475800" cy="41173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a,b,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,%d",&amp;a,&amp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max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Max is %d"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 x, int 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96000" y="4613760"/>
            <a:ext cx="3479400" cy="398880"/>
            <a:chOff x="4896000" y="4613760"/>
            <a:chExt cx="3479400" cy="398880"/>
          </a:xfrm>
        </p:grpSpPr>
        <p:sp>
          <p:nvSpPr>
            <p:cNvPr id="586" name=""/>
            <p:cNvSpPr/>
            <p:nvPr/>
          </p:nvSpPr>
          <p:spPr>
            <a:xfrm>
              <a:off x="4896000" y="4952880"/>
              <a:ext cx="1371600" cy="38160"/>
            </a:xfrm>
            <a:custGeom>
              <a:avLst/>
              <a:gdLst/>
              <a:ahLst/>
              <a:rect l="l" t="t" r="r" b="b"/>
              <a:pathLst>
                <a:path w="864" h="24">
                  <a:moveTo>
                    <a:pt x="0" y="0"/>
                  </a:moveTo>
                  <a:cubicBezTo>
                    <a:pt x="168" y="19"/>
                    <a:pt x="208" y="22"/>
                    <a:pt x="408" y="12"/>
                  </a:cubicBezTo>
                  <a:cubicBezTo>
                    <a:pt x="484" y="16"/>
                    <a:pt x="560" y="24"/>
                    <a:pt x="636" y="24"/>
                  </a:cubicBezTo>
                  <a:cubicBezTo>
                    <a:pt x="715" y="24"/>
                    <a:pt x="787" y="0"/>
                    <a:pt x="86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9760" y="461376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12671"/>
                <a:gd name="adj5" fmla="val 89717"/>
                <a:gd name="adj6" fmla="val -332074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410080" y="3565800"/>
            <a:ext cx="2908440" cy="398880"/>
            <a:chOff x="5410080" y="3565800"/>
            <a:chExt cx="2908440" cy="398880"/>
          </a:xfrm>
        </p:grpSpPr>
        <p:sp>
          <p:nvSpPr>
            <p:cNvPr id="589" name=""/>
            <p:cNvSpPr/>
            <p:nvPr/>
          </p:nvSpPr>
          <p:spPr>
            <a:xfrm>
              <a:off x="7832880" y="3565800"/>
              <a:ext cx="485640" cy="398880"/>
            </a:xfrm>
            <a:prstGeom prst="borderCallout2">
              <a:avLst>
                <a:gd name="adj1" fmla="val 18750"/>
                <a:gd name="adj2" fmla="val -8333"/>
                <a:gd name="adj3" fmla="val 28125"/>
                <a:gd name="adj4" fmla="val -130314"/>
                <a:gd name="adj5" fmla="val 70601"/>
                <a:gd name="adj6" fmla="val -382962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3848040"/>
              <a:ext cx="552600" cy="3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cubicBezTo>
                    <a:pt x="116" y="0"/>
                    <a:pt x="232" y="0"/>
                    <a:pt x="348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651960" y="337680"/>
            <a:ext cx="59756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参数及其传递方式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2362320"/>
            <a:ext cx="8437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参必须有确定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必须指定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类型一致，个数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形参与实参类型不一致，自动按形参类型转换———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函数调用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在函数被调用前不占内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函数调用时为形参分配内存；调用结束，内存释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240" y="304920"/>
            <a:ext cx="8548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参与实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参数：定义函数时函数名后面括号中的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际参数：调用函数时函数名后面括号中的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函数参数及其传递方式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47680" y="1066320"/>
            <a:ext cx="8648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值传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为形参分配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并将实参的值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复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到形参中；调用结束，形参单元被释放，实参单元仍保留并维持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不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的内存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单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参数传递方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9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0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4837320" y="1229400"/>
            <a:ext cx="3742200" cy="403560"/>
            <a:chOff x="4837320" y="1229400"/>
            <a:chExt cx="3742200" cy="403560"/>
          </a:xfrm>
        </p:grpSpPr>
        <p:sp>
          <p:nvSpPr>
            <p:cNvPr id="604" name=""/>
            <p:cNvSpPr/>
            <p:nvPr/>
          </p:nvSpPr>
          <p:spPr>
            <a:xfrm>
              <a:off x="6895440" y="12340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42840" y="12340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2744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46400" y="1229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37320" y="1229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83320" y="5385240"/>
            <a:ext cx="3726720" cy="414720"/>
            <a:chOff x="4783320" y="5385240"/>
            <a:chExt cx="3726720" cy="414720"/>
          </a:xfrm>
        </p:grpSpPr>
        <p:sp>
          <p:nvSpPr>
            <p:cNvPr id="610" name=""/>
            <p:cNvSpPr/>
            <p:nvPr/>
          </p:nvSpPr>
          <p:spPr>
            <a:xfrm>
              <a:off x="4783320" y="5401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结束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91040" y="5389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73360" y="5389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2268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76920" y="53852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57200" y="23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2280" y="990720"/>
            <a:ext cx="4109760" cy="44830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x=7,y=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swapped: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x=%d,\ty=%d\n",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a,in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a; a=b; b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783320" y="1980000"/>
            <a:ext cx="3827880" cy="1181160"/>
            <a:chOff x="4783320" y="1980000"/>
            <a:chExt cx="3827880" cy="1181160"/>
          </a:xfrm>
        </p:grpSpPr>
        <p:sp>
          <p:nvSpPr>
            <p:cNvPr id="618" name=""/>
            <p:cNvSpPr/>
            <p:nvPr/>
          </p:nvSpPr>
          <p:spPr>
            <a:xfrm>
              <a:off x="4783320" y="2437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92200" y="27622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39600" y="27622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24560" y="27579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43160" y="275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6752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62800" y="237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7120" y="198468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74520" y="198468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5912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78080" y="1980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580280" y="3396600"/>
            <a:ext cx="3997440" cy="1838520"/>
            <a:chOff x="4580280" y="3396600"/>
            <a:chExt cx="3997440" cy="1838520"/>
          </a:xfrm>
        </p:grpSpPr>
        <p:sp>
          <p:nvSpPr>
            <p:cNvPr id="630" name=""/>
            <p:cNvSpPr/>
            <p:nvPr/>
          </p:nvSpPr>
          <p:spPr>
            <a:xfrm>
              <a:off x="4580280" y="3488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720" y="340092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41040" y="340092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9072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44600" y="3396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360" y="4163040"/>
              <a:ext cx="4366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05120" y="4163040"/>
              <a:ext cx="3088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91080" y="41583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4600" y="4158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88000" y="4767480"/>
              <a:ext cx="462240" cy="4064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43800" y="48362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" name=""/>
            <p:cNvCxnSpPr>
              <a:stCxn id="635" idx="2"/>
              <a:endCxn id="639" idx="1"/>
            </p:cNvCxnSpPr>
            <p:nvPr/>
          </p:nvCxnSpPr>
          <p:spPr>
            <a:xfrm flipH="1" rot="16200000">
              <a:off x="7080120" y="4562280"/>
              <a:ext cx="405360" cy="411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2" name=""/>
            <p:cNvCxnSpPr>
              <a:stCxn id="639" idx="3"/>
              <a:endCxn id="636" idx="2"/>
            </p:cNvCxnSpPr>
            <p:nvPr/>
          </p:nvCxnSpPr>
          <p:spPr>
            <a:xfrm flipV="1">
              <a:off x="7949880" y="4565520"/>
              <a:ext cx="410040" cy="405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3" name=""/>
            <p:cNvCxnSpPr>
              <a:stCxn id="636" idx="1"/>
              <a:endCxn id="635" idx="3"/>
            </p:cNvCxnSpPr>
            <p:nvPr/>
          </p:nvCxnSpPr>
          <p:spPr>
            <a:xfrm flipH="1">
              <a:off x="7300440" y="4362120"/>
              <a:ext cx="89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110484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方式：函数调用时，将数据的存储地址作为参数传递给形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形参与实参占用同样的存储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双向”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和形参必须是地址常量或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533520" y="871560"/>
            <a:ext cx="3884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函数的地址传递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64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65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234800" y="436680"/>
            <a:ext cx="3478680" cy="503352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p1,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*p1,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=*p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1=*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p2=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int a,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nf("%d,%d",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a=%d,b=%d\n”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“swapped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p(&amp;a,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”a=%d,b=%d\n",a,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rId1"/>
          </p:cNvPr>
          <p:cNvSpPr/>
          <p:nvPr/>
        </p:nvSpPr>
        <p:spPr>
          <a:xfrm>
            <a:off x="228600" y="5943600"/>
            <a:ext cx="533520" cy="685800"/>
          </a:xfrm>
          <a:custGeom>
            <a:avLst/>
            <a:gdLst>
              <a:gd name="textAreaLeft" fmla="*/ 69840 w 533520"/>
              <a:gd name="textAreaRight" fmla="*/ 463680 w 53352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18771" y="2829"/>
                </a:lnTo>
                <a:lnTo>
                  <a:pt x="2829" y="2829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18771" y="24932"/>
                </a:lnTo>
                <a:lnTo>
                  <a:pt x="18771" y="2829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2829" y="24932"/>
                </a:lnTo>
                <a:lnTo>
                  <a:pt x="18771" y="24932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2829" y="2829"/>
                </a:lnTo>
                <a:lnTo>
                  <a:pt x="2829" y="24932"/>
                </a:lnTo>
                <a:close/>
              </a:path>
              <a:path fill="darkenLess" w="21600" h="27761">
                <a:moveTo>
                  <a:pt x="6113" y="8102"/>
                </a:moveTo>
                <a:lnTo>
                  <a:pt x="12047" y="8102"/>
                </a:lnTo>
                <a:lnTo>
                  <a:pt x="15487" y="11069"/>
                </a:lnTo>
                <a:lnTo>
                  <a:pt x="15487" y="19659"/>
                </a:lnTo>
                <a:lnTo>
                  <a:pt x="6113" y="19659"/>
                </a:lnTo>
                <a:close/>
              </a:path>
              <a:path fill="darken" w="21600" h="27761">
                <a:moveTo>
                  <a:pt x="12047" y="8102"/>
                </a:moveTo>
                <a:lnTo>
                  <a:pt x="15487" y="11069"/>
                </a:lnTo>
                <a:lnTo>
                  <a:pt x="12047" y="110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89880" y="541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交换两个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411880" y="684720"/>
            <a:ext cx="3201840" cy="685080"/>
            <a:chOff x="5411880" y="684720"/>
            <a:chExt cx="3201840" cy="685080"/>
          </a:xfrm>
        </p:grpSpPr>
        <p:grpSp>
          <p:nvGrpSpPr>
            <p:cNvPr id="657" name=""/>
            <p:cNvGrpSpPr/>
            <p:nvPr/>
          </p:nvGrpSpPr>
          <p:grpSpPr>
            <a:xfrm>
              <a:off x="6477120" y="685080"/>
              <a:ext cx="688680" cy="659520"/>
              <a:chOff x="6477120" y="685080"/>
              <a:chExt cx="688680" cy="659520"/>
            </a:xfrm>
          </p:grpSpPr>
          <p:sp>
            <p:nvSpPr>
              <p:cNvPr id="658" name=""/>
              <p:cNvSpPr/>
              <p:nvPr/>
            </p:nvSpPr>
            <p:spPr>
              <a:xfrm>
                <a:off x="6738840" y="68508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77120" y="9748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924680" y="684720"/>
              <a:ext cx="689040" cy="685080"/>
              <a:chOff x="7924680" y="684720"/>
              <a:chExt cx="689040" cy="685080"/>
            </a:xfrm>
          </p:grpSpPr>
          <p:sp>
            <p:nvSpPr>
              <p:cNvPr id="661" name=""/>
              <p:cNvSpPr/>
              <p:nvPr/>
            </p:nvSpPr>
            <p:spPr>
              <a:xfrm>
                <a:off x="7924680" y="100008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111520" y="68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411880" y="837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前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46920" y="1523160"/>
            <a:ext cx="3390480" cy="1675800"/>
            <a:chOff x="5146920" y="1523160"/>
            <a:chExt cx="3390480" cy="1675800"/>
          </a:xfrm>
        </p:grpSpPr>
        <p:grpSp>
          <p:nvGrpSpPr>
            <p:cNvPr id="665" name=""/>
            <p:cNvGrpSpPr/>
            <p:nvPr/>
          </p:nvGrpSpPr>
          <p:grpSpPr>
            <a:xfrm>
              <a:off x="7848720" y="1599120"/>
              <a:ext cx="688680" cy="669240"/>
              <a:chOff x="7848720" y="1599120"/>
              <a:chExt cx="688680" cy="669240"/>
            </a:xfrm>
          </p:grpSpPr>
          <p:sp>
            <p:nvSpPr>
              <p:cNvPr id="666" name=""/>
              <p:cNvSpPr/>
              <p:nvPr/>
            </p:nvSpPr>
            <p:spPr>
              <a:xfrm>
                <a:off x="8081640" y="1599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48720" y="189864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7848720" y="2513880"/>
              <a:ext cx="688680" cy="685080"/>
              <a:chOff x="7848720" y="2513880"/>
              <a:chExt cx="688680" cy="685080"/>
            </a:xfrm>
          </p:grpSpPr>
          <p:sp>
            <p:nvSpPr>
              <p:cNvPr id="669" name=""/>
              <p:cNvSpPr/>
              <p:nvPr/>
            </p:nvSpPr>
            <p:spPr>
              <a:xfrm>
                <a:off x="7848720" y="2828880"/>
                <a:ext cx="688680" cy="37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035200" y="2513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146920" y="2284920"/>
              <a:ext cx="113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620040" y="1523160"/>
              <a:ext cx="688680" cy="767520"/>
              <a:chOff x="6620040" y="1523160"/>
              <a:chExt cx="688680" cy="767520"/>
            </a:xfrm>
          </p:grpSpPr>
          <p:sp>
            <p:nvSpPr>
              <p:cNvPr id="673" name=""/>
              <p:cNvSpPr/>
              <p:nvPr/>
            </p:nvSpPr>
            <p:spPr>
              <a:xfrm>
                <a:off x="6742800" y="1523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20040" y="1927080"/>
                <a:ext cx="688680" cy="36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629400" y="2437200"/>
              <a:ext cx="688680" cy="720000"/>
              <a:chOff x="6629400" y="2437200"/>
              <a:chExt cx="688680" cy="720000"/>
            </a:xfrm>
          </p:grpSpPr>
          <p:sp>
            <p:nvSpPr>
              <p:cNvPr id="676" name=""/>
              <p:cNvSpPr/>
              <p:nvPr/>
            </p:nvSpPr>
            <p:spPr>
              <a:xfrm>
                <a:off x="6629400" y="2787480"/>
                <a:ext cx="68868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amp;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38120" y="24372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7315200" y="2057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1520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92800" y="3199320"/>
            <a:ext cx="3144600" cy="1675080"/>
            <a:chOff x="5392800" y="3199320"/>
            <a:chExt cx="3144600" cy="1675080"/>
          </a:xfrm>
        </p:grpSpPr>
        <p:grpSp>
          <p:nvGrpSpPr>
            <p:cNvPr id="681" name=""/>
            <p:cNvGrpSpPr/>
            <p:nvPr/>
          </p:nvGrpSpPr>
          <p:grpSpPr>
            <a:xfrm>
              <a:off x="5392800" y="3199320"/>
              <a:ext cx="3144600" cy="1675080"/>
              <a:chOff x="5392800" y="3199320"/>
              <a:chExt cx="3144600" cy="167508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7848720" y="3275280"/>
                <a:ext cx="688680" cy="668520"/>
                <a:chOff x="7848720" y="3275280"/>
                <a:chExt cx="688680" cy="6685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8081640" y="327528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48720" y="3574440"/>
                  <a:ext cx="688680" cy="36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48720" y="4189680"/>
                <a:ext cx="688680" cy="684720"/>
                <a:chOff x="7848720" y="4189680"/>
                <a:chExt cx="688680" cy="6847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7848720" y="450468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035200" y="4189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5392800" y="39610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交换：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620040" y="3199320"/>
                <a:ext cx="688680" cy="767160"/>
                <a:chOff x="6620040" y="3199320"/>
                <a:chExt cx="688680" cy="7671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742800" y="319932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20040" y="3603240"/>
                  <a:ext cx="688680" cy="36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629400" y="4113360"/>
                <a:ext cx="688680" cy="720000"/>
                <a:chOff x="6629400" y="4113360"/>
                <a:chExt cx="688680" cy="7200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629400" y="4463640"/>
                  <a:ext cx="688680" cy="36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&amp;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738120" y="4113360"/>
                  <a:ext cx="43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7315200" y="373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15200" y="4647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8381880" y="3962520"/>
              <a:ext cx="0" cy="533160"/>
            </a:xfrm>
            <a:prstGeom prst="line">
              <a:avLst/>
            </a:prstGeom>
            <a:ln w="9360">
              <a:solidFill>
                <a:srgbClr val="e4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411880" y="5104440"/>
            <a:ext cx="3201840" cy="685080"/>
            <a:chOff x="5411880" y="5104440"/>
            <a:chExt cx="3201840" cy="685080"/>
          </a:xfrm>
        </p:grpSpPr>
        <p:grpSp>
          <p:nvGrpSpPr>
            <p:cNvPr id="699" name=""/>
            <p:cNvGrpSpPr/>
            <p:nvPr/>
          </p:nvGrpSpPr>
          <p:grpSpPr>
            <a:xfrm>
              <a:off x="6477120" y="5104440"/>
              <a:ext cx="688680" cy="659160"/>
              <a:chOff x="6477120" y="5104440"/>
              <a:chExt cx="688680" cy="659160"/>
            </a:xfrm>
          </p:grpSpPr>
          <p:sp>
            <p:nvSpPr>
              <p:cNvPr id="700" name=""/>
              <p:cNvSpPr/>
              <p:nvPr/>
            </p:nvSpPr>
            <p:spPr>
              <a:xfrm>
                <a:off x="6738840" y="51044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77120" y="5394240"/>
                <a:ext cx="68868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924680" y="5104440"/>
              <a:ext cx="689040" cy="685080"/>
              <a:chOff x="7924680" y="5104440"/>
              <a:chExt cx="689040" cy="685080"/>
            </a:xfrm>
          </p:grpSpPr>
          <p:sp>
            <p:nvSpPr>
              <p:cNvPr id="703" name=""/>
              <p:cNvSpPr/>
              <p:nvPr/>
            </p:nvSpPr>
            <p:spPr>
              <a:xfrm>
                <a:off x="7924680" y="5419800"/>
                <a:ext cx="689040" cy="36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111520" y="510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411880" y="5256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返回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96960" y="264960"/>
            <a:ext cx="136548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00"/>
                </a:solidFill>
                <a:latin typeface="Arial"/>
              </a:rPr>
              <a:t>例子图解</a:t>
            </a:r>
            <a:endParaRPr b="0" lang="en-US" sz="2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253800" y="167760"/>
            <a:ext cx="8570520" cy="6677640"/>
            <a:chOff x="253800" y="167760"/>
            <a:chExt cx="8570520" cy="6677640"/>
          </a:xfrm>
        </p:grpSpPr>
        <p:sp>
          <p:nvSpPr>
            <p:cNvPr id="708" name=""/>
            <p:cNvSpPr/>
            <p:nvPr/>
          </p:nvSpPr>
          <p:spPr>
            <a:xfrm>
              <a:off x="253800" y="167760"/>
              <a:ext cx="4101840" cy="667764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Times New Roman"/>
                </a:rPr>
                <a:t>#include &lt;stdio.h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int n1,n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nf("%d,%d",&amp;n1,&amp;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sum(n1,n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ntf("a=%1d",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sum(int a,int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c1,c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=factorial(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2=factorial(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c1+c2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600" y="1831320"/>
              <a:ext cx="2943720" cy="3385800"/>
            </a:xfrm>
            <a:prstGeom prst="rect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factorial(int 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    long rtn=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 i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(i=1;i&lt;=n;i+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n*=i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(rt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46280" y="2380320"/>
            <a:ext cx="3092400" cy="2669400"/>
            <a:chOff x="746280" y="2380320"/>
            <a:chExt cx="3092400" cy="2669400"/>
          </a:xfrm>
        </p:grpSpPr>
        <p:sp>
          <p:nvSpPr>
            <p:cNvPr id="711" name=""/>
            <p:cNvSpPr/>
            <p:nvPr/>
          </p:nvSpPr>
          <p:spPr>
            <a:xfrm>
              <a:off x="849240" y="2380320"/>
              <a:ext cx="29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sum(int a, int b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6280" y="4590000"/>
              <a:ext cx="28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long   factorial(int 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723760" y="238680"/>
            <a:ext cx="4186440" cy="398880"/>
            <a:chOff x="2723760" y="238680"/>
            <a:chExt cx="4186440" cy="398880"/>
          </a:xfrm>
        </p:grpSpPr>
        <p:sp>
          <p:nvSpPr>
            <p:cNvPr id="714" name=""/>
            <p:cNvSpPr/>
            <p:nvPr/>
          </p:nvSpPr>
          <p:spPr>
            <a:xfrm>
              <a:off x="5052960" y="238680"/>
              <a:ext cx="18572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文件包含编译预处理命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723760" y="361800"/>
              <a:ext cx="177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522240" y="790920"/>
            <a:ext cx="2587680" cy="398880"/>
            <a:chOff x="3522240" y="790920"/>
            <a:chExt cx="2587680" cy="398880"/>
          </a:xfrm>
        </p:grpSpPr>
        <p:sp>
          <p:nvSpPr>
            <p:cNvPr id="717" name=""/>
            <p:cNvSpPr/>
            <p:nvPr/>
          </p:nvSpPr>
          <p:spPr>
            <a:xfrm>
              <a:off x="5014800" y="790920"/>
              <a:ext cx="109512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22240" y="971640"/>
              <a:ext cx="118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38600" y="3953160"/>
            <a:ext cx="2756880" cy="485640"/>
            <a:chOff x="2838600" y="3953160"/>
            <a:chExt cx="2756880" cy="485640"/>
          </a:xfrm>
        </p:grpSpPr>
        <p:sp>
          <p:nvSpPr>
            <p:cNvPr id="720" name=""/>
            <p:cNvSpPr/>
            <p:nvPr/>
          </p:nvSpPr>
          <p:spPr>
            <a:xfrm>
              <a:off x="4805280" y="3953160"/>
              <a:ext cx="7902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定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838600" y="4133880"/>
              <a:ext cx="175248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800080" y="3172320"/>
            <a:ext cx="1481040" cy="2742120"/>
            <a:chOff x="2800080" y="3172320"/>
            <a:chExt cx="1481040" cy="2742120"/>
          </a:xfrm>
        </p:grpSpPr>
        <p:grpSp>
          <p:nvGrpSpPr>
            <p:cNvPr id="723" name=""/>
            <p:cNvGrpSpPr/>
            <p:nvPr/>
          </p:nvGrpSpPr>
          <p:grpSpPr>
            <a:xfrm>
              <a:off x="2819160" y="3172320"/>
              <a:ext cx="1461960" cy="398880"/>
              <a:chOff x="2819160" y="3172320"/>
              <a:chExt cx="1461960" cy="398880"/>
            </a:xfrm>
          </p:grpSpPr>
          <p:sp>
            <p:nvSpPr>
              <p:cNvPr id="724" name=""/>
              <p:cNvSpPr/>
              <p:nvPr/>
            </p:nvSpPr>
            <p:spPr>
              <a:xfrm>
                <a:off x="3490920" y="317232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819160" y="333360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800080" y="5515560"/>
              <a:ext cx="1461960" cy="398880"/>
              <a:chOff x="2800080" y="5515560"/>
              <a:chExt cx="1461960" cy="398880"/>
            </a:xfrm>
          </p:grpSpPr>
          <p:sp>
            <p:nvSpPr>
              <p:cNvPr id="727" name=""/>
              <p:cNvSpPr/>
              <p:nvPr/>
            </p:nvSpPr>
            <p:spPr>
              <a:xfrm>
                <a:off x="3471840" y="5515560"/>
                <a:ext cx="790200" cy="398880"/>
              </a:xfrm>
              <a:prstGeom prst="rect">
                <a:avLst/>
              </a:prstGeom>
              <a:noFill/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函数调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800080" y="5676480"/>
                <a:ext cx="476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2590560" y="6086880"/>
            <a:ext cx="1879560" cy="398880"/>
            <a:chOff x="2590560" y="6086880"/>
            <a:chExt cx="1879560" cy="398880"/>
          </a:xfrm>
        </p:grpSpPr>
        <p:sp>
          <p:nvSpPr>
            <p:cNvPr id="730" name=""/>
            <p:cNvSpPr/>
            <p:nvPr/>
          </p:nvSpPr>
          <p:spPr>
            <a:xfrm>
              <a:off x="3527280" y="6086880"/>
              <a:ext cx="9428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返回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2590560" y="6305400"/>
              <a:ext cx="685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71840" y="4571640"/>
            <a:ext cx="2063520" cy="428400"/>
            <a:chOff x="2571840" y="4571640"/>
            <a:chExt cx="2063520" cy="428400"/>
          </a:xfrm>
        </p:grpSpPr>
        <p:sp>
          <p:nvSpPr>
            <p:cNvPr id="733" name=""/>
            <p:cNvSpPr/>
            <p:nvPr/>
          </p:nvSpPr>
          <p:spPr>
            <a:xfrm>
              <a:off x="4149720" y="4601160"/>
              <a:ext cx="485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71840" y="4571640"/>
              <a:ext cx="146664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0" y="3296160"/>
            <a:ext cx="2095560" cy="398880"/>
            <a:chOff x="0" y="3296160"/>
            <a:chExt cx="2095560" cy="398880"/>
          </a:xfrm>
        </p:grpSpPr>
        <p:sp>
          <p:nvSpPr>
            <p:cNvPr id="736" name=""/>
            <p:cNvSpPr/>
            <p:nvPr/>
          </p:nvSpPr>
          <p:spPr>
            <a:xfrm>
              <a:off x="0" y="3296160"/>
              <a:ext cx="70164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实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040" y="3524400"/>
              <a:ext cx="1352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338880" y="5902200"/>
            <a:ext cx="178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例子解析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04800" y="10886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嵌套调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规定：函数定义不可嵌套，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可以嵌套调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023200" y="2208960"/>
            <a:ext cx="4830120" cy="2578320"/>
            <a:chOff x="2023200" y="2208960"/>
            <a:chExt cx="4830120" cy="2578320"/>
          </a:xfrm>
        </p:grpSpPr>
        <p:sp>
          <p:nvSpPr>
            <p:cNvPr id="741" name=""/>
            <p:cNvSpPr/>
            <p:nvPr/>
          </p:nvSpPr>
          <p:spPr>
            <a:xfrm>
              <a:off x="2023200" y="220896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9720" y="3245400"/>
              <a:ext cx="96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29040" y="4388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32160" y="225504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60240" y="22550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28400" y="332172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06960" y="2560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06960" y="3627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245040" y="26370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88040" y="2789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88040" y="3703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3168360" y="362736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150160" y="26370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9120" y="27892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073480" y="362736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99480" y="2788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27160" y="2712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87680" y="286452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8760" y="286452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48680" y="324540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31760" y="408384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91280" y="385524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01280" y="39312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9680" y="377892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628560" y="64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嵌套与递归调用</a:t>
            </a: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0320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2680" y="882720"/>
            <a:ext cx="3596040" cy="298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ax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min(int x,int y,int 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oid main(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int a,b,c,d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anf("%d%d%d",&amp;a,&amp;b,&amp;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=dif(a,b,c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tf("Max-Min=%d\n",d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1800" y="743040"/>
            <a:ext cx="3672360" cy="3567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int dif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33"/>
                </a:solidFill>
                <a:latin typeface="Verdana"/>
              </a:rPr>
              <a:t>{  return max(x,y,z)-min(x,y,z);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int max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{ 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=x&g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return(r&g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 min(int x,int y,int z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   int 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=x&lt;y?x:y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turn(r&lt;z?r:z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73520" y="4688640"/>
            <a:ext cx="4801680" cy="2170440"/>
            <a:chOff x="173520" y="4688640"/>
            <a:chExt cx="4801680" cy="2170440"/>
          </a:xfrm>
        </p:grpSpPr>
        <p:sp>
          <p:nvSpPr>
            <p:cNvPr id="770" name=""/>
            <p:cNvSpPr/>
            <p:nvPr/>
          </p:nvSpPr>
          <p:spPr>
            <a:xfrm>
              <a:off x="202320" y="46886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3520" y="5417280"/>
              <a:ext cx="113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1440" y="61552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输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结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37120" y="47203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89880" y="473472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64240" y="5471280"/>
              <a:ext cx="128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6080" y="499572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080" y="574524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428840" y="5048280"/>
              <a:ext cx="1149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78320" y="515628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78320" y="621504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1352520" y="5744880"/>
              <a:ext cx="1206720" cy="11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600" y="5794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调用函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62560" y="5105520"/>
              <a:ext cx="74304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48360" y="5238720"/>
              <a:ext cx="0" cy="62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3505320" y="5714640"/>
              <a:ext cx="781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43480" y="5981760"/>
              <a:ext cx="7239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91120" y="6229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3524040" y="60577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71880" y="5763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求三个数中最大数和最小数的差值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8320" y="22176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概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62080" y="1028520"/>
            <a:ext cx="85183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模块化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基本思想：将一个大的程序按功能分割成一些小模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各模块相对独立、功能单一、结构清晰、接口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控制了程序设计的复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提高元件的可靠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缩短开发周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避免程序开发的重复劳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易于维护和功能扩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开发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自上向下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逐步分解，分而治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47680" y="69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函数直接或间接的调用自身叫函数的递归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104560" y="3345480"/>
            <a:ext cx="862920" cy="1892880"/>
            <a:chOff x="2104560" y="3345480"/>
            <a:chExt cx="862920" cy="1892880"/>
          </a:xfrm>
        </p:grpSpPr>
        <p:sp>
          <p:nvSpPr>
            <p:cNvPr id="793" name=""/>
            <p:cNvSpPr/>
            <p:nvPr/>
          </p:nvSpPr>
          <p:spPr>
            <a:xfrm>
              <a:off x="2466720" y="33454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31440" y="483948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4760" y="3773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104560" y="4992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2104920" y="3544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04920" y="3544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153320" y="3316320"/>
            <a:ext cx="2265120" cy="1998000"/>
            <a:chOff x="4153320" y="3316320"/>
            <a:chExt cx="2265120" cy="1998000"/>
          </a:xfrm>
        </p:grpSpPr>
        <p:sp>
          <p:nvSpPr>
            <p:cNvPr id="800" name=""/>
            <p:cNvSpPr/>
            <p:nvPr/>
          </p:nvSpPr>
          <p:spPr>
            <a:xfrm>
              <a:off x="4153320" y="491544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80360" y="491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调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064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68560" y="35438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7360" y="39258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4665960" y="38491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85280" y="4002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13880" y="514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18440" y="3316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437000" y="3316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37360" y="331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81160" y="5133960"/>
            <a:ext cx="88628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译系统对递归函数的自调用次数没有限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每调用函数一次，在内存堆栈区分配空间，用于存放函数变量、返回值等信息，所以递归次数过多，可能引起堆栈溢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32240" y="1211400"/>
            <a:ext cx="1720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y,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f(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2*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00960" y="1152360"/>
            <a:ext cx="4258080" cy="2246040"/>
            <a:chOff x="3900960" y="1152360"/>
            <a:chExt cx="4258080" cy="2246040"/>
          </a:xfrm>
        </p:grpSpPr>
        <p:sp>
          <p:nvSpPr>
            <p:cNvPr id="814" name=""/>
            <p:cNvSpPr/>
            <p:nvPr/>
          </p:nvSpPr>
          <p:spPr>
            <a:xfrm>
              <a:off x="3900960" y="1170000"/>
              <a:ext cx="17200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1(int 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y,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f2(y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2*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3840" y="1152360"/>
              <a:ext cx="1735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2(int 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a,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=f1(a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3+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292720" y="1411200"/>
              <a:ext cx="121608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5238360" y="1376280"/>
              <a:ext cx="13064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递归调用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96880" y="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68280" y="2336760"/>
                <a:ext cx="3148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,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305600" y="225360"/>
            <a:ext cx="4580640" cy="5946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 fac(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n&lt;0)  printf("n&lt;0,data error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(n==0||n==1)  f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f=fac(n-1)*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int n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Input a integer number: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"%d",&amp;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=fac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%d! =%15d",n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02960" y="217440"/>
            <a:ext cx="309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的阶乘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457200"/>
            <a:ext cx="544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09760" y="1162080"/>
            <a:ext cx="5511600" cy="3830400"/>
            <a:chOff x="1409760" y="1162080"/>
            <a:chExt cx="5511600" cy="3830400"/>
          </a:xfrm>
        </p:grpSpPr>
        <p:graphicFrame>
          <p:nvGraphicFramePr>
            <p:cNvPr id="522" name=""/>
            <p:cNvGraphicFramePr/>
            <p:nvPr/>
          </p:nvGraphicFramePr>
          <p:xfrm>
            <a:off x="1409760" y="1162080"/>
            <a:ext cx="5511600" cy="335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9760" y="1162080"/>
                      <a:ext cx="5511600" cy="33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3379680" y="45327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C</a:t>
              </a:r>
              <a:r>
                <a:rPr b="0" lang="en-US" sz="2400" spc="-1" strike="noStrike">
                  <a:solidFill>
                    <a:srgbClr val="dddddd"/>
                  </a:solidFill>
                  <a:latin typeface="隶书"/>
                  <a:ea typeface="隶书"/>
                </a:rPr>
                <a:t>程序结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481400" y="4841280"/>
            <a:ext cx="543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必须有且只能有一个名为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的主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程序的执行总是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从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函数开始，在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main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中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函数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不能嵌套定义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ffe2c5"/>
                </a:solidFill>
                <a:latin typeface="隶书"/>
                <a:ea typeface="隶书"/>
              </a:rPr>
              <a:t>可以嵌套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9960" y="330120"/>
            <a:ext cx="8066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是模块化程序设计语言</a:t>
            </a:r>
            <a:br>
              <a:rPr sz="2400"/>
            </a:b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18600" y="903240"/>
            <a:ext cx="85662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用户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标准函数（库函数）：由系统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用户自定义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从函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无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有参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20560" y="3335400"/>
            <a:ext cx="182664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使用库函数应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参数的数目和顺序，及各参数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函数返回值意义和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、需要使用的包含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函数分类</a:t>
            </a:r>
            <a:br>
              <a:rPr sz="3200"/>
            </a:b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99520" y="358920"/>
            <a:ext cx="47689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一般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07400" y="803160"/>
            <a:ext cx="1339560" cy="566640"/>
          </a:xfrm>
          <a:prstGeom prst="wedgeEllipseCallout">
            <a:avLst>
              <a:gd name="adj1" fmla="val -223694"/>
              <a:gd name="adj2" fmla="val 136537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合法标识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06080" y="64800"/>
            <a:ext cx="1854720" cy="1432800"/>
          </a:xfrm>
          <a:prstGeom prst="wedgeEllipseCallout">
            <a:avLst>
              <a:gd name="adj1" fmla="val -86347"/>
              <a:gd name="adj2" fmla="val 8087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返回值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缺省</a:t>
            </a:r>
            <a:r>
              <a:rPr b="0" lang="en-US" sz="2000" spc="-1" strike="noStrike">
                <a:solidFill>
                  <a:srgbClr val="ffe2c5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无返回值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9120" y="2231280"/>
            <a:ext cx="906480" cy="566640"/>
          </a:xfrm>
          <a:prstGeom prst="wedgeEllipseCallout">
            <a:avLst>
              <a:gd name="adj1" fmla="val -138842"/>
              <a:gd name="adj2" fmla="val 69490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30080" y="1808640"/>
            <a:ext cx="5700960" cy="1751760"/>
            <a:chOff x="730080" y="1808640"/>
            <a:chExt cx="5700960" cy="1751760"/>
          </a:xfrm>
        </p:grpSpPr>
        <p:sp>
          <p:nvSpPr>
            <p:cNvPr id="535" name=""/>
            <p:cNvSpPr/>
            <p:nvPr/>
          </p:nvSpPr>
          <p:spPr>
            <a:xfrm>
              <a:off x="3484440" y="1941840"/>
              <a:ext cx="2946600" cy="161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表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0080" y="180864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现代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801960" y="3996000"/>
            <a:ext cx="223524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现代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int x,int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606840" y="3919680"/>
            <a:ext cx="2317680" cy="1923480"/>
            <a:chOff x="3606840" y="3919680"/>
            <a:chExt cx="2317680" cy="1923480"/>
          </a:xfrm>
        </p:grpSpPr>
        <p:sp>
          <p:nvSpPr>
            <p:cNvPr id="539" name=""/>
            <p:cNvSpPr/>
            <p:nvPr/>
          </p:nvSpPr>
          <p:spPr>
            <a:xfrm>
              <a:off x="3606840" y="3919680"/>
              <a:ext cx="2053800" cy="1923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有参函数（现代风格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 max(</a:t>
              </a: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int x, 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  int z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x&gt;y?x: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urn(z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581800" y="5238720"/>
              <a:ext cx="342720" cy="30456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9040" y="5143320"/>
              <a:ext cx="209520" cy="438120"/>
            </a:xfrm>
            <a:prstGeom prst="line">
              <a:avLst/>
            </a:prstGeom>
            <a:ln w="38160">
              <a:solidFill>
                <a:srgbClr val="ffe2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909960" y="4195800"/>
            <a:ext cx="2988720" cy="1611720"/>
            <a:chOff x="3909960" y="4195800"/>
            <a:chExt cx="2988720" cy="1611720"/>
          </a:xfrm>
        </p:grpSpPr>
        <p:sp>
          <p:nvSpPr>
            <p:cNvPr id="543" name=""/>
            <p:cNvSpPr/>
            <p:nvPr/>
          </p:nvSpPr>
          <p:spPr>
            <a:xfrm>
              <a:off x="3909960" y="4195800"/>
              <a:ext cx="132372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例 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空函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mmy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 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9120" y="5240880"/>
              <a:ext cx="1339560" cy="566640"/>
            </a:xfrm>
            <a:prstGeom prst="wedgeEllipseCallout">
              <a:avLst>
                <a:gd name="adj1" fmla="val -112490"/>
                <a:gd name="adj2" fmla="val -78444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体为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000240" y="4097520"/>
            <a:ext cx="3384360" cy="19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无参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tar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printf(“**********\n”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347400" y="304560"/>
            <a:ext cx="37782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函数的定义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451160" y="798840"/>
            <a:ext cx="4554000" cy="1923480"/>
            <a:chOff x="1451160" y="798840"/>
            <a:chExt cx="4554000" cy="1923480"/>
          </a:xfrm>
        </p:grpSpPr>
        <p:sp>
          <p:nvSpPr>
            <p:cNvPr id="548" name=""/>
            <p:cNvSpPr/>
            <p:nvPr/>
          </p:nvSpPr>
          <p:spPr>
            <a:xfrm>
              <a:off x="3668040" y="798840"/>
              <a:ext cx="2337120" cy="192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函数类型     函数名（形参表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形参类型说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说明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语句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e2c5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51160" y="81756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传统风格</a:t>
              </a:r>
              <a:r>
                <a:rPr b="0" lang="en-US" sz="24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605400" y="3335400"/>
            <a:ext cx="205380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例   有参函数（传统风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x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 x,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   int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4172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函数传统风格和例子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1" dur="1" fill="hold"/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返回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形式：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表达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功能：使程序控制从被调用函数返回到调用函数中，同时把返值带给调用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函数中可有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，遇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时，自动返回调用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若函数类型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语句中表达式值的类型不一致，按前者为准，自动转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en-US" sz="2000" spc="-1" strike="noStrike">
                <a:solidFill>
                  <a:srgbClr val="ffe2c5"/>
                </a:solidFill>
                <a:latin typeface="Arial"/>
              </a:rPr>
              <a:t>函数调用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型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84800" y="590400"/>
            <a:ext cx="3190320" cy="2654280"/>
          </a:xfrm>
          <a:prstGeom prst="rect">
            <a:avLst/>
          </a:prstGeom>
          <a:solidFill>
            <a:srgbClr val="e1fff7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例   无返回值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e2c5"/>
                </a:solidFill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wap(int x,int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int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298440" y="360000"/>
            <a:ext cx="677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返回值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1" dur="1" fill="hold"/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调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实参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与形参个数相等，类型一致，按顺序一一对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实参表求值顺序，因系统而定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C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自右向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8440" y="396720"/>
            <a:ext cx="76183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函数的调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558" name=""/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560" name=""/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1" name="CAMERA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st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Hello,World!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表达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函数参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例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%d”,max(a,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max(a,max(b,c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708120" y="345960"/>
            <a:ext cx="8067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函数的调用方式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11-07T12:43:10Z</dcterms:modified>
  <cp:revision>871</cp:revision>
  <dc:subject/>
  <dc:title>第六章  函数</dc:title>
</cp:coreProperties>
</file>