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523-7822-4331-BF74-3A4B5D00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E65-1767-4403-9F98-5066D668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132-42BB-4FBC-887D-EDB053C0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345-0D4F-480E-8552-B8BD5148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DDA-D9BA-4660-9E4F-96D69834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F6F-9179-46CE-B575-317D9273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4E4-4DA3-43A7-8AF0-35A81A57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D23-88B5-4EC4-B9BE-CDB7C554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C1B-B629-45D0-BA32-6C4BE660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903-DC1E-45BF-A0A6-F66EEFF7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7A3-07B6-4B79-91A0-4C40F17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B02-9B67-48FC-8616-4773FC25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2526-4277-4B1F-A9F1-AD3F325C85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 Light"/>
              </a:rPr>
              <a:t>该文件是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3200" spc="-1" strike="noStrike">
                <a:solidFill>
                  <a:srgbClr val="ff0000"/>
                </a:solidFill>
                <a:latin typeface="Calibri Light"/>
              </a:rPr>
              <a:t>安全文档，请使用支持安全文档格式的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3200" spc="-1" strike="noStrike">
                <a:solidFill>
                  <a:srgbClr val="ff0000"/>
                </a:solidFill>
                <a:latin typeface="Calibri Light"/>
              </a:rPr>
              <a:t>客户端打开，若使用“停止保护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Calibri Light"/>
              </a:rPr>
              <a:t>功能进行编辑，将破坏文档内容，请谨慎操作。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4T13:02:08Z</dcterms:created>
  <dc:creator/>
  <dc:description/>
  <dc:language>en-US</dc:language>
  <cp:lastModifiedBy/>
  <dcterms:modified xsi:type="dcterms:W3CDTF">2016-05-21T03:15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