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5.wmf" ContentType="image/x-wmf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自定义放映 1" id="0">
      <p:sldLst>
        <p:sld r:id="rId50"/>
        <p:sld r:id="rId33"/>
        <p:sld r:id="rId5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6C4-5279-4B68-8F26-BFA55662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7DF-17D3-491C-940D-CB75D55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5EF-7354-4750-BB93-3E835B17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935-9C58-47CC-A4F3-3C6175C1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39E-7D46-4487-86F4-19E96429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2D7-96AD-4014-B80B-17CAAB71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23C-6BD2-4019-AD04-D5B044D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065-7AEC-41D0-B15D-F064284C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206-2198-4493-906A-97FC47B1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5EE-ADBF-428A-88BB-60226BB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975-5E4B-40FD-84C7-67123B3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5D3-6DF5-4715-9A0D-788D570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5E7F-EF48-4D4E-98FD-1244692B21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2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4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4.xm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" Target="slide23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.xml"/><Relationship Id="rId3" Type="http://schemas.openxmlformats.org/officeDocument/2006/relationships/slide" Target="slide25.xml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8.xml"/><Relationship Id="rId3" Type="http://schemas.openxmlformats.org/officeDocument/2006/relationships/slide" Target="slide1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slide" Target="slide30.xml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4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4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4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2000" y="3699000"/>
            <a:ext cx="3546360" cy="72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rId2" action="ppaction://hlinksldjump"/>
          </p:cNvPr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20000" cy="450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08000" y="3339720"/>
            <a:ext cx="1592280" cy="368640"/>
          </a:xfrm>
          <a:prstGeom prst="wedgeRectCallout">
            <a:avLst>
              <a:gd name="adj1" fmla="val 95249"/>
              <a:gd name="adj2" fmla="val -51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里直接修改学制的年数（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108000" y="5154480"/>
            <a:ext cx="1657440" cy="368640"/>
          </a:xfrm>
          <a:prstGeom prst="wedgeRectCallout">
            <a:avLst>
              <a:gd name="adj1" fmla="val 177185"/>
              <a:gd name="adj2" fmla="val -460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108000" y="5936400"/>
            <a:ext cx="1403280" cy="642600"/>
          </a:xfrm>
          <a:prstGeom prst="wedgeRectCallout">
            <a:avLst>
              <a:gd name="adj1" fmla="val 236865"/>
              <a:gd name="adj2" fmla="val -38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5003640" y="6149160"/>
            <a:ext cx="649440" cy="368280"/>
          </a:xfrm>
          <a:prstGeom prst="wedgeRectCallout">
            <a:avLst>
              <a:gd name="adj1" fmla="val -20805"/>
              <a:gd name="adj2" fmla="val -70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8028000" y="3033720"/>
            <a:ext cx="936720" cy="915840"/>
          </a:xfrm>
          <a:prstGeom prst="wedgeRectCallout">
            <a:avLst>
              <a:gd name="adj1" fmla="val -148268"/>
              <a:gd name="adj2" fmla="val 214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08000" y="4433760"/>
            <a:ext cx="1592280" cy="368640"/>
          </a:xfrm>
          <a:prstGeom prst="wedgeRectCallout">
            <a:avLst>
              <a:gd name="adj1" fmla="val 94347"/>
              <a:gd name="adj2" fmla="val -31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下面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4932360" y="330840"/>
            <a:ext cx="2664000" cy="642600"/>
          </a:xfrm>
          <a:prstGeom prst="wedgeRectCallout">
            <a:avLst>
              <a:gd name="adj1" fmla="val -106546"/>
              <a:gd name="adj2" fmla="val 19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”课程及位置位置尽量不排“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2124000" y="5947200"/>
            <a:ext cx="2789280" cy="641520"/>
          </a:xfrm>
          <a:prstGeom prst="wedgeRectCallout">
            <a:avLst>
              <a:gd name="adj1" fmla="val 23222"/>
              <a:gd name="adj2" fmla="val -136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级数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40162"/>
              <a:gd name="adj2" fmla="val 5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724360" y="6111720"/>
            <a:ext cx="2160720" cy="368640"/>
          </a:xfrm>
          <a:prstGeom prst="wedgeRectCallout">
            <a:avLst>
              <a:gd name="adj1" fmla="val 7870"/>
              <a:gd name="adj2" fmla="val -594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8028000" y="668880"/>
            <a:ext cx="934920" cy="642600"/>
          </a:xfrm>
          <a:prstGeom prst="wedgeRectCallout">
            <a:avLst>
              <a:gd name="adj1" fmla="val -244879"/>
              <a:gd name="adj2" fmla="val 294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1">
            <a:hlinkClick r:id="rId3" action="ppaction://hlinksldjump"/>
          </p:cNvPr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20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667640" cy="5664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156360" y="189000"/>
            <a:ext cx="1665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643280" y="4203360"/>
            <a:ext cx="3600720" cy="337320"/>
          </a:xfrm>
          <a:prstGeom prst="wedgeRectCallout">
            <a:avLst>
              <a:gd name="adj1" fmla="val -96865"/>
              <a:gd name="adj2" fmla="val -401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如果逐个输入则在此框输入需要添加的课程名称（最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字），回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372360" y="3411000"/>
            <a:ext cx="2520720" cy="337680"/>
          </a:xfrm>
          <a:prstGeom prst="wedgeRectCallout">
            <a:avLst>
              <a:gd name="adj1" fmla="val -128648"/>
              <a:gd name="adj2" fmla="val -150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课程简称，若不合适可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flipV="1" rot="10782000">
            <a:off x="6658920" y="2639520"/>
            <a:ext cx="2089080" cy="368640"/>
          </a:xfrm>
          <a:prstGeom prst="wedgeRectCallout">
            <a:avLst>
              <a:gd name="adj1" fmla="val 59837"/>
              <a:gd name="adj2" fmla="val 5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主科副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3203640" y="242640"/>
            <a:ext cx="2592360" cy="580680"/>
          </a:xfrm>
          <a:prstGeom prst="wedgeRectCallout">
            <a:avLst>
              <a:gd name="adj1" fmla="val -46337"/>
              <a:gd name="adj2" fmla="val 237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>
            <a:hlinkClick r:id="rId2" action="ppaction://hlinksldjump"/>
          </p:cNvPr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4716360" y="6053760"/>
            <a:ext cx="1440000" cy="368640"/>
          </a:xfrm>
          <a:prstGeom prst="wedgeRectCallout">
            <a:avLst>
              <a:gd name="adj1" fmla="val -145675"/>
              <a:gd name="adj2" fmla="val -19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输入该课程哪些节次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4"/>
          <p:cNvSpPr/>
          <p:nvPr/>
        </p:nvSpPr>
        <p:spPr>
          <a:xfrm>
            <a:off x="250920" y="364320"/>
            <a:ext cx="2232000" cy="337680"/>
          </a:xfrm>
          <a:prstGeom prst="wedgeRectCallout">
            <a:avLst>
              <a:gd name="adj1" fmla="val -35504"/>
              <a:gd name="adj2" fmla="val 71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，逐个输入还是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5"/>
          <p:cNvSpPr/>
          <p:nvPr/>
        </p:nvSpPr>
        <p:spPr>
          <a:xfrm>
            <a:off x="4643280" y="5010120"/>
            <a:ext cx="3384720" cy="368640"/>
          </a:xfrm>
          <a:prstGeom prst="wedgeRectCallout">
            <a:avLst>
              <a:gd name="adj1" fmla="val -125078"/>
              <a:gd name="adj2" fmla="val -185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课程名（最多６字）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2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15360" cy="5556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411280" y="5946480"/>
            <a:ext cx="1440000" cy="368640"/>
          </a:xfrm>
          <a:prstGeom prst="wedgeRectCallout">
            <a:avLst>
              <a:gd name="adj1" fmla="val -37328"/>
              <a:gd name="adj2" fmla="val -130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79280" y="394200"/>
            <a:ext cx="2737080" cy="368640"/>
          </a:xfrm>
          <a:prstGeom prst="wedgeRectCallout">
            <a:avLst>
              <a:gd name="adj1" fmla="val 19657"/>
              <a:gd name="adj2" fmla="val 487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215425"/>
              <a:gd name="adj2" fmla="val 62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85597"/>
              <a:gd name="adj2" fmla="val -9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>
            <a:hlinkClick r:id="rId2" action="ppaction://hlinksldjump"/>
          </p:cNvPr>
          <p:cNvSpPr/>
          <p:nvPr/>
        </p:nvSpPr>
        <p:spPr>
          <a:xfrm>
            <a:off x="8172360" y="6229080"/>
            <a:ext cx="887400" cy="423000"/>
          </a:xfrm>
          <a:custGeom>
            <a:avLst/>
            <a:gdLst>
              <a:gd name="textAreaLeft" fmla="*/ 27360 w 887400"/>
              <a:gd name="textAreaRight" fmla="*/ 860040 w 887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5294" h="21600">
                <a:moveTo>
                  <a:pt x="0" y="0"/>
                </a:moveTo>
                <a:lnTo>
                  <a:pt x="45294" y="0"/>
                </a:lnTo>
                <a:lnTo>
                  <a:pt x="45294" y="21600"/>
                </a:lnTo>
                <a:lnTo>
                  <a:pt x="0" y="21600"/>
                </a:lnTo>
                <a:close/>
              </a:path>
              <a:path fill="lightenLess" w="45294" h="21600">
                <a:moveTo>
                  <a:pt x="0" y="0"/>
                </a:moveTo>
                <a:lnTo>
                  <a:pt x="45294" y="0"/>
                </a:lnTo>
                <a:lnTo>
                  <a:pt x="43894" y="1400"/>
                </a:lnTo>
                <a:lnTo>
                  <a:pt x="1400" y="1400"/>
                </a:lnTo>
                <a:close/>
              </a:path>
              <a:path fill="darken" w="45294" h="21600">
                <a:moveTo>
                  <a:pt x="45294" y="0"/>
                </a:moveTo>
                <a:lnTo>
                  <a:pt x="45294" y="21600"/>
                </a:lnTo>
                <a:lnTo>
                  <a:pt x="43894" y="20200"/>
                </a:lnTo>
                <a:lnTo>
                  <a:pt x="43894" y="1400"/>
                </a:lnTo>
                <a:close/>
              </a:path>
              <a:path fill="darkenLess" w="45294" h="21600">
                <a:moveTo>
                  <a:pt x="45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894" y="20200"/>
                </a:lnTo>
                <a:close/>
              </a:path>
              <a:path fill="lighten" w="45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294" h="21600">
                <a:moveTo>
                  <a:pt x="15640" y="3794"/>
                </a:moveTo>
                <a:lnTo>
                  <a:pt x="29653" y="10800"/>
                </a:lnTo>
                <a:lnTo>
                  <a:pt x="156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4284720" y="1416600"/>
            <a:ext cx="4464000" cy="368640"/>
          </a:xfrm>
          <a:prstGeom prst="wedgeRectCallout">
            <a:avLst>
              <a:gd name="adj1" fmla="val -42180"/>
              <a:gd name="adj2" fmla="val 771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大中专职校的需要连排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3132000" y="242640"/>
            <a:ext cx="2592360" cy="580680"/>
          </a:xfrm>
          <a:prstGeom prst="wedgeRectCallout">
            <a:avLst>
              <a:gd name="adj1" fmla="val -14000"/>
              <a:gd name="adj2" fmla="val 24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>
            <a:hlinkClick r:id="rId3" action="ppaction://hlinksldjump"/>
          </p:cNvPr>
          <p:cNvSpPr/>
          <p:nvPr/>
        </p:nvSpPr>
        <p:spPr>
          <a:xfrm>
            <a:off x="6227640" y="6237360"/>
            <a:ext cx="917640" cy="452520"/>
          </a:xfrm>
          <a:custGeom>
            <a:avLst/>
            <a:gdLst>
              <a:gd name="textAreaLeft" fmla="*/ 29160 w 917640"/>
              <a:gd name="textAreaRight" fmla="*/ 888480 w 91764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3784" h="21600">
                <a:moveTo>
                  <a:pt x="0" y="0"/>
                </a:moveTo>
                <a:lnTo>
                  <a:pt x="43784" y="0"/>
                </a:lnTo>
                <a:lnTo>
                  <a:pt x="43784" y="21600"/>
                </a:lnTo>
                <a:lnTo>
                  <a:pt x="0" y="21600"/>
                </a:lnTo>
                <a:close/>
              </a:path>
              <a:path fill="lightenLess" w="43784" h="21600">
                <a:moveTo>
                  <a:pt x="0" y="0"/>
                </a:moveTo>
                <a:lnTo>
                  <a:pt x="43784" y="0"/>
                </a:lnTo>
                <a:lnTo>
                  <a:pt x="42384" y="1400"/>
                </a:lnTo>
                <a:lnTo>
                  <a:pt x="1400" y="1400"/>
                </a:lnTo>
                <a:close/>
              </a:path>
              <a:path fill="darken" w="43784" h="21600">
                <a:moveTo>
                  <a:pt x="43784" y="0"/>
                </a:moveTo>
                <a:lnTo>
                  <a:pt x="43784" y="21600"/>
                </a:lnTo>
                <a:lnTo>
                  <a:pt x="42384" y="20200"/>
                </a:lnTo>
                <a:lnTo>
                  <a:pt x="42384" y="1400"/>
                </a:lnTo>
                <a:close/>
              </a:path>
              <a:path fill="darkenLess" w="43784" h="21600">
                <a:moveTo>
                  <a:pt x="43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84" y="20200"/>
                </a:lnTo>
                <a:close/>
              </a:path>
              <a:path fill="lighten" w="43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84" h="21600">
                <a:moveTo>
                  <a:pt x="14885" y="10800"/>
                </a:moveTo>
                <a:lnTo>
                  <a:pt x="28898" y="3794"/>
                </a:lnTo>
                <a:lnTo>
                  <a:pt x="288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5076720" y="5655960"/>
            <a:ext cx="2089080" cy="368640"/>
          </a:xfrm>
          <a:prstGeom prst="wedgeRectCallout">
            <a:avLst>
              <a:gd name="adj1" fmla="val -85472"/>
              <a:gd name="adj2" fmla="val 7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>
            <a:hlinkClick r:id="" action="ppaction://hlinkshowjump?jump=previousslide"/>
          </p:cNvPr>
          <p:cNvSpPr/>
          <p:nvPr/>
        </p:nvSpPr>
        <p:spPr>
          <a:xfrm>
            <a:off x="7236000" y="6237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4630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6915240" cy="5108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484360" y="6073560"/>
            <a:ext cx="935280" cy="642600"/>
          </a:xfrm>
          <a:prstGeom prst="wedgeRectCallout">
            <a:avLst>
              <a:gd name="adj1" fmla="val 111597"/>
              <a:gd name="adj2" fmla="val -5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236000" y="2991240"/>
            <a:ext cx="1728720" cy="368640"/>
          </a:xfrm>
          <a:prstGeom prst="wedgeRectCallout">
            <a:avLst>
              <a:gd name="adj1" fmla="val -101134"/>
              <a:gd name="adj2" fmla="val 2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>
            <a:hlinkClick r:id="rId2" action="ppaction://hlinksldjump"/>
          </p:cNvPr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2050920" y="478440"/>
            <a:ext cx="1441440" cy="642600"/>
          </a:xfrm>
          <a:prstGeom prst="wedgeRectCallout">
            <a:avLst>
              <a:gd name="adj1" fmla="val -82356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25092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10999"/>
              <a:gd name="adj2" fmla="val 231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1" descr=""/>
          <p:cNvPicPr/>
          <p:nvPr/>
        </p:nvPicPr>
        <p:blipFill>
          <a:blip r:embed="rId1"/>
          <a:stretch/>
        </p:blipFill>
        <p:spPr>
          <a:xfrm>
            <a:off x="104760" y="1353960"/>
            <a:ext cx="7275600" cy="5375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7451640" y="1876320"/>
            <a:ext cx="1497240" cy="368640"/>
          </a:xfrm>
          <a:prstGeom prst="wedgeRectCallout">
            <a:avLst>
              <a:gd name="adj1" fmla="val -234490"/>
              <a:gd name="adj2" fmla="val 420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7524720" y="3197160"/>
            <a:ext cx="1343160" cy="368640"/>
          </a:xfrm>
          <a:prstGeom prst="wedgeRectCallout">
            <a:avLst>
              <a:gd name="adj1" fmla="val -234509"/>
              <a:gd name="adj2" fmla="val 78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>
            <a:hlinkClick r:id="rId2" action="ppaction://hlinksldjump"/>
          </p:cNvPr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1226"/>
              <a:gd name="adj2" fmla="val 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3564000" y="3432240"/>
            <a:ext cx="1258920" cy="642600"/>
          </a:xfrm>
          <a:prstGeom prst="wedgeRectCallout">
            <a:avLst>
              <a:gd name="adj1" fmla="val -29592"/>
              <a:gd name="adj2" fmla="val -217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29847"/>
              <a:gd name="adj2" fmla="val -25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000"/>
              <a:gd name="adj2" fmla="val -4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161976"/>
              <a:gd name="adj2" fmla="val -42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885080" y="1410120"/>
            <a:ext cx="1258920" cy="368640"/>
          </a:xfrm>
          <a:prstGeom prst="wedgeRectCallout">
            <a:avLst>
              <a:gd name="adj1" fmla="val -87305"/>
              <a:gd name="adj2" fmla="val 17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1692360" y="330120"/>
            <a:ext cx="3743280" cy="368640"/>
          </a:xfrm>
          <a:prstGeom prst="wedgeRectCallout">
            <a:avLst>
              <a:gd name="adj1" fmla="val 89222"/>
              <a:gd name="adj2" fmla="val 37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rId2" action="ppaction://hlinksldjump"/>
          </p:cNvPr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885080" y="2302560"/>
            <a:ext cx="1116000" cy="1098720"/>
          </a:xfrm>
          <a:prstGeom prst="wedgeRectCallout">
            <a:avLst>
              <a:gd name="adj1" fmla="val -331356"/>
              <a:gd name="adj2" fmla="val -22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>
            <a:hlinkClick r:id="rId2" action="ppaction://hlinksldjump"/>
          </p:cNvPr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272360" cy="47894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46425"/>
              <a:gd name="adj2" fmla="val 49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24720" y="5068800"/>
            <a:ext cx="1440000" cy="642600"/>
          </a:xfrm>
          <a:prstGeom prst="wedgeRectCallout">
            <a:avLst>
              <a:gd name="adj1" fmla="val -278439"/>
              <a:gd name="adj2" fmla="val 40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79280" y="5880600"/>
            <a:ext cx="1656000" cy="368640"/>
          </a:xfrm>
          <a:prstGeom prst="wedgeRectCallout">
            <a:avLst>
              <a:gd name="adj1" fmla="val 32828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2268360" y="6385320"/>
            <a:ext cx="1943280" cy="368640"/>
          </a:xfrm>
          <a:prstGeom prst="wedgeRectCallout">
            <a:avLst>
              <a:gd name="adj1" fmla="val 89041"/>
              <a:gd name="adj2" fmla="val -374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7524720" y="1534320"/>
            <a:ext cx="1476360" cy="1191600"/>
          </a:xfrm>
          <a:prstGeom prst="wedgeRectCallout">
            <a:avLst>
              <a:gd name="adj1" fmla="val -154606"/>
              <a:gd name="adj2" fmla="val 9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2916360" y="330120"/>
            <a:ext cx="2808000" cy="368640"/>
          </a:xfrm>
          <a:prstGeom prst="wedgeRectCallout">
            <a:avLst>
              <a:gd name="adj1" fmla="val -89453"/>
              <a:gd name="adj2" fmla="val 266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>
            <a:hlinkClick r:id="rId2" action="ppaction://hlinksldjump"/>
          </p:cNvPr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425"/>
              <a:gd name="adj2" fmla="val 35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7524720" y="3636000"/>
            <a:ext cx="1476360" cy="642600"/>
          </a:xfrm>
          <a:prstGeom prst="wedgeRectCallout">
            <a:avLst>
              <a:gd name="adj1" fmla="val -244925"/>
              <a:gd name="adj2" fmla="val -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4356000" y="5946480"/>
            <a:ext cx="2087640" cy="642600"/>
          </a:xfrm>
          <a:prstGeom prst="wedgeRectCallout">
            <a:avLst>
              <a:gd name="adj1" fmla="val 49375"/>
              <a:gd name="adj2" fmla="val -165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60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2">
            <a:hlinkClick r:id="rId2" action="ppaction://hlinksldjump"/>
          </p:cNvPr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2" descr="编排查调课表窗体界面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49737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987640" y="2850120"/>
            <a:ext cx="1513080" cy="641520"/>
          </a:xfrm>
          <a:prstGeom prst="wedgeRectCallout">
            <a:avLst>
              <a:gd name="adj1" fmla="val -90078"/>
              <a:gd name="adj2" fmla="val -162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>
            <a:hlinkClick r:id="rId2" action="ppaction://hlinksldjump"/>
          </p:cNvPr>
          <p:cNvSpPr/>
          <p:nvPr/>
        </p:nvSpPr>
        <p:spPr>
          <a:xfrm>
            <a:off x="4572000" y="2849400"/>
            <a:ext cx="2952720" cy="368640"/>
          </a:xfrm>
          <a:prstGeom prst="wedgeRectCallout">
            <a:avLst>
              <a:gd name="adj1" fmla="val -44370"/>
              <a:gd name="adj2" fmla="val -20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4211640" y="5932440"/>
            <a:ext cx="1925640" cy="368640"/>
          </a:xfrm>
          <a:prstGeom prst="wedgeRectCallout">
            <a:avLst>
              <a:gd name="adj1" fmla="val 4148"/>
              <a:gd name="adj2" fmla="val -41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1476360" y="275400"/>
            <a:ext cx="1008000" cy="917280"/>
          </a:xfrm>
          <a:prstGeom prst="wedgeRectCallout">
            <a:avLst>
              <a:gd name="adj1" fmla="val -52175"/>
              <a:gd name="adj2" fmla="val 127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2268360" y="3217320"/>
            <a:ext cx="432000" cy="1191600"/>
          </a:xfrm>
          <a:prstGeom prst="wedgeRectCallout">
            <a:avLst>
              <a:gd name="adj1" fmla="val -252495"/>
              <a:gd name="adj2" fmla="val -1116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>
            <a:hlinkClick r:id="rId3" action="ppaction://hlinksldjump"/>
          </p:cNvPr>
          <p:cNvSpPr/>
          <p:nvPr/>
        </p:nvSpPr>
        <p:spPr>
          <a:xfrm>
            <a:off x="179280" y="330480"/>
            <a:ext cx="1224000" cy="917280"/>
          </a:xfrm>
          <a:prstGeom prst="wedgeRectCallout">
            <a:avLst>
              <a:gd name="adj1" fmla="val 17564"/>
              <a:gd name="adj2" fmla="val 114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1">
            <a:hlinkClick r:id="rId4" action="ppaction://hlinksldjump"/>
          </p:cNvPr>
          <p:cNvSpPr/>
          <p:nvPr/>
        </p:nvSpPr>
        <p:spPr>
          <a:xfrm>
            <a:off x="179280" y="5932440"/>
            <a:ext cx="1800360" cy="368640"/>
          </a:xfrm>
          <a:prstGeom prst="wedgeRectCallout">
            <a:avLst>
              <a:gd name="adj1" fmla="val -37847"/>
              <a:gd name="adj2" fmla="val -91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4643280" y="604800"/>
            <a:ext cx="1297080" cy="368640"/>
          </a:xfrm>
          <a:prstGeom prst="wedgeRectCallout">
            <a:avLst>
              <a:gd name="adj1" fmla="val -131490"/>
              <a:gd name="adj2" fmla="val 379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987640" y="3930480"/>
            <a:ext cx="1008000" cy="368640"/>
          </a:xfrm>
          <a:prstGeom prst="wedgeRectCallout">
            <a:avLst>
              <a:gd name="adj1" fmla="val -178342"/>
              <a:gd name="adj2" fmla="val -496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>
            <a:hlinkClick r:id="rId5" action="ppaction://hlinksldjump"/>
          </p:cNvPr>
          <p:cNvSpPr/>
          <p:nvPr/>
        </p:nvSpPr>
        <p:spPr>
          <a:xfrm>
            <a:off x="6588000" y="2064600"/>
            <a:ext cx="1764000" cy="642600"/>
          </a:xfrm>
          <a:prstGeom prst="wedgeRectCallout">
            <a:avLst>
              <a:gd name="adj1" fmla="val -116861"/>
              <a:gd name="adj2" fmla="val -74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>
            <a:hlinkClick r:id="rId6" action="ppaction://hlinksldjump"/>
          </p:cNvPr>
          <p:cNvSpPr/>
          <p:nvPr/>
        </p:nvSpPr>
        <p:spPr>
          <a:xfrm>
            <a:off x="2843280" y="604800"/>
            <a:ext cx="1657440" cy="368640"/>
          </a:xfrm>
          <a:prstGeom prst="wedgeRectCallout">
            <a:avLst>
              <a:gd name="adj1" fmla="val -87240"/>
              <a:gd name="adj2" fmla="val 31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6227640" y="5932440"/>
            <a:ext cx="1135080" cy="368640"/>
          </a:xfrm>
          <a:prstGeom prst="wedgeRectCallout">
            <a:avLst>
              <a:gd name="adj1" fmla="val -19120"/>
              <a:gd name="adj2" fmla="val -236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课表。黄底色表示本班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>
            <a:hlinkClick r:id="rId7" action="ppaction://hlinksldjump"/>
          </p:cNvPr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2050920" y="5932440"/>
            <a:ext cx="2089440" cy="368640"/>
          </a:xfrm>
          <a:prstGeom prst="wedgeRectCallout">
            <a:avLst>
              <a:gd name="adj1" fmla="val -62365"/>
              <a:gd name="adj2" fmla="val -53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排好的班级课表。白底色表示该课该天多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，绿字是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3">
            <a:hlinkClick r:id="rId8" action="ppaction://hlinksldjump"/>
          </p:cNvPr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5">
            <a:hlinkClick r:id="rId9" action="ppaction://hlinksldjump"/>
          </p:cNvPr>
          <p:cNvSpPr/>
          <p:nvPr/>
        </p:nvSpPr>
        <p:spPr>
          <a:xfrm>
            <a:off x="4500720" y="3538440"/>
            <a:ext cx="4103640" cy="733680"/>
          </a:xfrm>
          <a:prstGeom prst="wedgeRectCallout">
            <a:avLst>
              <a:gd name="adj1" fmla="val -21995"/>
              <a:gd name="adj2" fmla="val 216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排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速连续编排班级课表，如果对课表质量没有要求可以用此方式。“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班级课表；“人师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师课表；“人室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。后三种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>
            <a:off x="7667640" y="5271840"/>
            <a:ext cx="1368360" cy="368640"/>
          </a:xfrm>
          <a:prstGeom prst="wedgeRectCallout">
            <a:avLst>
              <a:gd name="adj1" fmla="val -98236"/>
              <a:gd name="adj2" fmla="val -2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此处是红色，表示该教师有进度不一致现象，需要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40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71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4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6900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>
            <a:hlinkClick r:id="rId1" action="ppaction://hlinksldjump"/>
          </p:cNvPr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3" action="ppaction://hlinksldjump"/>
          </p:cNvPr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>
            <a:hlinkClick r:id="rId4" action="ppaction://hlinksldjump"/>
          </p:cNvPr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>
            <a:hlinkClick r:id="rId5" action="ppaction://hlinksldjump"/>
          </p:cNvPr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547640" y="474480"/>
            <a:ext cx="792360" cy="642600"/>
          </a:xfrm>
          <a:prstGeom prst="wedgeRectCallout">
            <a:avLst>
              <a:gd name="adj1" fmla="val -22574"/>
              <a:gd name="adj2" fmla="val 1564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9">
            <a:hlinkClick r:id="rId2" action="ppaction://hlinksldjump"/>
          </p:cNvPr>
          <p:cNvSpPr/>
          <p:nvPr/>
        </p:nvSpPr>
        <p:spPr>
          <a:xfrm>
            <a:off x="8244000" y="6090840"/>
            <a:ext cx="687240" cy="42300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4" y="3794"/>
                </a:moveTo>
                <a:lnTo>
                  <a:pt x="24547" y="10800"/>
                </a:lnTo>
                <a:lnTo>
                  <a:pt x="1053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rId3" action="ppaction://hlinksldjump"/>
          </p:cNvPr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4427640" y="115920"/>
            <a:ext cx="453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教师课表，用于排难排的和有特殊要求的教师课表。“人室”排课方法类似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403280" y="401400"/>
            <a:ext cx="792360" cy="642600"/>
          </a:xfrm>
          <a:prstGeom prst="wedgeRectCallout">
            <a:avLst>
              <a:gd name="adj1" fmla="val 16300"/>
              <a:gd name="adj2" fmla="val 154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师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2484360" y="474480"/>
            <a:ext cx="1440000" cy="642600"/>
          </a:xfrm>
          <a:prstGeom prst="wedgeRectCallout">
            <a:avLst>
              <a:gd name="adj1" fmla="val 134226"/>
              <a:gd name="adj2" fmla="val 222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教师”框选择一个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1"/>
          <p:cNvSpPr/>
          <p:nvPr/>
        </p:nvSpPr>
        <p:spPr>
          <a:xfrm>
            <a:off x="250920" y="5421960"/>
            <a:ext cx="2376360" cy="368640"/>
          </a:xfrm>
          <a:prstGeom prst="wedgeRectCallout">
            <a:avLst>
              <a:gd name="adj1" fmla="val -36444"/>
              <a:gd name="adj2" fmla="val -65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该教师的课表上选择白色节次，被选课程排进上面的教师课表和下面的班级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2">
            <a:hlinkClick r:id="rId2" action="ppaction://hlinksldjump"/>
          </p:cNvPr>
          <p:cNvSpPr/>
          <p:nvPr/>
        </p:nvSpPr>
        <p:spPr>
          <a:xfrm>
            <a:off x="8244000" y="6090840"/>
            <a:ext cx="687240" cy="42300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4" y="3794"/>
                </a:moveTo>
                <a:lnTo>
                  <a:pt x="24547" y="10800"/>
                </a:lnTo>
                <a:lnTo>
                  <a:pt x="1053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3">
            <a:hlinkClick r:id="rId3" action="ppaction://hlinksldjump"/>
          </p:cNvPr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5651640" y="3327480"/>
            <a:ext cx="2232000" cy="642600"/>
          </a:xfrm>
          <a:prstGeom prst="wedgeRectCallout">
            <a:avLst>
              <a:gd name="adj1" fmla="val -131856"/>
              <a:gd name="adj2" fmla="val -214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教师课表是否全部排好，都可以退出“人师”。可以用其他方式继续排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2484360" y="3276000"/>
            <a:ext cx="1081080" cy="1191600"/>
          </a:xfrm>
          <a:prstGeom prst="wedgeRectCallout">
            <a:avLst>
              <a:gd name="adj1" fmla="val -87712"/>
              <a:gd name="adj2" fmla="val -147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该教师任教的课程”框选择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3708360" y="3276000"/>
            <a:ext cx="1584360" cy="917280"/>
          </a:xfrm>
          <a:prstGeom prst="wedgeRectCallout">
            <a:avLst>
              <a:gd name="adj1" fmla="val -97273"/>
              <a:gd name="adj2" fmla="val -174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任教的班级及节数”框选择一个未排节数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3132000" y="5357160"/>
            <a:ext cx="3527640" cy="642600"/>
          </a:xfrm>
          <a:prstGeom prst="wedgeRectCallout">
            <a:avLst>
              <a:gd name="adj1" fmla="val -21921"/>
              <a:gd name="adj2" fmla="val -49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室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，方法和“人师”类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9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700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9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5292720" y="3333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班级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" action="ppaction://hlinkshowjump?jump=nextslide"/>
          </p:cNvPr>
          <p:cNvSpPr/>
          <p:nvPr/>
        </p:nvSpPr>
        <p:spPr>
          <a:xfrm>
            <a:off x="6912000" y="608472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班级详细课表"/>
          <p:cNvPicPr/>
          <p:nvPr/>
        </p:nvPicPr>
        <p:blipFill>
          <a:blip r:embed="rId1"/>
          <a:stretch/>
        </p:blipFill>
        <p:spPr>
          <a:xfrm>
            <a:off x="900000" y="765000"/>
            <a:ext cx="3490920" cy="57596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9"/>
          <p:cNvSpPr/>
          <p:nvPr/>
        </p:nvSpPr>
        <p:spPr>
          <a:xfrm>
            <a:off x="5003640" y="3491280"/>
            <a:ext cx="2016360" cy="368640"/>
          </a:xfrm>
          <a:prstGeom prst="wedgeRectCallout">
            <a:avLst>
              <a:gd name="adj1" fmla="val -109671"/>
              <a:gd name="adj2" fmla="val -21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和字的颜色区别不同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5003640" y="1919880"/>
            <a:ext cx="1584360" cy="368640"/>
          </a:xfrm>
          <a:prstGeom prst="wedgeRectCallout">
            <a:avLst>
              <a:gd name="adj1" fmla="val -243180"/>
              <a:gd name="adj2" fmla="val -15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1">
            <a:hlinkClick r:id="rId2" action="ppaction://hlinksldjump"/>
          </p:cNvPr>
          <p:cNvSpPr/>
          <p:nvPr/>
        </p:nvSpPr>
        <p:spPr>
          <a:xfrm>
            <a:off x="6877080" y="464472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2">
            <a:hlinkClick r:id="" action="ppaction://hlinkshowjump?jump=previousslide"/>
          </p:cNvPr>
          <p:cNvSpPr/>
          <p:nvPr/>
        </p:nvSpPr>
        <p:spPr>
          <a:xfrm>
            <a:off x="6877080" y="5373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10800"/>
                </a:moveTo>
                <a:lnTo>
                  <a:pt x="50197" y="3794"/>
                </a:lnTo>
                <a:lnTo>
                  <a:pt x="501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261040" cy="5327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2"/>
          <p:cNvSpPr/>
          <p:nvPr/>
        </p:nvSpPr>
        <p:spPr>
          <a:xfrm>
            <a:off x="468360" y="324000"/>
            <a:ext cx="81360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教师课表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详细的教室课表的格式与此类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>
            <a:hlinkClick r:id="rId2" action="ppaction://hlinksldjump"/>
          </p:cNvPr>
          <p:cNvSpPr/>
          <p:nvPr/>
        </p:nvSpPr>
        <p:spPr>
          <a:xfrm>
            <a:off x="7308720" y="396360"/>
            <a:ext cx="1727280" cy="423000"/>
          </a:xfrm>
          <a:custGeom>
            <a:avLst/>
            <a:gdLst>
              <a:gd name="textAreaLeft" fmla="*/ 27360 w 1727280"/>
              <a:gd name="textAreaRight" fmla="*/ 1699920 w 1727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8145" h="21600">
                <a:moveTo>
                  <a:pt x="0" y="0"/>
                </a:moveTo>
                <a:lnTo>
                  <a:pt x="88145" y="0"/>
                </a:lnTo>
                <a:lnTo>
                  <a:pt x="88145" y="21600"/>
                </a:lnTo>
                <a:lnTo>
                  <a:pt x="0" y="21600"/>
                </a:lnTo>
                <a:close/>
              </a:path>
              <a:path fill="lightenLess" w="88145" h="21600">
                <a:moveTo>
                  <a:pt x="0" y="0"/>
                </a:moveTo>
                <a:lnTo>
                  <a:pt x="88145" y="0"/>
                </a:lnTo>
                <a:lnTo>
                  <a:pt x="86745" y="1400"/>
                </a:lnTo>
                <a:lnTo>
                  <a:pt x="1400" y="1400"/>
                </a:lnTo>
                <a:close/>
              </a:path>
              <a:path fill="darken" w="88145" h="21600">
                <a:moveTo>
                  <a:pt x="88145" y="0"/>
                </a:moveTo>
                <a:lnTo>
                  <a:pt x="88145" y="21600"/>
                </a:lnTo>
                <a:lnTo>
                  <a:pt x="86745" y="20200"/>
                </a:lnTo>
                <a:lnTo>
                  <a:pt x="86745" y="1400"/>
                </a:lnTo>
                <a:close/>
              </a:path>
              <a:path fill="darkenLess" w="88145" h="21600">
                <a:moveTo>
                  <a:pt x="88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45" y="20200"/>
                </a:lnTo>
                <a:close/>
              </a:path>
              <a:path fill="lighten" w="88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145" h="21600">
                <a:moveTo>
                  <a:pt x="37066" y="3794"/>
                </a:moveTo>
                <a:lnTo>
                  <a:pt x="51079" y="10800"/>
                </a:lnTo>
                <a:lnTo>
                  <a:pt x="370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>
            <a:hlinkClick r:id="" action="ppaction://hlinkshowjump?jump=nextslide"/>
          </p:cNvPr>
          <p:cNvSpPr/>
          <p:nvPr/>
        </p:nvSpPr>
        <p:spPr>
          <a:xfrm>
            <a:off x="7308720" y="177336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5651640" y="1992600"/>
            <a:ext cx="1584360" cy="368640"/>
          </a:xfrm>
          <a:prstGeom prst="wedgeRectCallout">
            <a:avLst>
              <a:gd name="adj1" fmla="val -107402"/>
              <a:gd name="adj2" fmla="val 1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5651640" y="5645160"/>
            <a:ext cx="3097080" cy="642600"/>
          </a:xfrm>
          <a:prstGeom prst="wedgeRectCallout">
            <a:avLst>
              <a:gd name="adj1" fmla="val -193768"/>
              <a:gd name="adj2" fmla="val -396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区别相同课头的不同的课程。本课表中，黄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，白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1">
            <a:hlinkClick r:id="rId3" action="ppaction://hlinksldjump"/>
          </p:cNvPr>
          <p:cNvSpPr/>
          <p:nvPr/>
        </p:nvSpPr>
        <p:spPr>
          <a:xfrm>
            <a:off x="7308720" y="82836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5651640" y="3334680"/>
            <a:ext cx="3095640" cy="917280"/>
          </a:xfrm>
          <a:prstGeom prst="wedgeRectCallout">
            <a:avLst>
              <a:gd name="adj1" fmla="val -96763"/>
              <a:gd name="adj2" fmla="val -46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颜色的字区别不同的课头（“不同的课头”就是课程不同或年级不同）。本课表中，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蓝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红字表示单招年级的统管基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>
            <a:hlinkClick r:id="" action="ppaction://hlinkshowjump?jump=previousslide"/>
          </p:cNvPr>
          <p:cNvSpPr/>
          <p:nvPr/>
        </p:nvSpPr>
        <p:spPr>
          <a:xfrm>
            <a:off x="7308720" y="1341360"/>
            <a:ext cx="1727280" cy="360360"/>
          </a:xfrm>
          <a:custGeom>
            <a:avLst/>
            <a:gdLst>
              <a:gd name="textAreaLeft" fmla="*/ 23040 w 1727280"/>
              <a:gd name="textAreaRight" fmla="*/ 1704240 w 172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451" h="21600">
                <a:moveTo>
                  <a:pt x="0" y="0"/>
                </a:moveTo>
                <a:lnTo>
                  <a:pt x="103451" y="0"/>
                </a:lnTo>
                <a:lnTo>
                  <a:pt x="103451" y="21600"/>
                </a:lnTo>
                <a:lnTo>
                  <a:pt x="0" y="21600"/>
                </a:lnTo>
                <a:close/>
              </a:path>
              <a:path fill="lightenLess" w="103451" h="21600">
                <a:moveTo>
                  <a:pt x="0" y="0"/>
                </a:moveTo>
                <a:lnTo>
                  <a:pt x="103451" y="0"/>
                </a:lnTo>
                <a:lnTo>
                  <a:pt x="102051" y="1400"/>
                </a:lnTo>
                <a:lnTo>
                  <a:pt x="1400" y="1400"/>
                </a:lnTo>
                <a:close/>
              </a:path>
              <a:path fill="darken" w="103451" h="21600">
                <a:moveTo>
                  <a:pt x="103451" y="0"/>
                </a:moveTo>
                <a:lnTo>
                  <a:pt x="103451" y="21600"/>
                </a:lnTo>
                <a:lnTo>
                  <a:pt x="102051" y="20200"/>
                </a:lnTo>
                <a:lnTo>
                  <a:pt x="102051" y="1400"/>
                </a:lnTo>
                <a:close/>
              </a:path>
              <a:path fill="darkenLess" w="103451" h="21600">
                <a:moveTo>
                  <a:pt x="103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51" y="20200"/>
                </a:lnTo>
                <a:close/>
              </a:path>
              <a:path fill="lighten" w="103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451" h="21600">
                <a:moveTo>
                  <a:pt x="44719" y="10800"/>
                </a:moveTo>
                <a:lnTo>
                  <a:pt x="58732" y="3794"/>
                </a:lnTo>
                <a:lnTo>
                  <a:pt x="5873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3276720" y="3198600"/>
            <a:ext cx="2879640" cy="642600"/>
          </a:xfrm>
          <a:prstGeom prst="wedgeRectCallout">
            <a:avLst>
              <a:gd name="adj1" fmla="val -80259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>
            <a:off x="3276720" y="401400"/>
            <a:ext cx="2374920" cy="642600"/>
          </a:xfrm>
          <a:prstGeom prst="wedgeRectCallout">
            <a:avLst>
              <a:gd name="adj1" fmla="val -79597"/>
              <a:gd name="adj2" fmla="val 14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7">
            <a:hlinkClick r:id="rId2" action="ppaction://hlinksldjump"/>
          </p:cNvPr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>
            <a:hlinkClick r:id="rId3" action="ppaction://hlinksldjump"/>
          </p:cNvPr>
          <p:cNvSpPr/>
          <p:nvPr/>
        </p:nvSpPr>
        <p:spPr>
          <a:xfrm>
            <a:off x="8197920" y="5810760"/>
            <a:ext cx="682560" cy="42300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843" h="21600">
                <a:moveTo>
                  <a:pt x="0" y="0"/>
                </a:moveTo>
                <a:lnTo>
                  <a:pt x="34843" y="0"/>
                </a:lnTo>
                <a:lnTo>
                  <a:pt x="34843" y="21600"/>
                </a:lnTo>
                <a:lnTo>
                  <a:pt x="0" y="21600"/>
                </a:lnTo>
                <a:close/>
              </a:path>
              <a:path fill="lightenLess" w="34843" h="21600">
                <a:moveTo>
                  <a:pt x="0" y="0"/>
                </a:moveTo>
                <a:lnTo>
                  <a:pt x="34843" y="0"/>
                </a:lnTo>
                <a:lnTo>
                  <a:pt x="33443" y="1400"/>
                </a:lnTo>
                <a:lnTo>
                  <a:pt x="1400" y="1400"/>
                </a:lnTo>
                <a:close/>
              </a:path>
              <a:path fill="darken" w="34843" h="21600">
                <a:moveTo>
                  <a:pt x="34843" y="0"/>
                </a:moveTo>
                <a:lnTo>
                  <a:pt x="34843" y="21600"/>
                </a:lnTo>
                <a:lnTo>
                  <a:pt x="33443" y="20200"/>
                </a:lnTo>
                <a:lnTo>
                  <a:pt x="33443" y="1400"/>
                </a:lnTo>
                <a:close/>
              </a:path>
              <a:path fill="darkenLess" w="34843" h="21600">
                <a:moveTo>
                  <a:pt x="3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3" y="20200"/>
                </a:lnTo>
                <a:close/>
              </a:path>
              <a:path fill="lighten" w="3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3" h="21600">
                <a:moveTo>
                  <a:pt x="10415" y="3794"/>
                </a:moveTo>
                <a:lnTo>
                  <a:pt x="24428" y="10800"/>
                </a:lnTo>
                <a:lnTo>
                  <a:pt x="104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5"/>
          <p:cNvSpPr/>
          <p:nvPr/>
        </p:nvSpPr>
        <p:spPr>
          <a:xfrm>
            <a:off x="6659640" y="2628360"/>
            <a:ext cx="1441440" cy="1191600"/>
          </a:xfrm>
          <a:prstGeom prst="wedgeRectCallout">
            <a:avLst>
              <a:gd name="adj1" fmla="val -315388"/>
              <a:gd name="adj2" fmla="val -122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0"/>
                            </p:stCondLst>
                            <p:childTnLst>
                              <p:par>
                                <p:cTn id="85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1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250920" y="189000"/>
            <a:ext cx="252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排 课 调 课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临时调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3059280" y="3268440"/>
            <a:ext cx="1079280" cy="368640"/>
          </a:xfrm>
          <a:prstGeom prst="wedgeRectCallout">
            <a:avLst>
              <a:gd name="adj1" fmla="val -114986"/>
              <a:gd name="adj2" fmla="val -89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771640" y="438840"/>
            <a:ext cx="2374920" cy="642600"/>
          </a:xfrm>
          <a:prstGeom prst="wedgeRectCallout">
            <a:avLst>
              <a:gd name="adj1" fmla="val -66231"/>
              <a:gd name="adj2" fmla="val 187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">
            <a:hlinkClick r:id="rId2" action="ppaction://hlinksldjump"/>
          </p:cNvPr>
          <p:cNvSpPr/>
          <p:nvPr/>
        </p:nvSpPr>
        <p:spPr>
          <a:xfrm>
            <a:off x="673272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>
            <a:hlinkClick r:id="" action="ppaction://hlinkshowjump?jump=nextslide"/>
          </p:cNvPr>
          <p:cNvSpPr/>
          <p:nvPr/>
        </p:nvSpPr>
        <p:spPr>
          <a:xfrm>
            <a:off x="8172360" y="61668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5292720" y="467640"/>
            <a:ext cx="1225440" cy="642600"/>
          </a:xfrm>
          <a:prstGeom prst="wedgeRectCallout">
            <a:avLst>
              <a:gd name="adj1" fmla="val -241685"/>
              <a:gd name="adj2" fmla="val 235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临时”，出现“日历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2" descr=""/>
          <p:cNvPicPr/>
          <p:nvPr/>
        </p:nvPicPr>
        <p:blipFill>
          <a:blip r:embed="rId3"/>
          <a:stretch/>
        </p:blipFill>
        <p:spPr>
          <a:xfrm>
            <a:off x="6732720" y="1916280"/>
            <a:ext cx="2155680" cy="1203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6766200" cy="9907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3"/>
          <p:cNvSpPr/>
          <p:nvPr/>
        </p:nvSpPr>
        <p:spPr>
          <a:xfrm>
            <a:off x="6300720" y="3425760"/>
            <a:ext cx="2521080" cy="642600"/>
          </a:xfrm>
          <a:prstGeom prst="wedgeRectCallout">
            <a:avLst>
              <a:gd name="adj1" fmla="val 11875"/>
              <a:gd name="adj2" fmla="val -2116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日历”框选择“开始日期”和“结束日期”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>
            <a:off x="6588000" y="5868000"/>
            <a:ext cx="2232000" cy="368640"/>
          </a:xfrm>
          <a:prstGeom prst="wedgeRectCallout">
            <a:avLst>
              <a:gd name="adj1" fmla="val -162787"/>
              <a:gd name="adj2" fmla="val -17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打印“临时调课通知单”的对话框，按“是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4500720" y="3189960"/>
            <a:ext cx="1584000" cy="642600"/>
          </a:xfrm>
          <a:prstGeom prst="wedgeRectCallout">
            <a:avLst>
              <a:gd name="adj1" fmla="val -190078"/>
              <a:gd name="adj2" fmla="val -258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继续在班级课表上选择需调的课或者按“退调”按钮退出调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43546"/>
              <a:gd name="adj2" fmla="val -723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>
            <a:hlinkClick r:id="" action="ppaction://hlinkshowjump?jump=previousslide"/>
          </p:cNvPr>
          <p:cNvSpPr/>
          <p:nvPr/>
        </p:nvSpPr>
        <p:spPr>
          <a:xfrm>
            <a:off x="745164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9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77440" cy="5224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"/>
          <p:cNvPicPr/>
          <p:nvPr/>
        </p:nvPicPr>
        <p:blipFill>
          <a:blip r:embed="rId2"/>
          <a:stretch/>
        </p:blipFill>
        <p:spPr>
          <a:xfrm>
            <a:off x="6988320" y="836640"/>
            <a:ext cx="2155680" cy="22636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7812000" y="26028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4067280" y="330120"/>
            <a:ext cx="1800000" cy="368640"/>
          </a:xfrm>
          <a:prstGeom prst="wedgeRectCallout">
            <a:avLst>
              <a:gd name="adj1" fmla="val -17111"/>
              <a:gd name="adj2" fmla="val 315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教师框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请假教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1763640" y="330120"/>
            <a:ext cx="2106720" cy="368640"/>
          </a:xfrm>
          <a:prstGeom prst="wedgeRectCallout">
            <a:avLst>
              <a:gd name="adj1" fmla="val -1703"/>
              <a:gd name="adj2" fmla="val 22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代课”按钮，进入代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059280" y="2346840"/>
            <a:ext cx="3313080" cy="368640"/>
          </a:xfrm>
          <a:prstGeom prst="wedgeRectCallout">
            <a:avLst>
              <a:gd name="adj1" fmla="val -121000"/>
              <a:gd name="adj2" fmla="val 49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教师课表是请假教师的课表。其他教师课表是可以代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059280" y="3346920"/>
            <a:ext cx="3889080" cy="368640"/>
          </a:xfrm>
          <a:prstGeom prst="wedgeRectCallout">
            <a:avLst>
              <a:gd name="adj1" fmla="val 73787"/>
              <a:gd name="adj2" fmla="val -56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自动出现的“日历”框里选择开始日期、结束日期、请假原因和什么样的教师优先代课，按“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>
            <a:hlinkClick r:id="" action="ppaction://hlinkshowjump?jump=nextslide"/>
          </p:cNvPr>
          <p:cNvSpPr/>
          <p:nvPr/>
        </p:nvSpPr>
        <p:spPr>
          <a:xfrm>
            <a:off x="7093080" y="6237360"/>
            <a:ext cx="1879560" cy="396720"/>
          </a:xfrm>
          <a:custGeom>
            <a:avLst/>
            <a:gdLst>
              <a:gd name="textAreaLeft" fmla="*/ 25560 w 1879560"/>
              <a:gd name="textAreaRight" fmla="*/ 1854000 w 1879560"/>
              <a:gd name="textAreaTop" fmla="*/ 25560 h 396720"/>
              <a:gd name="textAreaBottom" fmla="*/ 371160 h 396720"/>
            </a:gdLst>
            <a:ahLst/>
            <a:rect l="textAreaLeft" t="textAreaTop" r="textAreaRight" b="textAreaBottom"/>
            <a:pathLst>
              <a:path w="102262" h="21600">
                <a:moveTo>
                  <a:pt x="0" y="0"/>
                </a:moveTo>
                <a:lnTo>
                  <a:pt x="102262" y="0"/>
                </a:lnTo>
                <a:lnTo>
                  <a:pt x="102262" y="21600"/>
                </a:lnTo>
                <a:lnTo>
                  <a:pt x="0" y="21600"/>
                </a:lnTo>
                <a:close/>
              </a:path>
              <a:path fill="lightenLess" w="102262" h="21600">
                <a:moveTo>
                  <a:pt x="0" y="0"/>
                </a:moveTo>
                <a:lnTo>
                  <a:pt x="102262" y="0"/>
                </a:lnTo>
                <a:lnTo>
                  <a:pt x="100862" y="1400"/>
                </a:lnTo>
                <a:lnTo>
                  <a:pt x="1400" y="1400"/>
                </a:lnTo>
                <a:close/>
              </a:path>
              <a:path fill="darken" w="102262" h="21600">
                <a:moveTo>
                  <a:pt x="102262" y="0"/>
                </a:moveTo>
                <a:lnTo>
                  <a:pt x="102262" y="21600"/>
                </a:lnTo>
                <a:lnTo>
                  <a:pt x="100862" y="20200"/>
                </a:lnTo>
                <a:lnTo>
                  <a:pt x="100862" y="1400"/>
                </a:lnTo>
                <a:close/>
              </a:path>
              <a:path fill="darkenLess" w="102262" h="21600">
                <a:moveTo>
                  <a:pt x="102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62" y="20200"/>
                </a:lnTo>
                <a:close/>
              </a:path>
              <a:path fill="lighten" w="102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62" h="21600">
                <a:moveTo>
                  <a:pt x="44125" y="3794"/>
                </a:moveTo>
                <a:lnTo>
                  <a:pt x="58138" y="10800"/>
                </a:lnTo>
                <a:lnTo>
                  <a:pt x="4412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2">
            <a:hlinkClick r:id="rId3" action="ppaction://hlinksldjump"/>
          </p:cNvPr>
          <p:cNvSpPr/>
          <p:nvPr/>
        </p:nvSpPr>
        <p:spPr>
          <a:xfrm>
            <a:off x="1403280" y="6228360"/>
            <a:ext cx="1800360" cy="423000"/>
          </a:xfrm>
          <a:custGeom>
            <a:avLst/>
            <a:gdLst>
              <a:gd name="textAreaLeft" fmla="*/ 27360 w 1800360"/>
              <a:gd name="textAreaRight" fmla="*/ 1773000 w 1800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1873" h="21600">
                <a:moveTo>
                  <a:pt x="0" y="0"/>
                </a:moveTo>
                <a:lnTo>
                  <a:pt x="91873" y="0"/>
                </a:lnTo>
                <a:lnTo>
                  <a:pt x="91873" y="21600"/>
                </a:lnTo>
                <a:lnTo>
                  <a:pt x="0" y="21600"/>
                </a:lnTo>
                <a:close/>
              </a:path>
              <a:path fill="lightenLess" w="91873" h="21600">
                <a:moveTo>
                  <a:pt x="0" y="0"/>
                </a:moveTo>
                <a:lnTo>
                  <a:pt x="91873" y="0"/>
                </a:lnTo>
                <a:lnTo>
                  <a:pt x="90473" y="1400"/>
                </a:lnTo>
                <a:lnTo>
                  <a:pt x="1400" y="1400"/>
                </a:lnTo>
                <a:close/>
              </a:path>
              <a:path fill="darken" w="91873" h="21600">
                <a:moveTo>
                  <a:pt x="91873" y="0"/>
                </a:moveTo>
                <a:lnTo>
                  <a:pt x="91873" y="21600"/>
                </a:lnTo>
                <a:lnTo>
                  <a:pt x="90473" y="20200"/>
                </a:lnTo>
                <a:lnTo>
                  <a:pt x="90473" y="1400"/>
                </a:lnTo>
                <a:close/>
              </a:path>
              <a:path fill="darkenLess" w="91873" h="21600">
                <a:moveTo>
                  <a:pt x="9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73" y="20200"/>
                </a:lnTo>
                <a:close/>
              </a:path>
              <a:path fill="lighten" w="9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873" h="21600">
                <a:moveTo>
                  <a:pt x="38930" y="3794"/>
                </a:moveTo>
                <a:lnTo>
                  <a:pt x="52943" y="10800"/>
                </a:lnTo>
                <a:lnTo>
                  <a:pt x="38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6">
            <a:hlinkClick r:id="rId4" action="ppaction://hlinksldjump"/>
          </p:cNvPr>
          <p:cNvSpPr/>
          <p:nvPr/>
        </p:nvSpPr>
        <p:spPr>
          <a:xfrm>
            <a:off x="3276720" y="622908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8"/>
          <p:cNvSpPr/>
          <p:nvPr/>
        </p:nvSpPr>
        <p:spPr>
          <a:xfrm>
            <a:off x="1763640" y="5436000"/>
            <a:ext cx="2879640" cy="368640"/>
          </a:xfrm>
          <a:prstGeom prst="wedgeRectCallout">
            <a:avLst>
              <a:gd name="adj1" fmla="val -96898"/>
              <a:gd name="adj2" fmla="val -31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请假教师课表上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需代的课，自动出现可以代这节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20"/>
          <p:cNvSpPr/>
          <p:nvPr/>
        </p:nvSpPr>
        <p:spPr>
          <a:xfrm>
            <a:off x="4788000" y="5436000"/>
            <a:ext cx="1368360" cy="368640"/>
          </a:xfrm>
          <a:prstGeom prst="wedgeRectCallout">
            <a:avLst>
              <a:gd name="adj1" fmla="val -317041"/>
              <a:gd name="adj2" fmla="val -31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代课教师课表上选择代的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179280" y="330120"/>
            <a:ext cx="1008000" cy="368640"/>
          </a:xfrm>
          <a:prstGeom prst="wedgeRectCallout">
            <a:avLst>
              <a:gd name="adj1" fmla="val 21615"/>
              <a:gd name="adj2" fmla="val 305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3"/>
          <p:cNvSpPr/>
          <p:nvPr/>
        </p:nvSpPr>
        <p:spPr>
          <a:xfrm>
            <a:off x="6227640" y="5298840"/>
            <a:ext cx="2232000" cy="642600"/>
          </a:xfrm>
          <a:prstGeom prst="wedgeRectCallout">
            <a:avLst>
              <a:gd name="adj1" fmla="val -195231"/>
              <a:gd name="adj2" fmla="val -592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代课结束后按“代课确定”、“打印代课通知单”、“退出代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4">
            <a:hlinkClick r:id="" action="ppaction://hlinkshowjump?jump=previousslide"/>
          </p:cNvPr>
          <p:cNvSpPr/>
          <p:nvPr/>
        </p:nvSpPr>
        <p:spPr>
          <a:xfrm>
            <a:off x="5076720" y="623736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9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616800" cy="5112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179280" y="189000"/>
            <a:ext cx="60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课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例：检查一周内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过多的教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6948360" y="439560"/>
            <a:ext cx="2016360" cy="642600"/>
          </a:xfrm>
          <a:prstGeom prst="wedgeRectCallout">
            <a:avLst>
              <a:gd name="adj1" fmla="val -49074"/>
              <a:gd name="adj2" fmla="val 535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主窗体”按“检查”按钮，出现“检查”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948360" y="1553040"/>
            <a:ext cx="2016360" cy="368640"/>
          </a:xfrm>
          <a:prstGeom prst="wedgeRectCallout">
            <a:avLst>
              <a:gd name="adj1" fmla="val -304175"/>
              <a:gd name="adj2" fmla="val 17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检查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6948360" y="3354120"/>
            <a:ext cx="2016360" cy="642600"/>
          </a:xfrm>
          <a:prstGeom prst="wedgeRectCallout">
            <a:avLst>
              <a:gd name="adj1" fmla="val -157620"/>
              <a:gd name="adj2" fmla="val 358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蓝色框出现检查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6948360" y="4715280"/>
            <a:ext cx="1944720" cy="368640"/>
          </a:xfrm>
          <a:prstGeom prst="wedgeRectCallout">
            <a:avLst>
              <a:gd name="adj1" fmla="val -253791"/>
              <a:gd name="adj2" fmla="val -565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某行上单击，出现该教师的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>
            <a:off x="6948360" y="2338920"/>
            <a:ext cx="1944720" cy="368640"/>
          </a:xfrm>
          <a:prstGeom prst="wedgeRectCallout">
            <a:avLst>
              <a:gd name="adj1" fmla="val -361601"/>
              <a:gd name="adj2" fmla="val 65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有的检查项目需要选择适当的检查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>
            <a:hlinkClick r:id="rId2" action="ppaction://hlinksldjump"/>
          </p:cNvPr>
          <p:cNvSpPr/>
          <p:nvPr/>
        </p:nvSpPr>
        <p:spPr>
          <a:xfrm>
            <a:off x="6948360" y="544500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10800"/>
                </a:moveTo>
                <a:lnTo>
                  <a:pt x="55593" y="3794"/>
                </a:lnTo>
                <a:lnTo>
                  <a:pt x="5559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4">
            <a:hlinkClick r:id="rId3" action="ppaction://hlinksldjump"/>
          </p:cNvPr>
          <p:cNvSpPr/>
          <p:nvPr/>
        </p:nvSpPr>
        <p:spPr>
          <a:xfrm>
            <a:off x="6948360" y="6300360"/>
            <a:ext cx="1944720" cy="423000"/>
          </a:xfrm>
          <a:custGeom>
            <a:avLst/>
            <a:gdLst>
              <a:gd name="textAreaLeft" fmla="*/ 27360 w 1944720"/>
              <a:gd name="textAreaRight" fmla="*/ 1917360 w 19447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9239" h="21600">
                <a:moveTo>
                  <a:pt x="0" y="0"/>
                </a:moveTo>
                <a:lnTo>
                  <a:pt x="99239" y="0"/>
                </a:lnTo>
                <a:lnTo>
                  <a:pt x="99239" y="21600"/>
                </a:lnTo>
                <a:lnTo>
                  <a:pt x="0" y="21600"/>
                </a:lnTo>
                <a:close/>
              </a:path>
              <a:path fill="lightenLess" w="99239" h="21600">
                <a:moveTo>
                  <a:pt x="0" y="0"/>
                </a:moveTo>
                <a:lnTo>
                  <a:pt x="99239" y="0"/>
                </a:lnTo>
                <a:lnTo>
                  <a:pt x="97839" y="1400"/>
                </a:lnTo>
                <a:lnTo>
                  <a:pt x="1400" y="1400"/>
                </a:lnTo>
                <a:close/>
              </a:path>
              <a:path fill="darken" w="99239" h="21600">
                <a:moveTo>
                  <a:pt x="99239" y="0"/>
                </a:moveTo>
                <a:lnTo>
                  <a:pt x="99239" y="21600"/>
                </a:lnTo>
                <a:lnTo>
                  <a:pt x="97839" y="20200"/>
                </a:lnTo>
                <a:lnTo>
                  <a:pt x="97839" y="1400"/>
                </a:lnTo>
                <a:close/>
              </a:path>
              <a:path fill="darkenLess" w="99239" h="21600">
                <a:moveTo>
                  <a:pt x="9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39" y="20200"/>
                </a:lnTo>
                <a:close/>
              </a:path>
              <a:path fill="lighten" w="9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39" h="21600">
                <a:moveTo>
                  <a:pt x="42613" y="3794"/>
                </a:moveTo>
                <a:lnTo>
                  <a:pt x="56626" y="10800"/>
                </a:lnTo>
                <a:lnTo>
                  <a:pt x="4261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>
            <a:hlinkClick r:id="" action="ppaction://hlinkshowjump?jump=previousslide"/>
          </p:cNvPr>
          <p:cNvSpPr/>
          <p:nvPr/>
        </p:nvSpPr>
        <p:spPr>
          <a:xfrm>
            <a:off x="6948360" y="587700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3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8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848720" cy="55069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8101080" y="1341360"/>
            <a:ext cx="1042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8209080" y="314172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7093080" y="330120"/>
            <a:ext cx="1906560" cy="642600"/>
          </a:xfrm>
          <a:prstGeom prst="wedgeRectCallout">
            <a:avLst>
              <a:gd name="adj1" fmla="val -88870"/>
              <a:gd name="adj2" fmla="val 172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rId2" action="ppaction://hlinksldjump"/>
          </p:cNvPr>
          <p:cNvSpPr/>
          <p:nvPr/>
        </p:nvSpPr>
        <p:spPr>
          <a:xfrm>
            <a:off x="3132000" y="330120"/>
            <a:ext cx="1952640" cy="642600"/>
          </a:xfrm>
          <a:prstGeom prst="wedgeRectCallout">
            <a:avLst>
              <a:gd name="adj1" fmla="val -144060"/>
              <a:gd name="adj2" fmla="val 135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>
            <a:off x="5219640" y="277560"/>
            <a:ext cx="1800360" cy="642600"/>
          </a:xfrm>
          <a:prstGeom prst="wedgeRectCallout">
            <a:avLst>
              <a:gd name="adj1" fmla="val 10212"/>
              <a:gd name="adj2" fmla="val 14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6588000" y="1762920"/>
            <a:ext cx="1297080" cy="917280"/>
          </a:xfrm>
          <a:prstGeom prst="wedgeRectCallout">
            <a:avLst>
              <a:gd name="adj1" fmla="val -67004"/>
              <a:gd name="adj2" fmla="val -2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>
            <a:hlinkClick r:id="rId3" action="ppaction://hlinksldjump"/>
          </p:cNvPr>
          <p:cNvSpPr/>
          <p:nvPr/>
        </p:nvSpPr>
        <p:spPr>
          <a:xfrm>
            <a:off x="179280" y="467280"/>
            <a:ext cx="1351080" cy="368640"/>
          </a:xfrm>
          <a:prstGeom prst="wedgeRectCallout">
            <a:avLst>
              <a:gd name="adj1" fmla="val -42837"/>
              <a:gd name="adj2" fmla="val 276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3">
            <a:hlinkClick r:id="rId4" action="ppaction://hlinksldjump"/>
          </p:cNvPr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7624"/>
              <a:gd name="adj2" fmla="val 221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5">
            <a:hlinkClick r:id="rId5" action="ppaction://hlinksldjump"/>
          </p:cNvPr>
          <p:cNvSpPr/>
          <p:nvPr/>
        </p:nvSpPr>
        <p:spPr>
          <a:xfrm>
            <a:off x="8172360" y="4584960"/>
            <a:ext cx="824040" cy="423000"/>
          </a:xfrm>
          <a:custGeom>
            <a:avLst/>
            <a:gdLst>
              <a:gd name="textAreaLeft" fmla="*/ 27360 w 824040"/>
              <a:gd name="textAreaRight" fmla="*/ 796680 w 8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61" h="21600">
                <a:moveTo>
                  <a:pt x="0" y="0"/>
                </a:moveTo>
                <a:lnTo>
                  <a:pt x="42061" y="0"/>
                </a:lnTo>
                <a:lnTo>
                  <a:pt x="42061" y="21600"/>
                </a:lnTo>
                <a:lnTo>
                  <a:pt x="0" y="21600"/>
                </a:lnTo>
                <a:close/>
              </a:path>
              <a:path fill="lightenLess" w="42061" h="21600">
                <a:moveTo>
                  <a:pt x="0" y="0"/>
                </a:moveTo>
                <a:lnTo>
                  <a:pt x="42061" y="0"/>
                </a:lnTo>
                <a:lnTo>
                  <a:pt x="40661" y="1400"/>
                </a:lnTo>
                <a:lnTo>
                  <a:pt x="1400" y="1400"/>
                </a:lnTo>
                <a:close/>
              </a:path>
              <a:path fill="darken" w="42061" h="21600">
                <a:moveTo>
                  <a:pt x="42061" y="0"/>
                </a:moveTo>
                <a:lnTo>
                  <a:pt x="42061" y="21600"/>
                </a:lnTo>
                <a:lnTo>
                  <a:pt x="40661" y="20200"/>
                </a:lnTo>
                <a:lnTo>
                  <a:pt x="40661" y="1400"/>
                </a:lnTo>
                <a:close/>
              </a:path>
              <a:path fill="darkenLess" w="42061" h="21600">
                <a:moveTo>
                  <a:pt x="4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1" y="20200"/>
                </a:lnTo>
                <a:close/>
              </a:path>
              <a:path fill="lighten" w="4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1" h="21600">
                <a:moveTo>
                  <a:pt x="14024" y="10800"/>
                </a:moveTo>
                <a:lnTo>
                  <a:pt x="28037" y="3794"/>
                </a:lnTo>
                <a:lnTo>
                  <a:pt x="280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7"/>
          <p:cNvSpPr/>
          <p:nvPr/>
        </p:nvSpPr>
        <p:spPr>
          <a:xfrm>
            <a:off x="5148360" y="5795640"/>
            <a:ext cx="2087640" cy="368640"/>
          </a:xfrm>
          <a:prstGeom prst="wedgeRectCallout">
            <a:avLst>
              <a:gd name="adj1" fmla="val -168240"/>
              <a:gd name="adj2" fmla="val -104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148360" y="3361680"/>
            <a:ext cx="2736720" cy="642600"/>
          </a:xfrm>
          <a:prstGeom prst="wedgeRectCallout">
            <a:avLst>
              <a:gd name="adj1" fmla="val -181314"/>
              <a:gd name="adj2" fmla="val -288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148360" y="4362120"/>
            <a:ext cx="2232000" cy="642600"/>
          </a:xfrm>
          <a:prstGeom prst="wedgeRectCallout">
            <a:avLst>
              <a:gd name="adj1" fmla="val -223032"/>
              <a:gd name="adj2" fmla="val -366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6">
            <a:hlinkClick r:id="" action="ppaction://hlinkshowjump?jump=nextslide"/>
          </p:cNvPr>
          <p:cNvSpPr/>
          <p:nvPr/>
        </p:nvSpPr>
        <p:spPr>
          <a:xfrm>
            <a:off x="8174160" y="573840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7">
            <a:hlinkClick r:id="" action="ppaction://hlinkshowjump?jump=previousslide"/>
          </p:cNvPr>
          <p:cNvSpPr/>
          <p:nvPr/>
        </p:nvSpPr>
        <p:spPr>
          <a:xfrm>
            <a:off x="8172360" y="5229360"/>
            <a:ext cx="792360" cy="43308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504" h="21600">
                <a:moveTo>
                  <a:pt x="0" y="0"/>
                </a:moveTo>
                <a:lnTo>
                  <a:pt x="39504" y="0"/>
                </a:lnTo>
                <a:lnTo>
                  <a:pt x="39504" y="21600"/>
                </a:lnTo>
                <a:lnTo>
                  <a:pt x="0" y="21600"/>
                </a:lnTo>
                <a:close/>
              </a:path>
              <a:path fill="lightenLess" w="39504" h="21600">
                <a:moveTo>
                  <a:pt x="0" y="0"/>
                </a:moveTo>
                <a:lnTo>
                  <a:pt x="39504" y="0"/>
                </a:lnTo>
                <a:lnTo>
                  <a:pt x="38104" y="1400"/>
                </a:lnTo>
                <a:lnTo>
                  <a:pt x="1400" y="1400"/>
                </a:lnTo>
                <a:close/>
              </a:path>
              <a:path fill="darken" w="39504" h="21600">
                <a:moveTo>
                  <a:pt x="39504" y="0"/>
                </a:moveTo>
                <a:lnTo>
                  <a:pt x="39504" y="21600"/>
                </a:lnTo>
                <a:lnTo>
                  <a:pt x="38104" y="20200"/>
                </a:lnTo>
                <a:lnTo>
                  <a:pt x="38104" y="1400"/>
                </a:lnTo>
                <a:close/>
              </a:path>
              <a:path fill="darkenLess" w="39504" h="21600">
                <a:moveTo>
                  <a:pt x="39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04" y="20200"/>
                </a:lnTo>
                <a:close/>
              </a:path>
              <a:path fill="lighten" w="39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04" h="21600">
                <a:moveTo>
                  <a:pt x="12746" y="10800"/>
                </a:moveTo>
                <a:lnTo>
                  <a:pt x="26759" y="3794"/>
                </a:lnTo>
                <a:lnTo>
                  <a:pt x="267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5640" cy="54547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6659640" y="1974240"/>
            <a:ext cx="1081080" cy="917280"/>
          </a:xfrm>
          <a:prstGeom prst="wedgeRectCallout">
            <a:avLst>
              <a:gd name="adj1" fmla="val -78162"/>
              <a:gd name="adj2" fmla="val -65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2" action="ppaction://hlinksldjump"/>
          </p:cNvPr>
          <p:cNvSpPr/>
          <p:nvPr/>
        </p:nvSpPr>
        <p:spPr>
          <a:xfrm>
            <a:off x="1619280" y="393480"/>
            <a:ext cx="2089080" cy="642600"/>
          </a:xfrm>
          <a:prstGeom prst="wedgeRectCallout">
            <a:avLst>
              <a:gd name="adj1" fmla="val -42712"/>
              <a:gd name="adj2" fmla="val 131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7380360" y="330840"/>
            <a:ext cx="1582560" cy="642600"/>
          </a:xfrm>
          <a:prstGeom prst="wedgeRectCallout">
            <a:avLst>
              <a:gd name="adj1" fmla="val -119592"/>
              <a:gd name="adj2" fmla="val 144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5148360" y="3065400"/>
            <a:ext cx="1439640" cy="917280"/>
          </a:xfrm>
          <a:prstGeom prst="wedgeRectCallout">
            <a:avLst>
              <a:gd name="adj1" fmla="val 26722"/>
              <a:gd name="adj2" fmla="val -157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292720" y="5272560"/>
            <a:ext cx="1150920" cy="368640"/>
          </a:xfrm>
          <a:prstGeom prst="wedgeRectCallout">
            <a:avLst>
              <a:gd name="adj1" fmla="val -195902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>
            <a:hlinkClick r:id="rId3" action="ppaction://hlinksldjump"/>
          </p:cNvPr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>
            <a:hlinkClick r:id="rId4" action="ppaction://hlinksldjump"/>
          </p:cNvPr>
          <p:cNvSpPr/>
          <p:nvPr/>
        </p:nvSpPr>
        <p:spPr>
          <a:xfrm>
            <a:off x="179280" y="538560"/>
            <a:ext cx="1351080" cy="368640"/>
          </a:xfrm>
          <a:prstGeom prst="wedgeRectCallout">
            <a:avLst>
              <a:gd name="adj1" fmla="val -39560"/>
              <a:gd name="adj2" fmla="val 278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5">
            <a:hlinkClick r:id="rId5" action="ppaction://hlinksldjump"/>
          </p:cNvPr>
          <p:cNvSpPr/>
          <p:nvPr/>
        </p:nvSpPr>
        <p:spPr>
          <a:xfrm>
            <a:off x="324000" y="3210840"/>
            <a:ext cx="1223640" cy="642600"/>
          </a:xfrm>
          <a:prstGeom prst="wedgeRectCallout">
            <a:avLst>
              <a:gd name="adj1" fmla="val -51027"/>
              <a:gd name="adj2" fmla="val -21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>
            <a:hlinkClick r:id="rId6" action="ppaction://hlinksldjump"/>
          </p:cNvPr>
          <p:cNvSpPr/>
          <p:nvPr/>
        </p:nvSpPr>
        <p:spPr>
          <a:xfrm>
            <a:off x="3780000" y="467280"/>
            <a:ext cx="1657080" cy="368640"/>
          </a:xfrm>
          <a:prstGeom prst="wedgeRectCallout">
            <a:avLst>
              <a:gd name="adj1" fmla="val -104578"/>
              <a:gd name="adj2" fmla="val 3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格内增加空行可以增大表格高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>
            <a:hlinkClick r:id="rId7" action="ppaction://hlinksldjump"/>
          </p:cNvPr>
          <p:cNvSpPr/>
          <p:nvPr/>
        </p:nvSpPr>
        <p:spPr>
          <a:xfrm>
            <a:off x="324000" y="5134680"/>
            <a:ext cx="1152360" cy="642600"/>
          </a:xfrm>
          <a:prstGeom prst="wedgeRectCallout">
            <a:avLst>
              <a:gd name="adj1" fmla="val 181509"/>
              <a:gd name="adj2" fmla="val -506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增加每格宽度字数”可以增大表格宽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5508720" y="394560"/>
            <a:ext cx="1727280" cy="642600"/>
          </a:xfrm>
          <a:prstGeom prst="wedgeRectCallout">
            <a:avLst>
              <a:gd name="adj1" fmla="val -90337"/>
              <a:gd name="adj2" fmla="val 125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隐藏选项”按钮，绿色框上移至屏幕顶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33800" cy="5545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初级或高级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276640"/>
            <a:ext cx="42228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>
                <a:hlinkClick r:id="rId2" action="ppaction://hlinksldjump"/>
              </p:cNvPr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>
                <a:hlinkClick r:id="rId3" action="ppaction://hlinksldjump"/>
              </p:cNvPr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用户”以减少困难，以后可以随时改为“高级用户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492360" y="6089400"/>
            <a:ext cx="2951280" cy="368640"/>
          </a:xfrm>
          <a:prstGeom prst="wedgeRectCallout">
            <a:avLst>
              <a:gd name="adj1" fmla="val -67925"/>
              <a:gd name="adj2" fmla="val -25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排课高手新版本和用户手册、幻灯演示、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780000" y="4945680"/>
            <a:ext cx="1368360" cy="642600"/>
          </a:xfrm>
          <a:prstGeom prst="wedgeRectCallout">
            <a:avLst>
              <a:gd name="adj1" fmla="val -143814"/>
              <a:gd name="adj2" fmla="val -23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2400" cy="40928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5219640" y="394560"/>
            <a:ext cx="1728720" cy="642600"/>
          </a:xfrm>
          <a:prstGeom prst="wedgeRectCallout">
            <a:avLst>
              <a:gd name="adj1" fmla="val 93138"/>
              <a:gd name="adj2" fmla="val 150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>
            <a:off x="7093080" y="277560"/>
            <a:ext cx="1800000" cy="642600"/>
          </a:xfrm>
          <a:prstGeom prst="wedgeRectCallout">
            <a:avLst>
              <a:gd name="adj1" fmla="val -11587"/>
              <a:gd name="adj2" fmla="val 115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/>
          <p:cNvSpPr/>
          <p:nvPr/>
        </p:nvSpPr>
        <p:spPr>
          <a:xfrm>
            <a:off x="7956720" y="1475640"/>
            <a:ext cx="1015920" cy="1191600"/>
          </a:xfrm>
          <a:prstGeom prst="wedgeRectCallout">
            <a:avLst>
              <a:gd name="adj1" fmla="val -59986"/>
              <a:gd name="adj2" fmla="val -1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4">
            <a:hlinkClick r:id="rId2" action="ppaction://hlinksldjump"/>
          </p:cNvPr>
          <p:cNvSpPr/>
          <p:nvPr/>
        </p:nvSpPr>
        <p:spPr>
          <a:xfrm>
            <a:off x="179280" y="467280"/>
            <a:ext cx="1351080" cy="368640"/>
          </a:xfrm>
          <a:prstGeom prst="wedgeRectCallout">
            <a:avLst>
              <a:gd name="adj1" fmla="val -41796"/>
              <a:gd name="adj2" fmla="val 25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5">
            <a:hlinkClick r:id="rId3" action="ppaction://hlinksldjump"/>
          </p:cNvPr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6694"/>
              <a:gd name="adj2" fmla="val 22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9">
            <a:hlinkClick r:id="rId4" action="ppaction://hlinksldjump"/>
          </p:cNvPr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>
            <a:hlinkClick r:id="rId5" action="ppaction://hlinksldjump"/>
          </p:cNvPr>
          <p:cNvSpPr/>
          <p:nvPr/>
        </p:nvSpPr>
        <p:spPr>
          <a:xfrm>
            <a:off x="3132000" y="401400"/>
            <a:ext cx="1979640" cy="642600"/>
          </a:xfrm>
          <a:prstGeom prst="wedgeRectCallout">
            <a:avLst>
              <a:gd name="adj1" fmla="val -74453"/>
              <a:gd name="adj2" fmla="val 99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3" descr=""/>
          <p:cNvPicPr/>
          <p:nvPr/>
        </p:nvPicPr>
        <p:blipFill>
          <a:blip r:embed="rId6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22"/>
          <p:cNvSpPr/>
          <p:nvPr/>
        </p:nvSpPr>
        <p:spPr>
          <a:xfrm flipV="1" rot="10800000">
            <a:off x="900000" y="2207880"/>
            <a:ext cx="3818160" cy="368640"/>
          </a:xfrm>
          <a:prstGeom prst="wedgeRectCallout">
            <a:avLst>
              <a:gd name="adj1" fmla="val -35162"/>
              <a:gd name="adj2" fmla="val -1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表格宽度太大，可选择简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4"/>
          <p:cNvSpPr/>
          <p:nvPr/>
        </p:nvSpPr>
        <p:spPr>
          <a:xfrm>
            <a:off x="7093080" y="3275640"/>
            <a:ext cx="1512720" cy="642600"/>
          </a:xfrm>
          <a:prstGeom prst="wedgeRectCallout">
            <a:avLst>
              <a:gd name="adj1" fmla="val -115879"/>
              <a:gd name="adj2" fmla="val -25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假期连续上课，“首列”选择“连续日期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5"/>
          <p:cNvSpPr/>
          <p:nvPr/>
        </p:nvSpPr>
        <p:spPr>
          <a:xfrm>
            <a:off x="6012000" y="4938480"/>
            <a:ext cx="1439640" cy="368640"/>
          </a:xfrm>
          <a:prstGeom prst="wedgeRectCallout">
            <a:avLst>
              <a:gd name="adj1" fmla="val -124296"/>
              <a:gd name="adj2" fmla="val 6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6">
            <a:hlinkClick r:id="" action="ppaction://hlinkshowjump?jump=nextslide"/>
          </p:cNvPr>
          <p:cNvSpPr/>
          <p:nvPr/>
        </p:nvSpPr>
        <p:spPr>
          <a:xfrm>
            <a:off x="8459640" y="5873400"/>
            <a:ext cx="541440" cy="423000"/>
          </a:xfrm>
          <a:custGeom>
            <a:avLst/>
            <a:gdLst>
              <a:gd name="textAreaLeft" fmla="*/ 27360 w 541440"/>
              <a:gd name="textAreaRight" fmla="*/ 514080 w 541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7643" h="21600">
                <a:moveTo>
                  <a:pt x="0" y="0"/>
                </a:moveTo>
                <a:lnTo>
                  <a:pt x="27643" y="0"/>
                </a:lnTo>
                <a:lnTo>
                  <a:pt x="27643" y="21600"/>
                </a:lnTo>
                <a:lnTo>
                  <a:pt x="0" y="21600"/>
                </a:lnTo>
                <a:close/>
              </a:path>
              <a:path fill="lightenLess" w="27643" h="21600">
                <a:moveTo>
                  <a:pt x="0" y="0"/>
                </a:moveTo>
                <a:lnTo>
                  <a:pt x="27643" y="0"/>
                </a:lnTo>
                <a:lnTo>
                  <a:pt x="26243" y="1400"/>
                </a:lnTo>
                <a:lnTo>
                  <a:pt x="1400" y="1400"/>
                </a:lnTo>
                <a:close/>
              </a:path>
              <a:path fill="darken" w="27643" h="21600">
                <a:moveTo>
                  <a:pt x="27643" y="0"/>
                </a:moveTo>
                <a:lnTo>
                  <a:pt x="27643" y="21600"/>
                </a:lnTo>
                <a:lnTo>
                  <a:pt x="26243" y="20200"/>
                </a:lnTo>
                <a:lnTo>
                  <a:pt x="26243" y="1400"/>
                </a:lnTo>
                <a:close/>
              </a:path>
              <a:path fill="darkenLess" w="27643" h="21600">
                <a:moveTo>
                  <a:pt x="27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3" y="20200"/>
                </a:lnTo>
                <a:close/>
              </a:path>
              <a:path fill="lighten" w="27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3" h="21600">
                <a:moveTo>
                  <a:pt x="6815" y="3794"/>
                </a:moveTo>
                <a:lnTo>
                  <a:pt x="20828" y="10800"/>
                </a:lnTo>
                <a:lnTo>
                  <a:pt x="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3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18352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5796000" y="192240"/>
            <a:ext cx="1368360" cy="917280"/>
          </a:xfrm>
          <a:prstGeom prst="wedgeRectCallout">
            <a:avLst>
              <a:gd name="adj1" fmla="val 165175"/>
              <a:gd name="adj2" fmla="val 98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7451640" y="278640"/>
            <a:ext cx="1511280" cy="642600"/>
          </a:xfrm>
          <a:prstGeom prst="wedgeRectCallout">
            <a:avLst>
              <a:gd name="adj1" fmla="val 32018"/>
              <a:gd name="adj2" fmla="val 1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7524720" y="3073680"/>
            <a:ext cx="1440000" cy="917280"/>
          </a:xfrm>
          <a:prstGeom prst="wedgeRectCallout">
            <a:avLst>
              <a:gd name="adj1" fmla="val 38749"/>
              <a:gd name="adj2" fmla="val -18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0">
            <a:hlinkClick r:id="rId2" action="ppaction://hlinksldjump"/>
          </p:cNvPr>
          <p:cNvSpPr/>
          <p:nvPr/>
        </p:nvSpPr>
        <p:spPr>
          <a:xfrm>
            <a:off x="179280" y="394200"/>
            <a:ext cx="1351080" cy="368640"/>
          </a:xfrm>
          <a:prstGeom prst="wedgeRectCallout">
            <a:avLst>
              <a:gd name="adj1" fmla="val -37083"/>
              <a:gd name="adj2" fmla="val 2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>
            <a:hlinkClick r:id="rId3" action="ppaction://hlinksldjump"/>
          </p:cNvPr>
          <p:cNvSpPr/>
          <p:nvPr/>
        </p:nvSpPr>
        <p:spPr>
          <a:xfrm>
            <a:off x="1619280" y="257040"/>
            <a:ext cx="1351080" cy="642600"/>
          </a:xfrm>
          <a:prstGeom prst="wedgeRectCallout">
            <a:avLst>
              <a:gd name="adj1" fmla="val -141180"/>
              <a:gd name="adj2" fmla="val 232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2"/>
          <p:cNvSpPr/>
          <p:nvPr/>
        </p:nvSpPr>
        <p:spPr>
          <a:xfrm>
            <a:off x="3059280" y="552240"/>
            <a:ext cx="1225440" cy="368640"/>
          </a:xfrm>
          <a:prstGeom prst="wedgeRectCallout">
            <a:avLst>
              <a:gd name="adj1" fmla="val -120333"/>
              <a:gd name="adj2" fmla="val 25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>
            <a:off x="6516720" y="3339720"/>
            <a:ext cx="934920" cy="368640"/>
          </a:xfrm>
          <a:prstGeom prst="wedgeRectCallout">
            <a:avLst>
              <a:gd name="adj1" fmla="val -74439"/>
              <a:gd name="adj2" fmla="val -505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4">
            <a:hlinkClick r:id="rId4" action="ppaction://hlinksldjump"/>
          </p:cNvPr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4356000" y="485640"/>
            <a:ext cx="1368360" cy="368640"/>
          </a:xfrm>
          <a:prstGeom prst="wedgeRectCallout">
            <a:avLst>
              <a:gd name="adj1" fmla="val -168305"/>
              <a:gd name="adj2" fmla="val 297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表内附的教师姓名的字体就是附加字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516720" y="5515200"/>
            <a:ext cx="792000" cy="917280"/>
          </a:xfrm>
          <a:prstGeom prst="wedgeRectCallout">
            <a:avLst>
              <a:gd name="adj1" fmla="val -152361"/>
              <a:gd name="adj2" fmla="val -2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5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3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7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7">
            <a:hlinkClick r:id="rId2" action="ppaction://hlinksldjump"/>
          </p:cNvPr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rId2" action="ppaction://hlinksldjump"/>
          </p:cNvPr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>
            <a:hlinkClick r:id="rId3" action="ppaction://hlinksldjump"/>
          </p:cNvPr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20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校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985080" cy="655308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5">
            <a:hlinkClick r:id="rId2" action="ppaction://hlinksldjump"/>
          </p:cNvPr>
          <p:cNvSpPr/>
          <p:nvPr/>
        </p:nvSpPr>
        <p:spPr>
          <a:xfrm>
            <a:off x="7956720" y="4149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3794"/>
                </a:moveTo>
                <a:lnTo>
                  <a:pt x="37197" y="10800"/>
                </a:lnTo>
                <a:lnTo>
                  <a:pt x="2318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>
            <a:hlinkClick r:id="" action="ppaction://hlinkshowjump?jump=nextslide"/>
          </p:cNvPr>
          <p:cNvSpPr/>
          <p:nvPr/>
        </p:nvSpPr>
        <p:spPr>
          <a:xfrm>
            <a:off x="7956720" y="5084640"/>
            <a:ext cx="1008000" cy="385920"/>
          </a:xfrm>
          <a:custGeom>
            <a:avLst/>
            <a:gdLst>
              <a:gd name="textAreaLeft" fmla="*/ 24840 w 1008000"/>
              <a:gd name="textAreaRight" fmla="*/ 983160 w 1008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56385" h="21600">
                <a:moveTo>
                  <a:pt x="0" y="0"/>
                </a:moveTo>
                <a:lnTo>
                  <a:pt x="56385" y="0"/>
                </a:lnTo>
                <a:lnTo>
                  <a:pt x="56385" y="21600"/>
                </a:lnTo>
                <a:lnTo>
                  <a:pt x="0" y="21600"/>
                </a:lnTo>
                <a:close/>
              </a:path>
              <a:path fill="lightenLess" w="56385" h="21600">
                <a:moveTo>
                  <a:pt x="0" y="0"/>
                </a:moveTo>
                <a:lnTo>
                  <a:pt x="56385" y="0"/>
                </a:lnTo>
                <a:lnTo>
                  <a:pt x="54985" y="1400"/>
                </a:lnTo>
                <a:lnTo>
                  <a:pt x="1400" y="1400"/>
                </a:lnTo>
                <a:close/>
              </a:path>
              <a:path fill="darken" w="56385" h="21600">
                <a:moveTo>
                  <a:pt x="56385" y="0"/>
                </a:moveTo>
                <a:lnTo>
                  <a:pt x="56385" y="21600"/>
                </a:lnTo>
                <a:lnTo>
                  <a:pt x="54985" y="20200"/>
                </a:lnTo>
                <a:lnTo>
                  <a:pt x="54985" y="1400"/>
                </a:lnTo>
                <a:close/>
              </a:path>
              <a:path fill="darkenLess" w="56385" h="21600">
                <a:moveTo>
                  <a:pt x="5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85" y="20200"/>
                </a:lnTo>
                <a:close/>
              </a:path>
              <a:path fill="lighten" w="5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85" h="21600">
                <a:moveTo>
                  <a:pt x="21186" y="3794"/>
                </a:moveTo>
                <a:lnTo>
                  <a:pt x="35199" y="10800"/>
                </a:lnTo>
                <a:lnTo>
                  <a:pt x="211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>
            <a:hlinkClick r:id="" action="ppaction://hlinkshowjump?jump=previousslide"/>
          </p:cNvPr>
          <p:cNvSpPr/>
          <p:nvPr/>
        </p:nvSpPr>
        <p:spPr>
          <a:xfrm>
            <a:off x="7956720" y="4653000"/>
            <a:ext cx="1008000" cy="28872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44" h="21600">
                <a:moveTo>
                  <a:pt x="0" y="0"/>
                </a:moveTo>
                <a:lnTo>
                  <a:pt x="75344" y="0"/>
                </a:lnTo>
                <a:lnTo>
                  <a:pt x="75344" y="21600"/>
                </a:lnTo>
                <a:lnTo>
                  <a:pt x="0" y="21600"/>
                </a:lnTo>
                <a:close/>
              </a:path>
              <a:path fill="lightenLess" w="75344" h="21600">
                <a:moveTo>
                  <a:pt x="0" y="0"/>
                </a:moveTo>
                <a:lnTo>
                  <a:pt x="75344" y="0"/>
                </a:lnTo>
                <a:lnTo>
                  <a:pt x="73944" y="1400"/>
                </a:lnTo>
                <a:lnTo>
                  <a:pt x="1400" y="1400"/>
                </a:lnTo>
                <a:close/>
              </a:path>
              <a:path fill="darken" w="75344" h="21600">
                <a:moveTo>
                  <a:pt x="75344" y="0"/>
                </a:moveTo>
                <a:lnTo>
                  <a:pt x="75344" y="21600"/>
                </a:lnTo>
                <a:lnTo>
                  <a:pt x="73944" y="20200"/>
                </a:lnTo>
                <a:lnTo>
                  <a:pt x="73944" y="1400"/>
                </a:lnTo>
                <a:close/>
              </a:path>
              <a:path fill="darkenLess" w="75344" h="21600">
                <a:moveTo>
                  <a:pt x="75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4" y="20200"/>
                </a:lnTo>
                <a:close/>
              </a:path>
              <a:path fill="lighten" w="75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44" h="21600">
                <a:moveTo>
                  <a:pt x="30666" y="10800"/>
                </a:moveTo>
                <a:lnTo>
                  <a:pt x="44679" y="3794"/>
                </a:lnTo>
                <a:lnTo>
                  <a:pt x="4467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10080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出的年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5740200" cy="63370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5">
            <a:hlinkClick r:id="rId2" action="ppaction://hlinksldjump"/>
          </p:cNvPr>
          <p:cNvSpPr/>
          <p:nvPr/>
        </p:nvSpPr>
        <p:spPr>
          <a:xfrm>
            <a:off x="7308720" y="407664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>
            <a:hlinkClick r:id="rId3" action="ppaction://hlinksldjump"/>
          </p:cNvPr>
          <p:cNvSpPr/>
          <p:nvPr/>
        </p:nvSpPr>
        <p:spPr>
          <a:xfrm>
            <a:off x="7308720" y="5084640"/>
            <a:ext cx="1656000" cy="385920"/>
          </a:xfrm>
          <a:custGeom>
            <a:avLst/>
            <a:gdLst>
              <a:gd name="textAreaLeft" fmla="*/ 24840 w 1656000"/>
              <a:gd name="textAreaRight" fmla="*/ 1631160 w 1656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92620" h="21600">
                <a:moveTo>
                  <a:pt x="0" y="0"/>
                </a:moveTo>
                <a:lnTo>
                  <a:pt x="92620" y="0"/>
                </a:lnTo>
                <a:lnTo>
                  <a:pt x="92620" y="21600"/>
                </a:lnTo>
                <a:lnTo>
                  <a:pt x="0" y="21600"/>
                </a:lnTo>
                <a:close/>
              </a:path>
              <a:path fill="lightenLess" w="92620" h="21600">
                <a:moveTo>
                  <a:pt x="0" y="0"/>
                </a:moveTo>
                <a:lnTo>
                  <a:pt x="92620" y="0"/>
                </a:lnTo>
                <a:lnTo>
                  <a:pt x="91220" y="1400"/>
                </a:lnTo>
                <a:lnTo>
                  <a:pt x="1400" y="1400"/>
                </a:lnTo>
                <a:close/>
              </a:path>
              <a:path fill="darken" w="92620" h="21600">
                <a:moveTo>
                  <a:pt x="92620" y="0"/>
                </a:moveTo>
                <a:lnTo>
                  <a:pt x="92620" y="21600"/>
                </a:lnTo>
                <a:lnTo>
                  <a:pt x="91220" y="20200"/>
                </a:lnTo>
                <a:lnTo>
                  <a:pt x="91220" y="1400"/>
                </a:lnTo>
                <a:close/>
              </a:path>
              <a:path fill="darkenLess" w="92620" h="21600">
                <a:moveTo>
                  <a:pt x="92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20" y="20200"/>
                </a:lnTo>
                <a:close/>
              </a:path>
              <a:path fill="lighten" w="92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20" h="21600">
                <a:moveTo>
                  <a:pt x="39304" y="3794"/>
                </a:moveTo>
                <a:lnTo>
                  <a:pt x="53317" y="10800"/>
                </a:lnTo>
                <a:lnTo>
                  <a:pt x="393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">
            <a:hlinkClick r:id="" action="ppaction://hlinkshowjump?jump=previousslide"/>
          </p:cNvPr>
          <p:cNvSpPr/>
          <p:nvPr/>
        </p:nvSpPr>
        <p:spPr>
          <a:xfrm>
            <a:off x="7308720" y="458136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10800"/>
                </a:moveTo>
                <a:lnTo>
                  <a:pt x="56598" y="3794"/>
                </a:lnTo>
                <a:lnTo>
                  <a:pt x="565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856720" cy="5205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2700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统计教师工作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2124000" y="754560"/>
            <a:ext cx="1368360" cy="368640"/>
          </a:xfrm>
          <a:prstGeom prst="wedgeRectCallout">
            <a:avLst>
              <a:gd name="adj1" fmla="val 10310"/>
              <a:gd name="adj2" fmla="val 43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修改各课程的分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8"/>
          <p:cNvSpPr/>
          <p:nvPr/>
        </p:nvSpPr>
        <p:spPr>
          <a:xfrm>
            <a:off x="4932360" y="330480"/>
            <a:ext cx="1655640" cy="917280"/>
          </a:xfrm>
          <a:prstGeom prst="wedgeRectCallout">
            <a:avLst>
              <a:gd name="adj1" fmla="val 168018"/>
              <a:gd name="adj2" fmla="val 365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工作量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9"/>
          <p:cNvSpPr/>
          <p:nvPr/>
        </p:nvSpPr>
        <p:spPr>
          <a:xfrm>
            <a:off x="6732720" y="611640"/>
            <a:ext cx="1079280" cy="368640"/>
          </a:xfrm>
          <a:prstGeom prst="wedgeRectCallout">
            <a:avLst>
              <a:gd name="adj1" fmla="val 97615"/>
              <a:gd name="adj2" fmla="val 59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全校总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5148360" y="4440600"/>
            <a:ext cx="3457440" cy="368640"/>
          </a:xfrm>
          <a:prstGeom prst="wedgeRectCallout">
            <a:avLst>
              <a:gd name="adj1" fmla="val -78370"/>
              <a:gd name="adj2" fmla="val 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输入或粘贴“其他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2"/>
          <p:cNvSpPr/>
          <p:nvPr/>
        </p:nvSpPr>
        <p:spPr>
          <a:xfrm>
            <a:off x="7308720" y="5147640"/>
            <a:ext cx="1619280" cy="917280"/>
          </a:xfrm>
          <a:prstGeom prst="wedgeRectCallout">
            <a:avLst>
              <a:gd name="adj1" fmla="val 26259"/>
              <a:gd name="adj2" fmla="val -140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分津贴和人津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219640" y="5421960"/>
            <a:ext cx="2016360" cy="368640"/>
          </a:xfrm>
          <a:prstGeom prst="wedgeRectCallout">
            <a:avLst>
              <a:gd name="adj1" fmla="val -216296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某教师，在下面绿色框出现该教师的工作量分和津贴的计算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179280" y="394560"/>
            <a:ext cx="1800360" cy="642600"/>
          </a:xfrm>
          <a:prstGeom prst="wedgeRectCallout">
            <a:avLst>
              <a:gd name="adj1" fmla="val 4837"/>
              <a:gd name="adj2" fmla="val 1815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导出”按钮右边的下拉箭头，选择需要导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>
            <a:hlinkClick r:id="rId2" action="ppaction://hlinksldjump"/>
          </p:cNvPr>
          <p:cNvSpPr/>
          <p:nvPr/>
        </p:nvSpPr>
        <p:spPr>
          <a:xfrm>
            <a:off x="8101080" y="11592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6">
            <a:hlinkClick r:id="" action="ppaction://hlinkshowjump?jump=nextslide"/>
          </p:cNvPr>
          <p:cNvSpPr/>
          <p:nvPr/>
        </p:nvSpPr>
        <p:spPr>
          <a:xfrm>
            <a:off x="8101080" y="899640"/>
            <a:ext cx="792000" cy="423000"/>
          </a:xfrm>
          <a:custGeom>
            <a:avLst/>
            <a:gdLst>
              <a:gd name="textAreaLeft" fmla="*/ 27360 w 792000"/>
              <a:gd name="textAreaRight" fmla="*/ 764640 w 792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27" h="21600">
                <a:moveTo>
                  <a:pt x="0" y="0"/>
                </a:moveTo>
                <a:lnTo>
                  <a:pt x="40427" y="0"/>
                </a:lnTo>
                <a:lnTo>
                  <a:pt x="40427" y="21600"/>
                </a:lnTo>
                <a:lnTo>
                  <a:pt x="0" y="21600"/>
                </a:lnTo>
                <a:close/>
              </a:path>
              <a:path fill="lightenLess" w="40427" h="21600">
                <a:moveTo>
                  <a:pt x="0" y="0"/>
                </a:moveTo>
                <a:lnTo>
                  <a:pt x="40427" y="0"/>
                </a:lnTo>
                <a:lnTo>
                  <a:pt x="39027" y="1400"/>
                </a:lnTo>
                <a:lnTo>
                  <a:pt x="1400" y="1400"/>
                </a:lnTo>
                <a:close/>
              </a:path>
              <a:path fill="darken" w="40427" h="21600">
                <a:moveTo>
                  <a:pt x="40427" y="0"/>
                </a:moveTo>
                <a:lnTo>
                  <a:pt x="40427" y="21600"/>
                </a:lnTo>
                <a:lnTo>
                  <a:pt x="39027" y="20200"/>
                </a:lnTo>
                <a:lnTo>
                  <a:pt x="39027" y="1400"/>
                </a:lnTo>
                <a:close/>
              </a:path>
              <a:path fill="darkenLess" w="40427" h="21600">
                <a:moveTo>
                  <a:pt x="4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27" y="20200"/>
                </a:lnTo>
                <a:close/>
              </a:path>
              <a:path fill="lighten" w="4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27" h="21600">
                <a:moveTo>
                  <a:pt x="13207" y="3794"/>
                </a:moveTo>
                <a:lnTo>
                  <a:pt x="27220" y="10800"/>
                </a:lnTo>
                <a:lnTo>
                  <a:pt x="132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3564000" y="617400"/>
            <a:ext cx="1295280" cy="642600"/>
          </a:xfrm>
          <a:prstGeom prst="wedgeRectCallout">
            <a:avLst>
              <a:gd name="adj1" fmla="val 285287"/>
              <a:gd name="adj2" fmla="val 451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显示教师任课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>
            <a:off x="3635280" y="1914480"/>
            <a:ext cx="1513080" cy="917280"/>
          </a:xfrm>
          <a:prstGeom prst="wedgeRectCallout">
            <a:avLst>
              <a:gd name="adj1" fmla="val 92481"/>
              <a:gd name="adj2" fmla="val 158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“每多一课头增加的分”和“班主任增加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1">
            <a:hlinkClick r:id="" action="ppaction://hlinkshowjump?jump=previousslide"/>
          </p:cNvPr>
          <p:cNvSpPr/>
          <p:nvPr/>
        </p:nvSpPr>
        <p:spPr>
          <a:xfrm>
            <a:off x="8101080" y="549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3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2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3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01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监考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6"/>
          <p:cNvSpPr/>
          <p:nvPr/>
        </p:nvSpPr>
        <p:spPr>
          <a:xfrm>
            <a:off x="2484360" y="467280"/>
            <a:ext cx="1368360" cy="368640"/>
          </a:xfrm>
          <a:prstGeom prst="wedgeRectCallout">
            <a:avLst>
              <a:gd name="adj1" fmla="val -153337"/>
              <a:gd name="adj2" fmla="val 52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或选择考试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05310"/>
              <a:gd name="adj2" fmla="val 57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>
            <a:hlinkClick r:id="rId2" action="ppaction://hlinksldjump"/>
          </p:cNvPr>
          <p:cNvSpPr/>
          <p:nvPr/>
        </p:nvSpPr>
        <p:spPr>
          <a:xfrm>
            <a:off x="5651640" y="47628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72" h="21600">
                <a:moveTo>
                  <a:pt x="20030" y="10800"/>
                </a:moveTo>
                <a:lnTo>
                  <a:pt x="34042" y="3794"/>
                </a:lnTo>
                <a:lnTo>
                  <a:pt x="340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9">
            <a:hlinkClick r:id="rId3" action="ppaction://hlinksldjump"/>
          </p:cNvPr>
          <p:cNvSpPr/>
          <p:nvPr/>
        </p:nvSpPr>
        <p:spPr>
          <a:xfrm>
            <a:off x="7812000" y="468000"/>
            <a:ext cx="949320" cy="423000"/>
          </a:xfrm>
          <a:custGeom>
            <a:avLst/>
            <a:gdLst>
              <a:gd name="textAreaLeft" fmla="*/ 27360 w 949320"/>
              <a:gd name="textAreaRight" fmla="*/ 921960 w 9493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8453" h="21600">
                <a:moveTo>
                  <a:pt x="0" y="0"/>
                </a:moveTo>
                <a:lnTo>
                  <a:pt x="48453" y="0"/>
                </a:lnTo>
                <a:lnTo>
                  <a:pt x="48453" y="21600"/>
                </a:lnTo>
                <a:lnTo>
                  <a:pt x="0" y="21600"/>
                </a:lnTo>
                <a:close/>
              </a:path>
              <a:path fill="lightenLess" w="48453" h="21600">
                <a:moveTo>
                  <a:pt x="0" y="0"/>
                </a:moveTo>
                <a:lnTo>
                  <a:pt x="48453" y="0"/>
                </a:lnTo>
                <a:lnTo>
                  <a:pt x="47053" y="1400"/>
                </a:lnTo>
                <a:lnTo>
                  <a:pt x="1400" y="1400"/>
                </a:lnTo>
                <a:close/>
              </a:path>
              <a:path fill="darken" w="48453" h="21600">
                <a:moveTo>
                  <a:pt x="48453" y="0"/>
                </a:moveTo>
                <a:lnTo>
                  <a:pt x="48453" y="21600"/>
                </a:lnTo>
                <a:lnTo>
                  <a:pt x="47053" y="20200"/>
                </a:lnTo>
                <a:lnTo>
                  <a:pt x="47053" y="1400"/>
                </a:lnTo>
                <a:close/>
              </a:path>
              <a:path fill="darkenLess" w="48453" h="21600">
                <a:moveTo>
                  <a:pt x="48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53" y="20200"/>
                </a:lnTo>
                <a:close/>
              </a:path>
              <a:path fill="lighten" w="48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53" h="21600">
                <a:moveTo>
                  <a:pt x="17220" y="3794"/>
                </a:moveTo>
                <a:lnTo>
                  <a:pt x="31233" y="10800"/>
                </a:lnTo>
                <a:lnTo>
                  <a:pt x="172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0">
            <a:hlinkClick r:id="" action="ppaction://hlinkshowjump?jump=previousslide"/>
          </p:cNvPr>
          <p:cNvSpPr/>
          <p:nvPr/>
        </p:nvSpPr>
        <p:spPr>
          <a:xfrm>
            <a:off x="6804000" y="47628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233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编排工作人员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2484360" y="401400"/>
            <a:ext cx="1368360" cy="368640"/>
          </a:xfrm>
          <a:prstGeom prst="wedgeRectCallout">
            <a:avLst>
              <a:gd name="adj1" fmla="val -174694"/>
              <a:gd name="adj2" fmla="val 705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新的项目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22037"/>
              <a:gd name="adj2" fmla="val 4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5508720" y="401400"/>
            <a:ext cx="1368360" cy="368640"/>
          </a:xfrm>
          <a:prstGeom prst="wedgeRectCallout">
            <a:avLst>
              <a:gd name="adj1" fmla="val -60412"/>
              <a:gd name="adj2" fmla="val 139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7020000" y="401400"/>
            <a:ext cx="1368360" cy="368640"/>
          </a:xfrm>
          <a:prstGeom prst="wedgeRectCallout">
            <a:avLst>
              <a:gd name="adj1" fmla="val -4078"/>
              <a:gd name="adj2" fmla="val 47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修改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9">
            <a:hlinkClick r:id="rId2" action="ppaction://hlinksldjump"/>
          </p:cNvPr>
          <p:cNvSpPr/>
          <p:nvPr/>
        </p:nvSpPr>
        <p:spPr>
          <a:xfrm>
            <a:off x="8172360" y="479736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0">
            <a:hlinkClick r:id="" action="ppaction://hlinkshowjump?jump=nextslide"/>
          </p:cNvPr>
          <p:cNvSpPr/>
          <p:nvPr/>
        </p:nvSpPr>
        <p:spPr>
          <a:xfrm>
            <a:off x="8172360" y="612900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1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10800"/>
                </a:moveTo>
                <a:lnTo>
                  <a:pt x="30741" y="3794"/>
                </a:lnTo>
                <a:lnTo>
                  <a:pt x="307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780320" cy="54406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08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编排监考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2268360" y="467280"/>
            <a:ext cx="935280" cy="368640"/>
          </a:xfrm>
          <a:prstGeom prst="wedgeRectCallout">
            <a:avLst>
              <a:gd name="adj1" fmla="val -114828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考试总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3276720" y="467280"/>
            <a:ext cx="1008000" cy="368640"/>
          </a:xfrm>
          <a:prstGeom prst="wedgeRectCallout">
            <a:avLst>
              <a:gd name="adj1" fmla="val -138500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全校总考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4356000" y="467280"/>
            <a:ext cx="1008000" cy="368640"/>
          </a:xfrm>
          <a:prstGeom prst="wedgeRectCallout">
            <a:avLst>
              <a:gd name="adj1" fmla="val -175023"/>
              <a:gd name="adj2" fmla="val 4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考试总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7"/>
          <p:cNvSpPr/>
          <p:nvPr/>
        </p:nvSpPr>
        <p:spPr>
          <a:xfrm>
            <a:off x="5435640" y="330120"/>
            <a:ext cx="1225440" cy="642600"/>
          </a:xfrm>
          <a:prstGeom prst="wedgeRectCallout">
            <a:avLst>
              <a:gd name="adj1" fmla="val -181333"/>
              <a:gd name="adj2" fmla="val 249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考试总场次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732720" y="467280"/>
            <a:ext cx="1726920" cy="368640"/>
          </a:xfrm>
          <a:prstGeom prst="wedgeRectCallout">
            <a:avLst>
              <a:gd name="adj1" fmla="val 166"/>
              <a:gd name="adj2" fmla="val 4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教师需监考的场次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0"/>
          <p:cNvSpPr/>
          <p:nvPr/>
        </p:nvSpPr>
        <p:spPr>
          <a:xfrm>
            <a:off x="4932360" y="1482480"/>
            <a:ext cx="1295280" cy="368640"/>
          </a:xfrm>
          <a:prstGeom prst="wedgeRectCallout">
            <a:avLst>
              <a:gd name="adj1" fmla="val -272282"/>
              <a:gd name="adj2" fmla="val 27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编排第几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6300720" y="1482480"/>
            <a:ext cx="1295640" cy="368640"/>
          </a:xfrm>
          <a:prstGeom prst="wedgeRectCallout">
            <a:avLst>
              <a:gd name="adj1" fmla="val -239083"/>
              <a:gd name="adj2" fmla="val 26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日期和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2"/>
          <p:cNvSpPr/>
          <p:nvPr/>
        </p:nvSpPr>
        <p:spPr>
          <a:xfrm>
            <a:off x="8028000" y="3765960"/>
            <a:ext cx="934920" cy="368640"/>
          </a:xfrm>
          <a:prstGeom prst="wedgeRectCallout">
            <a:avLst>
              <a:gd name="adj1" fmla="val -676287"/>
              <a:gd name="adj2" fmla="val -273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和考生有关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3"/>
          <p:cNvSpPr/>
          <p:nvPr/>
        </p:nvSpPr>
        <p:spPr>
          <a:xfrm>
            <a:off x="8028000" y="4938480"/>
            <a:ext cx="1008000" cy="642600"/>
          </a:xfrm>
          <a:prstGeom prst="wedgeRectCallout">
            <a:avLst>
              <a:gd name="adj1" fmla="val -411870"/>
              <a:gd name="adj2" fmla="val -297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自动编排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4"/>
          <p:cNvSpPr/>
          <p:nvPr/>
        </p:nvSpPr>
        <p:spPr>
          <a:xfrm>
            <a:off x="8028000" y="5946480"/>
            <a:ext cx="934920" cy="642600"/>
          </a:xfrm>
          <a:prstGeom prst="wedgeRectCallout">
            <a:avLst>
              <a:gd name="adj1" fmla="val -70703"/>
              <a:gd name="adj2" fmla="val -12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5">
            <a:hlinkClick r:id="rId2" action="ppaction://hlinksldjump"/>
          </p:cNvPr>
          <p:cNvSpPr/>
          <p:nvPr/>
        </p:nvSpPr>
        <p:spPr>
          <a:xfrm>
            <a:off x="8172360" y="119700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6">
            <a:hlinkClick r:id="" action="ppaction://hlinkshowjump?jump=nextslide"/>
          </p:cNvPr>
          <p:cNvSpPr/>
          <p:nvPr/>
        </p:nvSpPr>
        <p:spPr>
          <a:xfrm>
            <a:off x="8172360" y="2550600"/>
            <a:ext cx="709560" cy="423000"/>
          </a:xfrm>
          <a:custGeom>
            <a:avLst/>
            <a:gdLst>
              <a:gd name="textAreaLeft" fmla="*/ 27360 w 709560"/>
              <a:gd name="textAreaRight" fmla="*/ 682200 w 709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6220" h="21600">
                <a:moveTo>
                  <a:pt x="0" y="0"/>
                </a:moveTo>
                <a:lnTo>
                  <a:pt x="36220" y="0"/>
                </a:lnTo>
                <a:lnTo>
                  <a:pt x="36220" y="21600"/>
                </a:lnTo>
                <a:lnTo>
                  <a:pt x="0" y="21600"/>
                </a:lnTo>
                <a:close/>
              </a:path>
              <a:path fill="lightenLess" w="36220" h="21600">
                <a:moveTo>
                  <a:pt x="0" y="0"/>
                </a:moveTo>
                <a:lnTo>
                  <a:pt x="36220" y="0"/>
                </a:lnTo>
                <a:lnTo>
                  <a:pt x="34820" y="1400"/>
                </a:lnTo>
                <a:lnTo>
                  <a:pt x="1400" y="1400"/>
                </a:lnTo>
                <a:close/>
              </a:path>
              <a:path fill="darken" w="36220" h="21600">
                <a:moveTo>
                  <a:pt x="36220" y="0"/>
                </a:moveTo>
                <a:lnTo>
                  <a:pt x="36220" y="21600"/>
                </a:lnTo>
                <a:lnTo>
                  <a:pt x="34820" y="20200"/>
                </a:lnTo>
                <a:lnTo>
                  <a:pt x="34820" y="1400"/>
                </a:lnTo>
                <a:close/>
              </a:path>
              <a:path fill="darkenLess" w="36220" h="21600">
                <a:moveTo>
                  <a:pt x="36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20" y="20200"/>
                </a:lnTo>
                <a:close/>
              </a:path>
              <a:path fill="lighten" w="36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20" h="21600">
                <a:moveTo>
                  <a:pt x="11104" y="3794"/>
                </a:moveTo>
                <a:lnTo>
                  <a:pt x="25117" y="10800"/>
                </a:lnTo>
                <a:lnTo>
                  <a:pt x="111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7">
            <a:hlinkClick r:id="" action="ppaction://hlinkshowjump?jump=previousslide"/>
          </p:cNvPr>
          <p:cNvSpPr/>
          <p:nvPr/>
        </p:nvSpPr>
        <p:spPr>
          <a:xfrm>
            <a:off x="8172360" y="191628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3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3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0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8037360" cy="492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窗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2" action="ppaction://hlinksldjump"/>
          </p:cNvPr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08000" y="0"/>
            <a:ext cx="1727280" cy="1628640"/>
          </a:xfrm>
          <a:prstGeom prst="wedgeRoundRectCallout">
            <a:avLst>
              <a:gd name="adj1" fmla="val 26078"/>
              <a:gd name="adj2" fmla="val 949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979640" y="0"/>
            <a:ext cx="1224000" cy="1557360"/>
          </a:xfrm>
          <a:prstGeom prst="wedgeRoundRectCallout">
            <a:avLst>
              <a:gd name="adj1" fmla="val -67736"/>
              <a:gd name="adj2" fmla="val 1073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804000" y="115920"/>
            <a:ext cx="1008000" cy="1557360"/>
          </a:xfrm>
          <a:prstGeom prst="wedgeRoundRectCallout">
            <a:avLst>
              <a:gd name="adj1" fmla="val -357532"/>
              <a:gd name="adj2" fmla="val 9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选项”按钮，修改系统选项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7885080" y="115920"/>
            <a:ext cx="1258920" cy="1584360"/>
          </a:xfrm>
          <a:prstGeom prst="wedgeRoundRectCallout">
            <a:avLst>
              <a:gd name="adj1" fmla="val -14523"/>
              <a:gd name="adj2" fmla="val 92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帮助”按钮右边的下拉箭头，看版本信息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5148360" y="0"/>
            <a:ext cx="1511280" cy="1700280"/>
          </a:xfrm>
          <a:prstGeom prst="wedgeRoundRectCallout">
            <a:avLst>
              <a:gd name="adj1" fmla="val -226125"/>
              <a:gd name="adj2" fmla="val 89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还原”按钮，还原损坏的排课数据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3348000" y="0"/>
            <a:ext cx="1728720" cy="1557360"/>
          </a:xfrm>
          <a:prstGeom prst="wedgeRoundRectCallout">
            <a:avLst>
              <a:gd name="adj1" fmla="val -121060"/>
              <a:gd name="adj2" fmla="val 108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另存”按钮，保存备份的排课数据文件（可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223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考场考号互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539640" y="5225760"/>
            <a:ext cx="935280" cy="368640"/>
          </a:xfrm>
          <a:prstGeom prst="wedgeRectCallout">
            <a:avLst>
              <a:gd name="adj1" fmla="val 118407"/>
              <a:gd name="adj2" fmla="val -49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2484360" y="330120"/>
            <a:ext cx="1584360" cy="642600"/>
          </a:xfrm>
          <a:prstGeom prst="wedgeRectCallout">
            <a:avLst>
              <a:gd name="adj1" fmla="val -46208"/>
              <a:gd name="adj2" fmla="val 28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号”按钮和“导出考号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4356000" y="401400"/>
            <a:ext cx="1008000" cy="368640"/>
          </a:xfrm>
          <a:prstGeom prst="wedgeRectCallout">
            <a:avLst>
              <a:gd name="adj1" fmla="val -33328"/>
              <a:gd name="adj2" fmla="val 56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5651640" y="330120"/>
            <a:ext cx="1584360" cy="642600"/>
          </a:xfrm>
          <a:prstGeom prst="wedgeRectCallout">
            <a:avLst>
              <a:gd name="adj1" fmla="val -56199"/>
              <a:gd name="adj2" fmla="val 321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场”按钮和“导出考场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4">
            <a:hlinkClick r:id="rId2" action="ppaction://hlinksldjump"/>
          </p:cNvPr>
          <p:cNvSpPr/>
          <p:nvPr/>
        </p:nvSpPr>
        <p:spPr>
          <a:xfrm>
            <a:off x="8244000" y="69228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5">
            <a:hlinkClick r:id="" action="ppaction://hlinkshowjump?jump=nextslide"/>
          </p:cNvPr>
          <p:cNvSpPr/>
          <p:nvPr/>
        </p:nvSpPr>
        <p:spPr>
          <a:xfrm>
            <a:off x="8244000" y="2268720"/>
            <a:ext cx="809640" cy="423000"/>
          </a:xfrm>
          <a:custGeom>
            <a:avLst/>
            <a:gdLst>
              <a:gd name="textAreaLeft" fmla="*/ 27360 w 809640"/>
              <a:gd name="textAreaRight" fmla="*/ 782280 w 80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1327" h="21600">
                <a:moveTo>
                  <a:pt x="0" y="0"/>
                </a:moveTo>
                <a:lnTo>
                  <a:pt x="41327" y="0"/>
                </a:lnTo>
                <a:lnTo>
                  <a:pt x="41327" y="21600"/>
                </a:lnTo>
                <a:lnTo>
                  <a:pt x="0" y="21600"/>
                </a:lnTo>
                <a:close/>
              </a:path>
              <a:path fill="lightenLess" w="41327" h="21600">
                <a:moveTo>
                  <a:pt x="0" y="0"/>
                </a:moveTo>
                <a:lnTo>
                  <a:pt x="41327" y="0"/>
                </a:lnTo>
                <a:lnTo>
                  <a:pt x="39927" y="1400"/>
                </a:lnTo>
                <a:lnTo>
                  <a:pt x="1400" y="1400"/>
                </a:lnTo>
                <a:close/>
              </a:path>
              <a:path fill="darken" w="41327" h="21600">
                <a:moveTo>
                  <a:pt x="41327" y="0"/>
                </a:moveTo>
                <a:lnTo>
                  <a:pt x="41327" y="21600"/>
                </a:lnTo>
                <a:lnTo>
                  <a:pt x="39927" y="20200"/>
                </a:lnTo>
                <a:lnTo>
                  <a:pt x="39927" y="1400"/>
                </a:lnTo>
                <a:close/>
              </a:path>
              <a:path fill="darkenLess" w="41327" h="21600">
                <a:moveTo>
                  <a:pt x="41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27" y="20200"/>
                </a:lnTo>
                <a:close/>
              </a:path>
              <a:path fill="lighten" w="41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27" h="21600">
                <a:moveTo>
                  <a:pt x="13657" y="3794"/>
                </a:moveTo>
                <a:lnTo>
                  <a:pt x="27670" y="10800"/>
                </a:lnTo>
                <a:lnTo>
                  <a:pt x="1365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6">
            <a:hlinkClick r:id="" action="ppaction://hlinkshowjump?jump=previousslide"/>
          </p:cNvPr>
          <p:cNvSpPr/>
          <p:nvPr/>
        </p:nvSpPr>
        <p:spPr>
          <a:xfrm>
            <a:off x="8244000" y="148428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3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3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3430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37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统计学生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2700360" y="26028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计分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8">
            <a:hlinkClick r:id="rId2" action="ppaction://hlinksldjump"/>
          </p:cNvPr>
          <p:cNvSpPr/>
          <p:nvPr/>
        </p:nvSpPr>
        <p:spPr>
          <a:xfrm>
            <a:off x="4859280" y="436572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>
            <a:hlinkClick r:id="" action="ppaction://hlinkshowjump?jump=nextslide"/>
          </p:cNvPr>
          <p:cNvSpPr/>
          <p:nvPr/>
        </p:nvSpPr>
        <p:spPr>
          <a:xfrm>
            <a:off x="7524720" y="435744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0">
            <a:hlinkClick r:id="" action="ppaction://hlinkshowjump?jump=previousslide"/>
          </p:cNvPr>
          <p:cNvSpPr/>
          <p:nvPr/>
        </p:nvSpPr>
        <p:spPr>
          <a:xfrm>
            <a:off x="6227640" y="436572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拟班级成绩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30568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5">
            <a:hlinkClick r:id="rId2" action="ppaction://hlinksldjump"/>
          </p:cNvPr>
          <p:cNvSpPr/>
          <p:nvPr/>
        </p:nvSpPr>
        <p:spPr>
          <a:xfrm>
            <a:off x="478800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>
            <a:hlinkClick r:id="" action="ppaction://hlinkshowjump?jump=nextslide"/>
          </p:cNvPr>
          <p:cNvSpPr/>
          <p:nvPr/>
        </p:nvSpPr>
        <p:spPr>
          <a:xfrm>
            <a:off x="759636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年级成绩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416720" cy="594036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>
            <a:hlinkClick r:id="rId2" action="ppaction://hlinksldjump"/>
          </p:cNvPr>
          <p:cNvSpPr/>
          <p:nvPr/>
        </p:nvSpPr>
        <p:spPr>
          <a:xfrm>
            <a:off x="485928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" action="ppaction://hlinkshowjump?jump=nextslide"/>
          </p:cNvPr>
          <p:cNvSpPr/>
          <p:nvPr/>
        </p:nvSpPr>
        <p:spPr>
          <a:xfrm>
            <a:off x="752472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266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分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2987640" y="40464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分班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5940360" y="40464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7" h="21600">
                <a:moveTo>
                  <a:pt x="23577" y="10800"/>
                </a:moveTo>
                <a:lnTo>
                  <a:pt x="37590" y="3794"/>
                </a:lnTo>
                <a:lnTo>
                  <a:pt x="3759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7">
            <a:hlinkClick r:id="" action="ppaction://hlinkshowjump?jump=nextslide"/>
          </p:cNvPr>
          <p:cNvSpPr/>
          <p:nvPr/>
        </p:nvSpPr>
        <p:spPr>
          <a:xfrm>
            <a:off x="7956720" y="396360"/>
            <a:ext cx="798480" cy="423000"/>
          </a:xfrm>
          <a:custGeom>
            <a:avLst/>
            <a:gdLst>
              <a:gd name="textAreaLeft" fmla="*/ 27360 w 798480"/>
              <a:gd name="textAreaRight" fmla="*/ 771120 w 798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757" h="21600">
                <a:moveTo>
                  <a:pt x="0" y="0"/>
                </a:moveTo>
                <a:lnTo>
                  <a:pt x="40757" y="0"/>
                </a:lnTo>
                <a:lnTo>
                  <a:pt x="40757" y="21600"/>
                </a:lnTo>
                <a:lnTo>
                  <a:pt x="0" y="21600"/>
                </a:lnTo>
                <a:close/>
              </a:path>
              <a:path fill="lightenLess" w="40757" h="21600">
                <a:moveTo>
                  <a:pt x="0" y="0"/>
                </a:moveTo>
                <a:lnTo>
                  <a:pt x="40757" y="0"/>
                </a:lnTo>
                <a:lnTo>
                  <a:pt x="39357" y="1400"/>
                </a:lnTo>
                <a:lnTo>
                  <a:pt x="1400" y="1400"/>
                </a:lnTo>
                <a:close/>
              </a:path>
              <a:path fill="darken" w="40757" h="21600">
                <a:moveTo>
                  <a:pt x="40757" y="0"/>
                </a:moveTo>
                <a:lnTo>
                  <a:pt x="40757" y="21600"/>
                </a:lnTo>
                <a:lnTo>
                  <a:pt x="39357" y="20200"/>
                </a:lnTo>
                <a:lnTo>
                  <a:pt x="39357" y="1400"/>
                </a:lnTo>
                <a:close/>
              </a:path>
              <a:path fill="darkenLess" w="40757" h="21600">
                <a:moveTo>
                  <a:pt x="40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7" y="20200"/>
                </a:lnTo>
                <a:close/>
              </a:path>
              <a:path fill="lighten" w="40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7" h="21600">
                <a:moveTo>
                  <a:pt x="13372" y="3794"/>
                </a:moveTo>
                <a:lnTo>
                  <a:pt x="27385" y="10800"/>
                </a:lnTo>
                <a:lnTo>
                  <a:pt x="13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184880" cy="495936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9">
            <a:hlinkClick r:id="" action="ppaction://hlinkshowjump?jump=previousslide"/>
          </p:cNvPr>
          <p:cNvSpPr/>
          <p:nvPr/>
        </p:nvSpPr>
        <p:spPr>
          <a:xfrm>
            <a:off x="7164360" y="404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10800"/>
                </a:moveTo>
                <a:lnTo>
                  <a:pt x="26742" y="3794"/>
                </a:lnTo>
                <a:lnTo>
                  <a:pt x="267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分班后的年级学生表（兼顾成绩和性别，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班是重点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388120" cy="556596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6"/>
          <p:cNvSpPr/>
          <p:nvPr/>
        </p:nvSpPr>
        <p:spPr>
          <a:xfrm>
            <a:off x="7596360" y="189000"/>
            <a:ext cx="1223640" cy="43164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00" h="21600">
                <a:moveTo>
                  <a:pt x="0" y="0"/>
                </a:moveTo>
                <a:lnTo>
                  <a:pt x="61200" y="0"/>
                </a:lnTo>
                <a:lnTo>
                  <a:pt x="61200" y="21600"/>
                </a:lnTo>
                <a:lnTo>
                  <a:pt x="0" y="21600"/>
                </a:lnTo>
                <a:close/>
              </a:path>
              <a:path fill="lightenLess" w="61200" h="21600">
                <a:moveTo>
                  <a:pt x="0" y="0"/>
                </a:moveTo>
                <a:lnTo>
                  <a:pt x="61200" y="0"/>
                </a:lnTo>
                <a:lnTo>
                  <a:pt x="59800" y="1400"/>
                </a:lnTo>
                <a:lnTo>
                  <a:pt x="1400" y="1400"/>
                </a:lnTo>
                <a:close/>
              </a:path>
              <a:path fill="darken" w="61200" h="21600">
                <a:moveTo>
                  <a:pt x="61200" y="0"/>
                </a:moveTo>
                <a:lnTo>
                  <a:pt x="61200" y="21600"/>
                </a:lnTo>
                <a:lnTo>
                  <a:pt x="59800" y="20200"/>
                </a:lnTo>
                <a:lnTo>
                  <a:pt x="59800" y="1400"/>
                </a:lnTo>
                <a:close/>
              </a:path>
              <a:path fill="darkenLess" w="61200" h="21600">
                <a:moveTo>
                  <a:pt x="6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0" y="20200"/>
                </a:lnTo>
                <a:close/>
              </a:path>
              <a:path fill="lighten" w="6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00" h="21600">
                <a:moveTo>
                  <a:pt x="23594" y="10800"/>
                </a:moveTo>
                <a:lnTo>
                  <a:pt x="37606" y="3794"/>
                </a:lnTo>
                <a:lnTo>
                  <a:pt x="376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" action="ppaction://hlinkshowjump?jump=nextslide"/>
          </p:cNvPr>
          <p:cNvSpPr/>
          <p:nvPr/>
        </p:nvSpPr>
        <p:spPr>
          <a:xfrm>
            <a:off x="7596360" y="133308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" action="ppaction://hlinkshowjump?jump=previousslide"/>
          </p:cNvPr>
          <p:cNvSpPr/>
          <p:nvPr/>
        </p:nvSpPr>
        <p:spPr>
          <a:xfrm>
            <a:off x="7596360" y="765000"/>
            <a:ext cx="1223640" cy="43200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49" h="21600">
                <a:moveTo>
                  <a:pt x="0" y="0"/>
                </a:moveTo>
                <a:lnTo>
                  <a:pt x="61149" y="0"/>
                </a:lnTo>
                <a:lnTo>
                  <a:pt x="61149" y="21600"/>
                </a:lnTo>
                <a:lnTo>
                  <a:pt x="0" y="21600"/>
                </a:lnTo>
                <a:close/>
              </a:path>
              <a:path fill="lightenLess" w="61149" h="21600">
                <a:moveTo>
                  <a:pt x="0" y="0"/>
                </a:moveTo>
                <a:lnTo>
                  <a:pt x="61149" y="0"/>
                </a:lnTo>
                <a:lnTo>
                  <a:pt x="59749" y="1400"/>
                </a:lnTo>
                <a:lnTo>
                  <a:pt x="1400" y="1400"/>
                </a:lnTo>
                <a:close/>
              </a:path>
              <a:path fill="darken" w="61149" h="21600">
                <a:moveTo>
                  <a:pt x="61149" y="0"/>
                </a:moveTo>
                <a:lnTo>
                  <a:pt x="61149" y="21600"/>
                </a:lnTo>
                <a:lnTo>
                  <a:pt x="59749" y="20200"/>
                </a:lnTo>
                <a:lnTo>
                  <a:pt x="59749" y="1400"/>
                </a:lnTo>
                <a:close/>
              </a:path>
              <a:path fill="darkenLess" w="61149" h="21600">
                <a:moveTo>
                  <a:pt x="6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49" y="20200"/>
                </a:lnTo>
                <a:close/>
              </a:path>
              <a:path fill="lighten" w="6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49" h="21600">
                <a:moveTo>
                  <a:pt x="23568" y="10800"/>
                </a:moveTo>
                <a:lnTo>
                  <a:pt x="37581" y="3794"/>
                </a:lnTo>
                <a:lnTo>
                  <a:pt x="3758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3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176720" cy="2747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选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选项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9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4187880" cy="2783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0" descr=""/>
          <p:cNvPicPr/>
          <p:nvPr/>
        </p:nvPicPr>
        <p:blipFill>
          <a:blip r:embed="rId4"/>
          <a:stretch/>
        </p:blipFill>
        <p:spPr>
          <a:xfrm>
            <a:off x="250920" y="3959280"/>
            <a:ext cx="4176720" cy="2759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/>
          <p:cNvSpPr/>
          <p:nvPr/>
        </p:nvSpPr>
        <p:spPr>
          <a:xfrm>
            <a:off x="7182000" y="160200"/>
            <a:ext cx="15890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7182000" y="5273640"/>
            <a:ext cx="17319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913800" cy="541512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2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5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6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7"/>
          <p:cNvSpPr/>
          <p:nvPr/>
        </p:nvSpPr>
        <p:spPr>
          <a:xfrm>
            <a:off x="4067280" y="330120"/>
            <a:ext cx="2952720" cy="368640"/>
          </a:xfrm>
          <a:prstGeom prst="wedgeRectCallout">
            <a:avLst>
              <a:gd name="adj1" fmla="val -85425"/>
              <a:gd name="adj2" fmla="val 51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2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3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3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3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3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44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65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4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68482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627280" y="981000"/>
            <a:ext cx="3968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软件还可以编排打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作息时间表、行事历、教学进度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使用方法请见“用户手册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6769080" cy="4102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582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58814"/>
              <a:gd name="adj2" fmla="val 1561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28976"/>
              <a:gd name="adj2" fmla="val 26780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在此框里修改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主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6012000" y="2421720"/>
            <a:ext cx="2616120" cy="626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双击新建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\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093080" y="335772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Organization Chart 5"/>
          <p:cNvGrpSpPr/>
          <p:nvPr/>
        </p:nvGrpSpPr>
        <p:grpSpPr>
          <a:xfrm>
            <a:off x="5651640" y="3789360"/>
            <a:ext cx="3357000" cy="2699280"/>
            <a:chOff x="5651640" y="3789360"/>
            <a:chExt cx="3357000" cy="269928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511760" y="4686120"/>
              <a:ext cx="540360" cy="90432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6608160" y="4686120"/>
              <a:ext cx="540360" cy="90468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6555600" y="378936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输入新建的排课文件名（默认和新建的文件夹名相同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>
              <a:hlinkClick r:id="rId1" action="ppaction://hlinksldjump"/>
            </p:cNvPr>
            <p:cNvSpPr/>
            <p:nvPr/>
          </p:nvSpPr>
          <p:spPr>
            <a:xfrm>
              <a:off x="565164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>
              <a:hlinkClick r:id="rId2" action="ppaction://hlinksldjump"/>
            </p:cNvPr>
            <p:cNvSpPr/>
            <p:nvPr/>
          </p:nvSpPr>
          <p:spPr>
            <a:xfrm>
              <a:off x="745920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5867280" y="467640"/>
            <a:ext cx="299556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的上一级文件夹（即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）上双击，再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上双击，就可以看到新建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7093080" y="1989000"/>
            <a:ext cx="431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472000" cy="4087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1908000" y="394560"/>
            <a:ext cx="353232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假设需要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里新建排课数据的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就在文件夹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: \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排课高手有关文件” 上用鼠标左键双击，再输入新建文件夹名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按“创建新文件夹”按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6200000">
            <a:off x="5436360" y="83736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108000" y="119700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自主决定新建的排课文件的位置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7640" y="333000"/>
            <a:ext cx="230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打开已有的排课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443640" y="2925000"/>
            <a:ext cx="2116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7308720" y="342900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5"/>
          <p:cNvGrpSpPr/>
          <p:nvPr/>
        </p:nvGrpSpPr>
        <p:grpSpPr>
          <a:xfrm>
            <a:off x="5651640" y="3789360"/>
            <a:ext cx="3357000" cy="2699280"/>
            <a:chOff x="5651640" y="3789360"/>
            <a:chExt cx="3357000" cy="2699280"/>
          </a:xfrm>
        </p:grpSpPr>
        <p:cxnSp>
          <p:nvCxnSpPr>
            <p:cNvPr id="125" name="_s2052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7511760" y="4686120"/>
              <a:ext cx="540360" cy="90432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3"/>
            <p:cNvCxnSpPr>
              <a:stCxn id="129" idx="0"/>
              <a:endCxn id="127" idx="2"/>
            </p:cNvCxnSpPr>
            <p:nvPr/>
          </p:nvCxnSpPr>
          <p:spPr>
            <a:xfrm flipH="1" flipV="1" rot="5400000">
              <a:off x="6608160" y="4686120"/>
              <a:ext cx="540360" cy="904680"/>
            </a:xfrm>
            <a:prstGeom prst="bentConnector3">
              <a:avLst>
                <a:gd name="adj1" fmla="val 21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2054"/>
            <p:cNvSpPr/>
            <p:nvPr/>
          </p:nvSpPr>
          <p:spPr>
            <a:xfrm>
              <a:off x="6555600" y="378936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择或输入排课文件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5">
              <a:hlinkClick r:id="rId1" action="ppaction://hlinksldjump"/>
            </p:cNvPr>
            <p:cNvSpPr/>
            <p:nvPr/>
          </p:nvSpPr>
          <p:spPr>
            <a:xfrm>
              <a:off x="565164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>
              <a:hlinkClick r:id="rId2" action="ppaction://hlinksldjump"/>
            </p:cNvPr>
            <p:cNvSpPr/>
            <p:nvPr/>
          </p:nvSpPr>
          <p:spPr>
            <a:xfrm>
              <a:off x="7459200" y="5409000"/>
              <a:ext cx="1549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12">
            <a:hlinkClick r:id="" action="ppaction://hlinkshowjump?jump=nextslide"/>
          </p:cNvPr>
          <p:cNvSpPr/>
          <p:nvPr/>
        </p:nvSpPr>
        <p:spPr>
          <a:xfrm>
            <a:off x="3276720" y="6021360"/>
            <a:ext cx="1726920" cy="432000"/>
          </a:xfrm>
          <a:custGeom>
            <a:avLst/>
            <a:gdLst>
              <a:gd name="textAreaLeft" fmla="*/ 27720 w 1726920"/>
              <a:gd name="textAreaRight" fmla="*/ 1699200 w 172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292" h="21600">
                <a:moveTo>
                  <a:pt x="0" y="0"/>
                </a:moveTo>
                <a:lnTo>
                  <a:pt x="86292" y="0"/>
                </a:lnTo>
                <a:lnTo>
                  <a:pt x="86292" y="21600"/>
                </a:lnTo>
                <a:lnTo>
                  <a:pt x="0" y="21600"/>
                </a:lnTo>
                <a:close/>
              </a:path>
              <a:path fill="lightenLess" w="86292" h="21600">
                <a:moveTo>
                  <a:pt x="0" y="0"/>
                </a:moveTo>
                <a:lnTo>
                  <a:pt x="86292" y="0"/>
                </a:lnTo>
                <a:lnTo>
                  <a:pt x="84892" y="1400"/>
                </a:lnTo>
                <a:lnTo>
                  <a:pt x="1400" y="1400"/>
                </a:lnTo>
                <a:close/>
              </a:path>
              <a:path fill="darken" w="86292" h="21600">
                <a:moveTo>
                  <a:pt x="86292" y="0"/>
                </a:moveTo>
                <a:lnTo>
                  <a:pt x="86292" y="21600"/>
                </a:lnTo>
                <a:lnTo>
                  <a:pt x="84892" y="20200"/>
                </a:lnTo>
                <a:lnTo>
                  <a:pt x="84892" y="1400"/>
                </a:lnTo>
                <a:close/>
              </a:path>
              <a:path fill="darkenLess" w="86292" h="21600">
                <a:moveTo>
                  <a:pt x="86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2" y="20200"/>
                </a:lnTo>
                <a:close/>
              </a:path>
              <a:path fill="lighten" w="86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92" h="21600">
                <a:moveTo>
                  <a:pt x="36140" y="3794"/>
                </a:moveTo>
                <a:lnTo>
                  <a:pt x="50153" y="10800"/>
                </a:lnTo>
                <a:lnTo>
                  <a:pt x="36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6264360" cy="4926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4"/>
          <p:cNvSpPr/>
          <p:nvPr/>
        </p:nvSpPr>
        <p:spPr>
          <a:xfrm>
            <a:off x="6443640" y="1916640"/>
            <a:ext cx="209556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08720" y="249228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6">
            <a:hlinkClick r:id="" action="ppaction://hlinkshowjump?jump=previousslide"/>
          </p:cNvPr>
          <p:cNvSpPr/>
          <p:nvPr/>
        </p:nvSpPr>
        <p:spPr>
          <a:xfrm>
            <a:off x="900000" y="6021360"/>
            <a:ext cx="1730520" cy="432000"/>
          </a:xfrm>
          <a:custGeom>
            <a:avLst/>
            <a:gdLst>
              <a:gd name="textAreaLeft" fmla="*/ 27720 w 1730520"/>
              <a:gd name="textAreaRight" fmla="*/ 1702800 w 17305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472" h="21600">
                <a:moveTo>
                  <a:pt x="0" y="0"/>
                </a:moveTo>
                <a:lnTo>
                  <a:pt x="86472" y="0"/>
                </a:lnTo>
                <a:lnTo>
                  <a:pt x="86472" y="21600"/>
                </a:lnTo>
                <a:lnTo>
                  <a:pt x="0" y="21600"/>
                </a:lnTo>
                <a:close/>
              </a:path>
              <a:path fill="lightenLess" w="86472" h="21600">
                <a:moveTo>
                  <a:pt x="0" y="0"/>
                </a:moveTo>
                <a:lnTo>
                  <a:pt x="86472" y="0"/>
                </a:lnTo>
                <a:lnTo>
                  <a:pt x="85072" y="1400"/>
                </a:lnTo>
                <a:lnTo>
                  <a:pt x="1400" y="1400"/>
                </a:lnTo>
                <a:close/>
              </a:path>
              <a:path fill="darken" w="86472" h="21600">
                <a:moveTo>
                  <a:pt x="86472" y="0"/>
                </a:moveTo>
                <a:lnTo>
                  <a:pt x="86472" y="21600"/>
                </a:lnTo>
                <a:lnTo>
                  <a:pt x="85072" y="20200"/>
                </a:lnTo>
                <a:lnTo>
                  <a:pt x="85072" y="1400"/>
                </a:lnTo>
                <a:close/>
              </a:path>
              <a:path fill="darkenLess" w="86472" h="21600">
                <a:moveTo>
                  <a:pt x="8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2" y="20200"/>
                </a:lnTo>
                <a:close/>
              </a:path>
              <a:path fill="lighten" w="8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72" h="21600">
                <a:moveTo>
                  <a:pt x="36229" y="10800"/>
                </a:moveTo>
                <a:lnTo>
                  <a:pt x="50242" y="3794"/>
                </a:lnTo>
                <a:lnTo>
                  <a:pt x="502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"/>
          <p:cNvPicPr/>
          <p:nvPr/>
        </p:nvPicPr>
        <p:blipFill>
          <a:blip r:embed="rId1"/>
          <a:stretch/>
        </p:blipFill>
        <p:spPr>
          <a:xfrm>
            <a:off x="2124000" y="1185840"/>
            <a:ext cx="5253120" cy="567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80000" y="189000"/>
            <a:ext cx="3394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编辑教师姓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7451640" y="1684080"/>
            <a:ext cx="1582920" cy="642600"/>
          </a:xfrm>
          <a:prstGeom prst="wedgeRectCallout">
            <a:avLst>
              <a:gd name="adj1" fmla="val -259273"/>
              <a:gd name="adj2" fmla="val -4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姓名输入完毕后按“下步”按钮，进入“编辑全校条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9280" y="4920480"/>
            <a:ext cx="1871640" cy="917280"/>
          </a:xfrm>
          <a:prstGeom prst="wedgeRectCallout">
            <a:avLst>
              <a:gd name="adj1" fmla="val 64250"/>
              <a:gd name="adj2" fmla="val -40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需要测试本软件或教师姓名暂且不知就选中该单选钮，然后在“全校教师人数”框输入教师人数，回车，表格中出现虚拟的教师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308720" y="3591720"/>
            <a:ext cx="1582920" cy="1191600"/>
          </a:xfrm>
          <a:prstGeom prst="wedgeRectCallout">
            <a:avLst>
              <a:gd name="adj1" fmla="val -121597"/>
              <a:gd name="adj2" fmla="val -10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选择“输入姓名方式”为“逐个输入教师姓名”，就在此框输入教师姓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，然后回车，教师姓名进左边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2195640" y="257040"/>
            <a:ext cx="1871640" cy="642600"/>
          </a:xfrm>
          <a:prstGeom prst="wedgeRectCallout">
            <a:avLst>
              <a:gd name="adj1" fmla="val -42462"/>
              <a:gd name="adj2" fmla="val 467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间三个单选钮是更快地输入教师姓名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79280" y="1154880"/>
            <a:ext cx="1871640" cy="2014560"/>
          </a:xfrm>
          <a:prstGeom prst="wedgeRectCallout">
            <a:avLst>
              <a:gd name="adj1" fmla="val 64999"/>
              <a:gd name="adj2" fmla="val 35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上选中全校教师姓名（每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不含代码和简称），按右键，选择“复制”，姓名被复制到剪贴板上。在此选中本单选钮，在出现的绿色框内按右键，选择“粘贴”，在框内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>
            <a:hlinkClick r:id="rId2" action="ppaction://hlinksldjump"/>
          </p:cNvPr>
          <p:cNvSpPr/>
          <p:nvPr/>
        </p:nvSpPr>
        <p:spPr>
          <a:xfrm>
            <a:off x="7524720" y="6381720"/>
            <a:ext cx="1366920" cy="360360"/>
          </a:xfrm>
          <a:custGeom>
            <a:avLst/>
            <a:gdLst>
              <a:gd name="textAreaLeft" fmla="*/ 23040 w 1366920"/>
              <a:gd name="textAreaRight" fmla="*/ 1343880 w 136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873" h="21600">
                <a:moveTo>
                  <a:pt x="0" y="0"/>
                </a:moveTo>
                <a:lnTo>
                  <a:pt x="81873" y="0"/>
                </a:lnTo>
                <a:lnTo>
                  <a:pt x="81873" y="21600"/>
                </a:lnTo>
                <a:lnTo>
                  <a:pt x="0" y="21600"/>
                </a:lnTo>
                <a:close/>
              </a:path>
              <a:path fill="lightenLess" w="81873" h="21600">
                <a:moveTo>
                  <a:pt x="0" y="0"/>
                </a:moveTo>
                <a:lnTo>
                  <a:pt x="81873" y="0"/>
                </a:lnTo>
                <a:lnTo>
                  <a:pt x="80473" y="1400"/>
                </a:lnTo>
                <a:lnTo>
                  <a:pt x="1400" y="1400"/>
                </a:lnTo>
                <a:close/>
              </a:path>
              <a:path fill="darken" w="81873" h="21600">
                <a:moveTo>
                  <a:pt x="81873" y="0"/>
                </a:moveTo>
                <a:lnTo>
                  <a:pt x="81873" y="21600"/>
                </a:lnTo>
                <a:lnTo>
                  <a:pt x="80473" y="20200"/>
                </a:lnTo>
                <a:lnTo>
                  <a:pt x="80473" y="1400"/>
                </a:lnTo>
                <a:close/>
              </a:path>
              <a:path fill="darkenLess" w="81873" h="21600">
                <a:moveTo>
                  <a:pt x="8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473" y="20200"/>
                </a:lnTo>
                <a:close/>
              </a:path>
              <a:path fill="lighten" w="8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873" h="21600">
                <a:moveTo>
                  <a:pt x="33930" y="3794"/>
                </a:moveTo>
                <a:lnTo>
                  <a:pt x="47943" y="10800"/>
                </a:lnTo>
                <a:lnTo>
                  <a:pt x="33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>
            <a:hlinkClick r:id="rId3" action="ppaction://hlinksldjump"/>
          </p:cNvPr>
          <p:cNvSpPr/>
          <p:nvPr/>
        </p:nvSpPr>
        <p:spPr>
          <a:xfrm>
            <a:off x="7524720" y="5661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11640" y="467280"/>
            <a:ext cx="1368360" cy="368640"/>
          </a:xfrm>
          <a:prstGeom prst="wedgeRectCallout">
            <a:avLst>
              <a:gd name="adj1" fmla="val -57518"/>
              <a:gd name="adj2" fmla="val 41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直接修改姓名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>
            <a:hlinkClick r:id="" action="ppaction://hlinkshowjump?jump=previousslide"/>
          </p:cNvPr>
          <p:cNvSpPr/>
          <p:nvPr/>
        </p:nvSpPr>
        <p:spPr>
          <a:xfrm>
            <a:off x="7524720" y="602136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124240" cy="59770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>
            <a:hlinkClick r:id="rId2" action="ppaction://hlinksldjump"/>
          </p:cNvPr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6268"/>
              <a:gd name="adj2" fmla="val -426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395280" y="1965960"/>
            <a:ext cx="3097080" cy="642600"/>
          </a:xfrm>
          <a:prstGeom prst="wedgeRectCallout">
            <a:avLst>
              <a:gd name="adj1" fmla="val -49143"/>
              <a:gd name="adj2" fmla="val 40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Administrator</cp:lastModifiedBy>
  <dcterms:modified xsi:type="dcterms:W3CDTF">2017-12-01T15:49:19Z</dcterms:modified>
  <cp:revision>367</cp:revision>
  <dc:subject/>
  <dc:title>使用说明书</dc:title>
</cp:coreProperties>
</file>