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1776-4BED-4D0D-99BE-4509CE154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E576-4FDA-438C-BDD5-DBB38DCA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CDBA-4C5A-4D4D-90CD-31AF6455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1085-EBFA-4817-B2DD-3200B1C8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528C-1072-434F-A95D-659725EA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A3F3-20DE-41F2-B782-6B90EBC3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7635-7E05-45B7-AE9A-3E69F89C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A944-7E97-4138-9EBD-DB9151E8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8115-7D7F-41D6-81DF-3A5762C2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17CB-F225-474A-9217-27179ACC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B2B6-5305-420B-AF36-FDA2447F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C325-CC72-4361-B589-E1139DE1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52ED-3546-4BA1-980F-03C16082B865}" type="slidenum">
              <a:rPr b="0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ps.cn/" TargetMode="External"/><Relationship Id="rId2" Type="http://schemas.openxmlformats.org/officeDocument/2006/relationships/hyperlink" Target="http://www.wps.c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990720" y="2147760"/>
            <a:ext cx="10644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文档是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成的安全文档，仅可用支持安全文档的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 Office PC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、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droid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、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iO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客户端打开，当前软件版本无法保证您在安全环境下查看和编辑文档。使用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安全文档可以轻松创建和管理受保护的文件，请到</a:t>
            </a:r>
            <a:r>
              <a:rPr b="0" lang="en-US" sz="24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"/>
              </a:rPr>
              <a:t>WPS</a:t>
            </a:r>
            <a:r>
              <a:rPr b="0" lang="zh-CN" sz="24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"/>
              </a:rPr>
              <a:t>官网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载，或联系您的企业管理员获取最新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本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1T09:46:00Z</dcterms:created>
  <dc:creator/>
  <dc:description/>
  <cp:keywords/>
  <dc:language>en-US</dc:language>
  <cp:lastModifiedBy/>
  <dcterms:modified xsi:type="dcterms:W3CDTF">2016-12-02T02:21:57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02</vt:lpwstr>
  </property>
  <property fmtid="{D5CDD505-2E9C-101B-9397-08002B2CF9AE}" pid="3" name="_MarkAsFinal">
    <vt:bool>1</vt:bool>
  </property>
</Properties>
</file>