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commentAuthors.xml><?xml version="1.0" encoding="utf-8"?>
<p:cmAuthorLst xmlns:p="http://schemas.openxmlformats.org/presentationml/2006/main">
  <p:cmAuthor id="0" name="StarUML" initials="S" lastIdx="2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<Relationship Id="rId11" Type="http://schemas.openxmlformats.org/officeDocument/2006/relationships/commentAuthors" Target="commentAuthors.xml"/>
</Relationships>
</file>

<file path=ppt/comments/comment1.xml><?xml version="1.0" encoding="UTF-8" standalone="yes"?>
<p:cmLst xmlns:p="http://schemas.openxmlformats.org/presentationml/2006/main"><p:cm authorId="0" dt="2005-10-29T12:41:54.609000000" idx="1"><p:pos x="4616" y="2736"/><p:text><<DISPLAY-TEXT>>
::;current().Author;</p:text></p:cm><p:cm authorId="0" dt="2005-10-29T12:41:54.609000000" idx="2"><p:pos x="4616" y="2960"/><p:text><<DISPLAY-TEXT>>
::;current().Company;</p:text></p:cm><p:cm authorId="0" dt="2005-10-29T12:41:54.609000000" idx="3"><p:pos x="2402" y="3202"/><p:text><<DISPLAY-TEXT>>
::;current().Copyright;</p:text></p:cm><p:cm authorId="0" dt="2005-10-29T12:41:54.609000000" idx="4"><p:pos x="1376" y="1200"/><p:text><<DISPLAY-TEXT>>
::;current().Title;</p:text></p:cm></p:cmLst>
</file>

<file path=ppt/comments/comment2.xml><?xml version="1.0" encoding="UTF-8" standalone="yes"?>
<p:cmLst xmlns:p="http://schemas.openxmlformats.org/presentationml/2006/main"><p:cm authorId="0" dt="2005-10-29T12:54:39.343000000" idx="5"><p:pos x="1296" y="1368"/><p:text><<DISPLAY-TEXT>>
;current().Documentation</p:text></p:cm></p:cmLst>
</file>

<file path=ppt/comments/comment3.xml><?xml version="1.0" encoding="UTF-8" standalone="yes"?>
<p:cmLst xmlns:p="http://schemas.openxmlformats.org/presentationml/2006/main"><p:cm authorId="0" dt="2005-10-29T14:23:02.953000000" idx="6"><p:pos x="0" y="0"/><p:text><<REPEAT>>
{R}::Use Case Model;UMLPackage;;</p:text></p:cm><p:cm authorId="0" dt="2005-10-29T14:23:02.968000000" idx="7"><p:pos x="1344" y="1424"/><p:text><<DISPLAY-TEXT>>
;current().Documentation;</p:text></p:cm><p:cm authorId="0" dt="2005-10-29T14:23:02.968000000" idx="8"><p:pos x="2440" y="472"/><p:text><<DISPLAY-TEXT>>
;current().Name;</p:text></p:cm></p:cmLst>
</file>

<file path=ppt/comments/comment4.xml><?xml version="1.0" encoding="UTF-8" standalone="yes"?>
<p:cmLst xmlns:p="http://schemas.openxmlformats.org/presentationml/2006/main"><p:cm authorId="0" dt="2005-10-29T14:16:46.640000000" idx="9"><p:pos x="80" y="72"/><p:text><<REPEAT>>
;UMLUseCaseDiagram;;</p:text></p:cm><p:cm authorId="0" dt="2005-10-29T14:16:46.640000000" idx="10"><p:pos x="3712" y="448"/><p:text><<DISPLAY-TEXT>>
;current().Name</p:text></p:cm><p:cm authorId="0" dt="2005-10-29T14:16:46.656000000" idx="11"><p:pos x="1016" y="3256"/><p:text><<DISPLAY-TEXT>>
;current().Documentation;</p:text></p:cm><p:cm authorId="0" dt="2005-10-29T14:16:46.656000000" idx="12"><p:pos x="1672" y="1528"/><p:text><<DISPLAY-IMAGE>>
;;</p:text></p:cm><p:cm authorId="0" dt="2005-10-29T14:16:46.656000000" idx="13"><p:pos x="112" y="4120"/><p:text><<ENDREPEAT>></p:text></p:cm></p:cmLst>
</file>

<file path=ppt/comments/comment5.xml><?xml version="1.0" encoding="UTF-8" standalone="yes"?>
<p:cmLst xmlns:p="http://schemas.openxmlformats.org/presentationml/2006/main"><p:cm authorId="0" dt="2005-10-29T14:17:08.078000000" idx="14"><p:pos x="0" y="0"/><p:text><<REPEAT>>
;UMLUseCase;;</p:text></p:cm><p:cm authorId="0" dt="2005-10-29T14:17:08.078000000" idx="15"><p:pos x="2408" y="432"/><p:text><<DISPLAY-TEXT>>
;current().Name</p:text></p:cm><p:cm authorId="0" dt="2005-10-29T14:17:08.093000000" idx="16"><p:pos x="1248" y="1200"/><p:text><<DISPLAY-TEXT>>
;current().Documentation;</p:text></p:cm><p:cm authorId="0" dt="2005-10-29T14:17:08.093000000" idx="17"><p:pos x="1256" y="1624"/><p:text><<DISPLAY-TEXT>>
;trim(current().GetTaggedValueAsString("UMLStandard", "UseCaseSpecification", "BasicFlow"));</p:text></p:cm><p:cm authorId="0" dt="2005-10-29T14:17:08.093000000" idx="18"><p:pos x="1280" y="2048"/><p:text><<DISPLAY-TEXT>>
;trim(current().GetTaggedValueAsString("UMLStandard", "UseCaseSpecification", "AlternativeFlows"));</p:text></p:cm><p:cm authorId="0" dt="2005-10-29T14:17:08.093000000" idx="19"><p:pos x="1280" y="2456"/><p:text><<DISPLAY-TEXT>>
;trim(current().GetTaggedValueAsString("UMLStandard", "UseCaseSpecification", "Preconditions"));</p:text></p:cm><p:cm authorId="0" dt="2005-10-29T14:17:08.093000000" idx="20"><p:pos x="1264" y="2872"/><p:text><<DISPLAY-TEXT>>
;trim(current().GetTaggedValueAsString("UMLStandard", "UseCaseSpecification", "Postconditions"));</p:text></p:cm><p:cm authorId="0" dt="2005-10-29T14:17:08.093000000" idx="21"><p:pos x="4344" y="4160"/><p:text><<ENDREPEAT>></p:text></p:cm><p:cm authorId="0" dt="2005-10-29T14:17:08.093000000" idx="22"><p:pos x="5200" y="4160"/><p:text><<ENDREPEAT>>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3610-7517-4C5C-91B2-36906EDF7E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8E50-C20A-4836-9043-444C8819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F878-9015-45FB-A437-2E971476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B933-93E4-4EB0-BE4B-A5A96EE2BE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D5EC1-4DF4-45DA-9C8B-672401720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7EFEA-78EE-4851-8981-2E7EF232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8B392-AA41-4085-83A9-E002D45F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BFC41-6055-403C-A9B5-1396F34A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A6B65-F9A6-4F19-B261-BFBBA6B8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31471-71E6-4D42-A87B-D0A37710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9AE8C-5FEF-4432-ADA5-BFFD7350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9FC0-FD9D-49BD-9192-08B49BB3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0ADB3-0FAD-4692-A9C6-0430929D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C2154-DEFF-40B8-A3CA-3555881B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C7F29-2CBE-4FAC-809A-8A5A29E5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92A04-F6F8-4638-9C33-1300B50A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5B1FA-E912-4A32-9DBD-8BAEBBD49C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D787-9659-41BD-830F-95CADEDE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9C11-99F9-418C-86FF-74FDF9DC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4501-11EC-48EA-819B-BC2946B6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31A4-5E8B-4E1E-A34C-25D7198F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C8CF-3359-48D7-86C4-2FAE5F27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8708-BE3E-4650-822B-ED69791C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BB6F-7F06-4DD6-96E8-0121959C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CCF3-541C-4CB1-BAE3-EA5F72C40DE3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4634-1BE3-436D-8993-FB82507D40A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E051-8435-4F33-A0F8-8ADEDF8F257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485C-5434-4B8D-A309-9D9586893D47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</a:t>
            </a:r>
            <a:br>
              <a:rPr sz="2800"/>
            </a:b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pyright © $$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9D412-8572-416B-95D9-1290BC80691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1FF745-49C7-461C-BBF6-0B8B3A8339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639E-5429-45CC-BC6B-328774D520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9FCDA47-B886-4CAB-8CA1-24D64601D5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4373-FC79-4915-81EF-929816ED52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7A8DA15-91AC-4824-BD0F-F16731A6D0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42A3-868D-4D77-9B4E-576D3E6484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4BB4ED7-269E-4E5D-A323-A558C74744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32B7-8B75-4966-A686-188408AB826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E593FB5-0277-4B64-A162-0CB5F07A40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A36FF-6AB8-4964-82B2-DB931402D2F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970D2F-5ABB-4455-A47F-BECFCE437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김현수</cp:lastModifiedBy>
  <dcterms:modified xsi:type="dcterms:W3CDTF">2005-11-02T04:49:55Z</dcterms:modified>
  <cp:revision>101</cp:revision>
  <dc:subject/>
  <dc:title>Design Review Document</dc:title>
</cp:coreProperties>
</file>