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604AB-01A7-4554-A58C-CEC0DBD6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6E553-33AC-457F-A4CC-05352E92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FE659-874F-42A0-B840-887C2030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9DD11-11B4-4292-9634-616F9C78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171DC-3F7C-437E-88E6-897DD06A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1F9C3-240E-4522-A50E-21E15304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905FB-F56E-469A-BACC-EE2B0BDF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970E6-D372-4621-8231-6AB0AF46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5343D-02B5-4F01-AC9C-3AA38C45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5495A-A449-4E2B-9202-F8615471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8BA38-7604-4AEB-9FA8-11251C0B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60858-BDD5-4805-8EAC-CF66809E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8872F-5E2D-4937-BF85-429D7329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7E774-0396-41F0-BF31-62F7F7C9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215EC-8D2F-45C6-BAAE-C60FFEF6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0FE38-EBCB-4AA1-862E-730BC159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9C6E0-8411-48A1-B503-AB911342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0C4D0-5450-4266-8702-89F13D7D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1DE7F-12D5-42FA-8395-3E7218B1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6E9CF-D695-48B2-83EB-C9EA06EF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DC437-9453-4426-B745-B8990E5F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B3CF8-272F-44C4-B93C-37AE6730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37AAE-49F9-47B9-B71C-7BD5934A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B9664-2EC2-4F97-A521-15C5C651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BBA26-E8F3-4CDA-937B-9EDFA19C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6DD47-C53A-417B-B292-EDBBC7F9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D331D-9F96-46D9-B44C-FEE1C254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8D527-2669-40AF-A9DF-91B8CF21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C0B80-C9B8-48DD-BA03-EBBA4642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E87FA-C8C1-478E-964B-0AEC3CD9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E17-C8CE-458B-845B-78C41903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D3504-56E9-4F59-9979-6C289558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E9393-7A83-4EC6-A01A-1B9C000D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D6EDD-5109-41F9-839A-91CCE60F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05D14-8AC6-4692-9774-E2AFF829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A1F81-AFE1-4366-B39C-71ACCF51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64941-8F3D-45D5-83F7-2396CF5C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2663C-65FE-45BD-B5F0-EF746537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7CC78-CB0F-41C3-BBDF-D8370B22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D92EB-CF59-4FC4-81FB-752CD3DF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A0874-7916-47CA-BA43-E0DFFC01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612-7475-4677-A3B9-E55936F1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11811-888A-4725-9545-9B23E193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78AD4-9BCE-4CC1-8C0C-B8208FE8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9DE32-94AF-4186-A277-1A470CB8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2689A-2035-4D5E-A697-CEA039A7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0FE96-5439-4007-90E3-A8E8D639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9D0EA-CA56-4FA7-A65D-DE5A8E58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D473A-6DEA-40CA-B740-B9B0EE5C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C4F29-2317-4A9F-9273-948D3338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49C53-EE7C-41DD-9A45-58F90BE7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3FCC5-C2B0-46E8-A37C-E8F89E31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D0E-80FE-4022-BDB0-B1D1796A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5A7B2-0E55-4159-BA63-ADDFCD5D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E0E8E-0BD4-449C-85CF-2D7D8B62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984BF-3041-4638-95E3-FF88B789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0CE30-4EC3-4C71-8E87-7C889DD1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6CB99-F550-42B2-973E-E3906D18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D8BA6-A443-46E3-B6EB-D5201DCE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77730-7321-4686-A90A-8BE8013C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2FE84-DC30-4AA4-B6F3-59FBC8FE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19C1A-46B6-4EF2-9DAE-3EBADC39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68370-7DF6-4230-BE32-B73F4FB7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DD3-7952-4534-90E4-A651AE46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7D1AF-B978-45AD-8E9E-15B6AC74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B7961-7BDD-4875-950D-E09E768E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EDE27-C847-4AFF-B3D0-E7E119F1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38A47-8F73-4884-95FF-6889CAB5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61344-51FD-47AE-9DD3-40A566E4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FA5FE-25BB-45EF-ADAE-31B6A7B2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2F4BF-1E92-4F93-B3E1-8578D605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E6695-9A42-476A-8A71-691AF248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35D1E-6075-447C-BA72-D3C76C74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B5C-73DC-4B9F-AC0C-95C2271B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9ED-4C9D-4551-94ED-93B59AED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624-2F35-4A1A-B1FE-AC911EFB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7FD-7EF1-4F83-97E2-2013AE52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27B-5D8E-4FF6-A2A5-CEF5A118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3D9-C0C0-44E5-91E3-A32804ED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2ED-A067-47F6-B335-CE01D9B3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FF7-8E7B-4437-B225-4329D4F5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E144-FA9C-4407-9BCA-8E242F35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0474-F0E2-4F99-AE68-4B827301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7A4C-ED4F-4B77-BEDD-0E0148BD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5D44-4108-400E-B7B4-E9A302F2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B06F-ACDF-4B26-AF51-A0576F13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DE21-FE2E-45B5-B749-7E0456EF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E901-B930-4846-836E-88B55CC3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7E15-A68C-4604-A6BB-ACB0AA94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9A88-197A-49C4-9C33-5B71B039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9A2C-4159-4AD4-B973-475C491C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7149-4056-4207-96FD-7C599CFA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B37A-0DA9-47A4-BF56-73714260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7A494-8165-4FB7-B075-0ABEC3AA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CCA9D-F655-470E-856E-DBBBCFE2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A76D6-DA13-4699-B106-FA0017E2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0DE6F-CDB2-4BA3-9344-825D5118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37290-CE85-451E-A4A4-BE359E02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00C82-EECC-4DDB-99B7-6E9B3A9F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6615C-046C-424D-B599-04B02FC6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80918-04F7-4921-BA06-2CA13583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2E4C6-B577-437D-AF0F-AA1CA0DA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6ED95-BA5B-41F7-A5C1-14A07A29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529CC-24CA-487F-8BA2-3797001D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EED1-A706-495A-9048-1A2647A0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D737F-4C8F-4B22-A5AB-03AF7B50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78F05-3E9C-42FA-ACA7-221625C9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8A542-F2F1-456E-8CDB-EE963578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62CD0-4407-4F6E-95C0-19161292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00ABB-FF70-41BC-AD95-1D65C206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14B7E-FABD-4C81-97DB-6439597B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7A091-2DA7-4E93-A6BC-DF5537BE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AF799-6E9F-480F-B2E9-B5F32734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8A00D-1589-4DE9-80B6-904580F6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97B5-854D-4C66-BDA7-1BDAFB00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1AD70-B293-45E2-B3E3-A838F533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733D6-8FA5-484C-8870-44E0D255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8A174-8BC2-474B-BA21-60DE53514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0703D-9416-4FE5-88EB-D40A7352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C083E-94EC-4BF5-9D26-14CF5441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3351F-B0C6-4EAF-B9BF-27F9A6F9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2D4AC-C62D-4C3F-9745-FE6A3F5E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CF9F2-466C-4773-BFA6-A7FFCA69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6EBA5-6915-458D-BC2F-D203FE10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3128E-DF49-4FDC-8452-67010776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D6AAD-49A1-4966-B2FC-A76C333E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D23BC-7324-431D-A478-BA17E324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BF5F1-1E22-4364-A383-5F9B1089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92284-F980-4745-92EF-C8694D17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B483F-3E28-4A3B-975D-71EB3031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05489-A18F-4096-AABC-C27DC856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4CFBB-D083-4894-8A99-2047B935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A4F61-B5CE-46B4-A89A-647C4D07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D006D-0F97-4BE5-ABBB-5CFA3C95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ECE83-9301-4873-BBC3-746F2942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5CB02-5ECA-4AFF-9CEA-8E1E94EB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F1E2F-8A92-40B2-8E83-E579526D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041F1-7267-4B7B-8C62-E76D71C0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5C821-D153-4CD0-AD06-B540A2F8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26038-944F-48B2-AA53-6679CAFB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2DB62-47FE-45B0-82D4-BFEFAB14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DC445-66D1-41CB-B092-C839D271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ADF1F-5C81-4E51-83EB-86A60615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2D5FA-B31B-4916-97F2-39AD6883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流程图: 可选过程 1025"/>
          <p:cNvSpPr/>
          <p:nvPr/>
        </p:nvSpPr>
        <p:spPr>
          <a:xfrm>
            <a:off x="0" y="304920"/>
            <a:ext cx="9144000" cy="990360"/>
          </a:xfrm>
          <a:prstGeom prst="flowChartAlternateProcess">
            <a:avLst/>
          </a:prstGeom>
          <a:gradFill rotWithShape="0">
            <a:gsLst>
              <a:gs pos="0">
                <a:srgbClr val="ffe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新月形 1026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新月形 1027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新月形 1028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流程图: 可选过程 1029"/>
          <p:cNvSpPr/>
          <p:nvPr/>
        </p:nvSpPr>
        <p:spPr>
          <a:xfrm>
            <a:off x="1752480" y="1600200"/>
            <a:ext cx="7020000" cy="4495680"/>
          </a:xfrm>
          <a:prstGeom prst="flowChartAlternateProcess">
            <a:avLst/>
          </a:prstGeom>
          <a:solidFill>
            <a:srgbClr val="ffcc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E3DD-ECF7-4EDF-9367-219542D6DC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6B60-D274-4DDD-8720-C594BA9A03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4523-66C0-4D66-B148-BC13031DB8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E672-0C45-4231-9781-A53C439CD0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7770-3BB5-48D0-85C5-7AF4D9FECA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9C45-F899-4025-98EB-A484149AF3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流程图: 可选过程 2049"/>
          <p:cNvSpPr/>
          <p:nvPr/>
        </p:nvSpPr>
        <p:spPr>
          <a:xfrm>
            <a:off x="0" y="2590920"/>
            <a:ext cx="9144000" cy="1218960"/>
          </a:xfrm>
          <a:prstGeom prst="flowChartAlternateProcess">
            <a:avLst/>
          </a:prstGeom>
          <a:gradFill rotWithShape="0">
            <a:gsLst>
              <a:gs pos="0">
                <a:srgbClr val="ffd9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新月形 2050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新月形 2051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新月形 2052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EA89-27A9-40F8-B5DF-38851DE6A5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C01A-CAAE-4217-AD70-66476C06CE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3D55-9236-49D4-BB59-8CF4EE4C5F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DAAA-2D5C-4BF1-B7E4-363405092F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49F8-B4C8-4A23-883D-93208D45ED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8770-220A-4593-95B1-198B217BD0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64,5,&#8212;&#8212;&#20102;&#35299;&#21592;&#24037;&#20351;&#29992;&#30005;&#33041;&#26102;&#27491;&#22312;&#20570;&#20160;&#20040;&#12290;" TargetMode="External"/><Relationship Id="rId2" Type="http://schemas.openxmlformats.org/officeDocument/2006/relationships/hyperlink" Target="265,6,&#8212;&#8212;&#20102;&#35299;&#21592;&#24037;&#20570;&#36807;&#20160;&#20040;&#65292;&#20197;&#20415;&#32771;&#23519;&#12290;" TargetMode="External"/><Relationship Id="rId3" Type="http://schemas.openxmlformats.org/officeDocument/2006/relationships/hyperlink" Target="266,7,&#8212;&#8212;&#35753;&#21592;&#24037;&#19978;&#29677;&#26102;&#38388;&#21482;&#33021;&#20570;&#19982;&#24037;&#20316;&#30456;&#20851;&#30340;&#20107;&#24773;&#65292;&#25552;&#39640;&#24037;&#20316;&#25928;&#29575;&#12290;" TargetMode="External"/><Relationship Id="rId4" Type="http://schemas.openxmlformats.org/officeDocument/2006/relationships/hyperlink" Target="274,8,&#31995;&#32479;&#21629;&#20196;&#65306;&#x0d;&#36828;&#31243;&#23545;&#21592;&#24037;&#31471;&#36827;&#34892;&#20851;&#26426;&#12289;&#37325;&#21551;&#12289;&#27880;&#38144;&#31561;&#25805;&#20316;&#65307;&#21521;&#36873;&#20013;&#21592;&#24037;&#31471;&#21457;&#36865;&#24191;&#25773;&#28040;&#24687;&#12290;" TargetMode="External"/><Relationship Id="rId5" Type="http://schemas.openxmlformats.org/officeDocument/2006/relationships/hyperlink" Target="275,9,&#33258;&#23450;&#20041;&#25253;&#35686;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超  级  眼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副标题 5122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6478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7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产品优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流程图: 可选过程 5"/>
          <p:cNvSpPr/>
          <p:nvPr/>
        </p:nvSpPr>
        <p:spPr>
          <a:xfrm rot="5400000">
            <a:off x="4909320" y="1111680"/>
            <a:ext cx="38232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2"/>
          <p:cNvSpPr/>
          <p:nvPr/>
        </p:nvSpPr>
        <p:spPr>
          <a:xfrm>
            <a:off x="470304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产品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7"/>
          <p:cNvGrpSpPr/>
          <p:nvPr/>
        </p:nvGrpSpPr>
        <p:grpSpPr>
          <a:xfrm>
            <a:off x="3124080" y="2133720"/>
            <a:ext cx="3834000" cy="228600"/>
            <a:chOff x="3124080" y="2133720"/>
            <a:chExt cx="3834000" cy="228600"/>
          </a:xfrm>
        </p:grpSpPr>
        <p:sp>
          <p:nvSpPr>
            <p:cNvPr id="674" name="左中括号 6"/>
            <p:cNvSpPr/>
            <p:nvPr/>
          </p:nvSpPr>
          <p:spPr>
            <a:xfrm rot="5400000">
              <a:off x="5002920" y="406800"/>
              <a:ext cx="76320" cy="38340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320 h 3834000"/>
                <a:gd name="textAreaBottom" fmla="*/ 3829680 h 38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5"/>
                    <a:pt x="0" y="50"/>
                  </a:cubicBezTo>
                  <a:lnTo>
                    <a:pt x="0" y="21550"/>
                  </a:lnTo>
                  <a:cubicBezTo>
                    <a:pt x="0" y="2157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直接连接符 14"/>
            <p:cNvSpPr/>
            <p:nvPr/>
          </p:nvSpPr>
          <p:spPr>
            <a:xfrm>
              <a:off x="506052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直接连接符 3"/>
            <p:cNvSpPr/>
            <p:nvPr/>
          </p:nvSpPr>
          <p:spPr>
            <a:xfrm>
              <a:off x="56008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4"/>
            <p:cNvSpPr/>
            <p:nvPr/>
          </p:nvSpPr>
          <p:spPr>
            <a:xfrm>
              <a:off x="42004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文本框 8"/>
          <p:cNvSpPr/>
          <p:nvPr/>
        </p:nvSpPr>
        <p:spPr>
          <a:xfrm>
            <a:off x="2746080" y="2476440"/>
            <a:ext cx="606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隐蔽性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被控端毫无察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9"/>
          <p:cNvSpPr/>
          <p:nvPr/>
        </p:nvSpPr>
        <p:spPr>
          <a:xfrm>
            <a:off x="3828960" y="2514600"/>
            <a:ext cx="6066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功能全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安全稳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10"/>
          <p:cNvSpPr/>
          <p:nvPr/>
        </p:nvSpPr>
        <p:spPr>
          <a:xfrm>
            <a:off x="5337000" y="2514600"/>
            <a:ext cx="60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支持多种电脑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硬件要求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11"/>
          <p:cNvSpPr/>
          <p:nvPr/>
        </p:nvSpPr>
        <p:spPr>
          <a:xfrm>
            <a:off x="6632280" y="2562120"/>
            <a:ext cx="6066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耐心的售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贴心的售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12"/>
          <p:cNvSpPr/>
          <p:nvPr/>
        </p:nvSpPr>
        <p:spPr>
          <a:xfrm>
            <a:off x="4343400" y="685800"/>
            <a:ext cx="41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为什么选择超级眼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右弧形箭头 1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应用范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2"/>
          <p:cNvSpPr/>
          <p:nvPr/>
        </p:nvSpPr>
        <p:spPr>
          <a:xfrm>
            <a:off x="5181480" y="6858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我们能用吗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右弧形箭头 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2"/>
          <p:cNvSpPr/>
          <p:nvPr/>
        </p:nvSpPr>
        <p:spPr>
          <a:xfrm>
            <a:off x="4191120" y="3124080"/>
            <a:ext cx="1450800" cy="112104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3"/>
          <p:cNvSpPr/>
          <p:nvPr/>
        </p:nvSpPr>
        <p:spPr>
          <a:xfrm>
            <a:off x="4343400" y="3505320"/>
            <a:ext cx="11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超级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11"/>
          <p:cNvSpPr/>
          <p:nvPr/>
        </p:nvSpPr>
        <p:spPr>
          <a:xfrm>
            <a:off x="1981080" y="228600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12"/>
          <p:cNvSpPr/>
          <p:nvPr/>
        </p:nvSpPr>
        <p:spPr>
          <a:xfrm>
            <a:off x="4191120" y="914400"/>
            <a:ext cx="131580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私营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13"/>
          <p:cNvSpPr/>
          <p:nvPr/>
        </p:nvSpPr>
        <p:spPr>
          <a:xfrm>
            <a:off x="6553080" y="243828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14"/>
          <p:cNvSpPr/>
          <p:nvPr/>
        </p:nvSpPr>
        <p:spPr>
          <a:xfrm>
            <a:off x="5943600" y="480060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椭圆 15"/>
          <p:cNvSpPr/>
          <p:nvPr/>
        </p:nvSpPr>
        <p:spPr>
          <a:xfrm>
            <a:off x="2590920" y="4724280"/>
            <a:ext cx="131580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政府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行政单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右箭头 16"/>
          <p:cNvSpPr/>
          <p:nvPr/>
        </p:nvSpPr>
        <p:spPr>
          <a:xfrm rot="7880400">
            <a:off x="3891240" y="4523400"/>
            <a:ext cx="471600" cy="431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右箭头 17"/>
          <p:cNvSpPr/>
          <p:nvPr/>
        </p:nvSpPr>
        <p:spPr>
          <a:xfrm rot="11703600">
            <a:off x="3399840" y="3101400"/>
            <a:ext cx="471240" cy="433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右箭头 18"/>
          <p:cNvSpPr/>
          <p:nvPr/>
        </p:nvSpPr>
        <p:spPr>
          <a:xfrm rot="16200000">
            <a:off x="4705920" y="2379960"/>
            <a:ext cx="468360" cy="432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右箭头 19"/>
          <p:cNvSpPr/>
          <p:nvPr/>
        </p:nvSpPr>
        <p:spPr>
          <a:xfrm rot="20425800">
            <a:off x="6001920" y="3114360"/>
            <a:ext cx="471600" cy="431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右箭头 20"/>
          <p:cNvSpPr/>
          <p:nvPr/>
        </p:nvSpPr>
        <p:spPr>
          <a:xfrm rot="2928600">
            <a:off x="5645160" y="4522680"/>
            <a:ext cx="471600" cy="4334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12"/>
          <p:cNvSpPr/>
          <p:nvPr/>
        </p:nvSpPr>
        <p:spPr>
          <a:xfrm>
            <a:off x="6950160" y="281952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台资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外资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13"/>
          <p:cNvSpPr/>
          <p:nvPr/>
        </p:nvSpPr>
        <p:spPr>
          <a:xfrm>
            <a:off x="6317640" y="518148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学校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教育机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14"/>
          <p:cNvSpPr/>
          <p:nvPr/>
        </p:nvSpPr>
        <p:spPr>
          <a:xfrm>
            <a:off x="2279160" y="2743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国有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4"/>
          <p:cNvSpPr/>
          <p:nvPr/>
        </p:nvSpPr>
        <p:spPr>
          <a:xfrm>
            <a:off x="4724280" y="5334120"/>
            <a:ext cx="658800" cy="609480"/>
          </a:xfrm>
          <a:prstGeom prst="ellipse">
            <a:avLst/>
          </a:prstGeom>
          <a:solidFill>
            <a:srgbClr val="ceceef"/>
          </a:solidFill>
          <a:ln w="1260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"/>
          <p:cNvSpPr/>
          <p:nvPr/>
        </p:nvSpPr>
        <p:spPr>
          <a:xfrm>
            <a:off x="4952880" y="4495680"/>
            <a:ext cx="76320" cy="7632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7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2"/>
          <p:cNvSpPr/>
          <p:nvPr/>
        </p:nvSpPr>
        <p:spPr>
          <a:xfrm>
            <a:off x="4952880" y="685800"/>
            <a:ext cx="39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3"/>
          <p:cNvSpPr/>
          <p:nvPr/>
        </p:nvSpPr>
        <p:spPr>
          <a:xfrm>
            <a:off x="2209680" y="1981080"/>
            <a:ext cx="28130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宜兴市国税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扬州联通线缆电器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金华鼎鑫汽车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如皋市金陵化工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泰山玻璃纤维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建设雅马哈摩托车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中研信息咨询管理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沈阳索华电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廊坊菊龙五金磨具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赛象科技股份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三方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豪州万福房地产经营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省清远灵龙房地产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省博宇电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金三航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永康般若进出口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辽宁省锦州中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4"/>
          <p:cNvSpPr/>
          <p:nvPr/>
        </p:nvSpPr>
        <p:spPr>
          <a:xfrm>
            <a:off x="5715000" y="2057400"/>
            <a:ext cx="29923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成都正力佳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海顺商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吉力芸峰实业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省大宏电子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今天计算机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安市速达计算机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烟台市质量技术监督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泰电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科瑞石油装备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方根数码微控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央储备粮济南直属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鼎成信息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徐州市铜山供电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佛山市高明福家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威海光威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杭州中软安人网络通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28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2"/>
          <p:cNvSpPr/>
          <p:nvPr/>
        </p:nvSpPr>
        <p:spPr>
          <a:xfrm>
            <a:off x="5105520" y="762120"/>
            <a:ext cx="34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4"/>
          <p:cNvSpPr/>
          <p:nvPr/>
        </p:nvSpPr>
        <p:spPr>
          <a:xfrm>
            <a:off x="2057400" y="2286000"/>
            <a:ext cx="3048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永强永强岩土工程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市铭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华北制药集团动物保健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大连威兰德国际物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赢政工艺制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海安县精诚电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长丰热电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市中国航空信息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锐众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亚通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江苏东光微电子股份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余姚舜政电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市通告高压泵制造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银兆网络科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同盛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5"/>
          <p:cNvSpPr/>
          <p:nvPr/>
        </p:nvSpPr>
        <p:spPr>
          <a:xfrm>
            <a:off x="5257800" y="2286000"/>
            <a:ext cx="3349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金信知识产权代理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佳易计算机科技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科同向科技（北京）有限责任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海曙中启网络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赢山倍科贸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常州武进亚星卫生用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恒策投资咨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中国科技大学产学研基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泉州市通典文化传播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嘉兴市伊清网络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易材数码图文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大连威兰德国际物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天讯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六度设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华力电脑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2"/>
          <p:cNvSpPr/>
          <p:nvPr/>
        </p:nvSpPr>
        <p:spPr>
          <a:xfrm>
            <a:off x="5181480" y="6858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4"/>
          <p:cNvSpPr/>
          <p:nvPr/>
        </p:nvSpPr>
        <p:spPr>
          <a:xfrm>
            <a:off x="2133720" y="2057400"/>
            <a:ext cx="33112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深辉酒店用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航泰电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辽宁省锦州市中信网络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成都双禾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省淄博市中关村科技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中山市雅思家具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石家庄海星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山环威实业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珠海中润靖杰打印机耗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绥化市泰伦英语学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哈尔滨市奇凯信息咨询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黑龙江广名会计师事务所有限责任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佛山德龙企业管理咨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河北林南仓中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东莞市延邑制模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5638680" y="2057400"/>
            <a:ext cx="30402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市花都易大机械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省蓝天航空经济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杭州博斯软件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南方竹木制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市普庆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温州市康伟实业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泉州市迪光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四川警察学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东莞市三屯钜熙鞋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力德国际贸易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长春大成生化饲料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市海诺曼奥信息科技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温州天翔网络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抚顺中宇建设（集团）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展盈计算机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6"/>
          <p:cNvSpPr/>
          <p:nvPr/>
        </p:nvSpPr>
        <p:spPr>
          <a:xfrm>
            <a:off x="1600200" y="6095880"/>
            <a:ext cx="686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提示：以上是一部分应用成功的客户，如不想再公开，请联系客服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关于我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2"/>
          <p:cNvSpPr/>
          <p:nvPr/>
        </p:nvSpPr>
        <p:spPr>
          <a:xfrm>
            <a:off x="4876920" y="762120"/>
            <a:ext cx="35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99"/>
          <p:cNvSpPr/>
          <p:nvPr/>
        </p:nvSpPr>
        <p:spPr>
          <a:xfrm>
            <a:off x="1905120" y="1371600"/>
            <a:ext cx="6352920" cy="39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1" sz="1200" spc="-1" strike="noStrike">
                <a:solidFill>
                  <a:srgbClr val="7f7f7f"/>
                </a:solidFill>
                <a:latin typeface="宋体"/>
              </a:rPr>
              <a:t>深圳市超时代软件有限公司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成立于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2005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年，总部设于深圳，专业从事数据安全监控产品的研发和销售，致力于为个人用户与单位企业提供全面的数据安全保护方案。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(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级眼监控软件是超时代软件公司旗下的主要产品，公司主站为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www.360drm.com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是国内较早从事加密安全领域研究的机构之一，拥有全面的信息防泄密产品线和解决方案，为客户提供安全、稳定、可靠的产品和服务。凭借核心研发团队多年的行业积累，超时代软件已申请多项技术发明专利，并拥有全部自主知识产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目前有多款企业级应用软件： 共享文件夹加密专家、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U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盘防拷贝系统、超级眼监控软件（分内网版和外网版）、视频加密器和文档透明加密系统等。 公司将始终专注于提高企业员工工作效率方面的新产品研发和推广，坚持不懈地贯彻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精品战略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思想，带给客户更多的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全新产品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专注于信息安全领域，坚持高品质、高科技、高效率的原则，先后取得软件企业、高新企业等证书，产品通过了信息安全测试部门测评，取得了著作权和产品登记证书。一直以来，超时代软件不懈努力，竭诚为企业信息化管理建设奉献出一份力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1400" spc="-1" strike="noStrike">
                <a:solidFill>
                  <a:srgbClr val="000000"/>
                </a:solidFill>
                <a:latin typeface="宋体"/>
              </a:rPr>
              <a:t>联系方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全国统一服务热线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4000-186-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工作时间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一至周五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(9:00 - 18: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公司地址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广东省深圳市南山区科技文化广场华富洋大厦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4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楼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A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末如果需要技术支持，请直接联系我们客服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QQ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，客服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QQ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末通常也保持在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4"/>
          <p:cNvSpPr/>
          <p:nvPr/>
        </p:nvSpPr>
        <p:spPr>
          <a:xfrm>
            <a:off x="2057400" y="1447920"/>
            <a:ext cx="13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公司简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矩形 8193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gradFill rotWithShape="0">
            <a:gsLst>
              <a:gs pos="0">
                <a:srgbClr val="ffdeab"/>
              </a:gs>
              <a:gs pos="100000">
                <a:srgbClr val="ff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8194"/>
          <p:cNvSpPr/>
          <p:nvPr/>
        </p:nvSpPr>
        <p:spPr>
          <a:xfrm>
            <a:off x="2666880" y="1905120"/>
            <a:ext cx="38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ffdeab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5"/>
          <p:cNvSpPr/>
          <p:nvPr/>
        </p:nvSpPr>
        <p:spPr>
          <a:xfrm>
            <a:off x="324000" y="4437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超级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248040" y="52578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  <a:ea typeface="宋体"/>
              </a:rPr>
              <a:t>Super 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页脚占位符 1"/>
          <p:cNvSpPr/>
          <p:nvPr/>
        </p:nvSpPr>
        <p:spPr>
          <a:xfrm>
            <a:off x="6019920" y="60958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MH_Others_1"/>
          <p:cNvSpPr/>
          <p:nvPr/>
        </p:nvSpPr>
        <p:spPr>
          <a:xfrm>
            <a:off x="3597120" y="1297080"/>
            <a:ext cx="0" cy="4492440"/>
          </a:xfrm>
          <a:prstGeom prst="line">
            <a:avLst/>
          </a:prstGeom>
          <a:ln w="25560">
            <a:solidFill>
              <a:srgbClr val="e4f3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MH_Entry_1"/>
          <p:cNvSpPr/>
          <p:nvPr/>
        </p:nvSpPr>
        <p:spPr>
          <a:xfrm>
            <a:off x="3794040" y="162864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软件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MH_Number_2"/>
          <p:cNvSpPr/>
          <p:nvPr/>
        </p:nvSpPr>
        <p:spPr>
          <a:xfrm>
            <a:off x="3398760" y="291924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MH_Others_2"/>
          <p:cNvSpPr/>
          <p:nvPr/>
        </p:nvSpPr>
        <p:spPr>
          <a:xfrm>
            <a:off x="754200" y="2808360"/>
            <a:ext cx="176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be0e3"/>
                </a:solidFill>
                <a:latin typeface="华文中宋"/>
                <a:ea typeface="华文中宋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H_Others_3"/>
          <p:cNvSpPr/>
          <p:nvPr/>
        </p:nvSpPr>
        <p:spPr>
          <a:xfrm>
            <a:off x="754200" y="3332160"/>
            <a:ext cx="176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华文细黑"/>
                <a:ea typeface="华文细黑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MH_Number_2"/>
          <p:cNvSpPr/>
          <p:nvPr/>
        </p:nvSpPr>
        <p:spPr>
          <a:xfrm>
            <a:off x="3398760" y="165564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MH_Number_2"/>
          <p:cNvSpPr/>
          <p:nvPr/>
        </p:nvSpPr>
        <p:spPr>
          <a:xfrm>
            <a:off x="3398760" y="230364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MH_Number_2"/>
          <p:cNvSpPr/>
          <p:nvPr/>
        </p:nvSpPr>
        <p:spPr>
          <a:xfrm>
            <a:off x="3398760" y="356724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MH_Number_2"/>
          <p:cNvSpPr/>
          <p:nvPr/>
        </p:nvSpPr>
        <p:spPr>
          <a:xfrm>
            <a:off x="3398760" y="422280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Number_2"/>
          <p:cNvSpPr/>
          <p:nvPr/>
        </p:nvSpPr>
        <p:spPr>
          <a:xfrm>
            <a:off x="3398760" y="487692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Entry_1"/>
          <p:cNvSpPr/>
          <p:nvPr/>
        </p:nvSpPr>
        <p:spPr>
          <a:xfrm>
            <a:off x="3794040" y="229536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功能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Entry_1"/>
          <p:cNvSpPr/>
          <p:nvPr/>
        </p:nvSpPr>
        <p:spPr>
          <a:xfrm>
            <a:off x="3798720" y="2892600"/>
            <a:ext cx="399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产品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Entry_1"/>
          <p:cNvSpPr/>
          <p:nvPr/>
        </p:nvSpPr>
        <p:spPr>
          <a:xfrm>
            <a:off x="3814920" y="3559320"/>
            <a:ext cx="3995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用范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Entry_1"/>
          <p:cNvSpPr/>
          <p:nvPr/>
        </p:nvSpPr>
        <p:spPr>
          <a:xfrm>
            <a:off x="3814920" y="4183200"/>
            <a:ext cx="39956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客户案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Entry_1"/>
          <p:cNvSpPr/>
          <p:nvPr/>
        </p:nvSpPr>
        <p:spPr>
          <a:xfrm>
            <a:off x="3809880" y="483696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关于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标题 7169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51920" cy="114300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2" descr="图片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581280" y="2133720"/>
            <a:ext cx="5457960" cy="4092480"/>
          </a:xfrm>
          <a:prstGeom prst="rect">
            <a:avLst/>
          </a:prstGeom>
          <a:ln w="0">
            <a:noFill/>
          </a:ln>
        </p:spPr>
      </p:pic>
      <p:sp>
        <p:nvSpPr>
          <p:cNvPr id="596" name="文本框 5"/>
          <p:cNvSpPr/>
          <p:nvPr/>
        </p:nvSpPr>
        <p:spPr>
          <a:xfrm>
            <a:off x="2209680" y="236232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超级眼 计算机管理系统</a:t>
            </a:r>
            <a:r>
              <a:rPr b="0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是超时代软件自主研发的，对计算机操作行为进行全面监控和管理的一款软件，可监控计算机所有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网址：</a:t>
            </a:r>
            <a:r>
              <a:rPr b="0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www.360mon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右弧形箭头 3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905120" y="1676160"/>
            <a:ext cx="298296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一、实时监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二、历史监控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三、限制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四、远程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五、实时报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标注 15"/>
          <p:cNvSpPr/>
          <p:nvPr/>
        </p:nvSpPr>
        <p:spPr>
          <a:xfrm rot="10800000">
            <a:off x="5105160" y="1904400"/>
            <a:ext cx="3429000" cy="28573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4"/>
          <p:cNvSpPr/>
          <p:nvPr/>
        </p:nvSpPr>
        <p:spPr>
          <a:xfrm>
            <a:off x="5257800" y="2438280"/>
            <a:ext cx="312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超级眼软件分为内网版、外网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内网版是局域网内部监控，外网版是异地远程监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除此差异之外，二者功能完全相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右弧形箭头 4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标题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605040" cy="1143000"/>
          </a:xfrm>
          <a:prstGeom prst="rect">
            <a:avLst/>
          </a:prstGeom>
          <a:ln w="0">
            <a:noFill/>
          </a:ln>
        </p:spPr>
      </p:pic>
      <p:sp>
        <p:nvSpPr>
          <p:cNvPr id="604" name="流程图: 可选过程 4"/>
          <p:cNvSpPr/>
          <p:nvPr/>
        </p:nvSpPr>
        <p:spPr>
          <a:xfrm>
            <a:off x="2135160" y="2754360"/>
            <a:ext cx="38268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5"/>
          <p:cNvSpPr/>
          <p:nvPr/>
        </p:nvSpPr>
        <p:spPr>
          <a:xfrm>
            <a:off x="2094480" y="27716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实时监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左中括号 7"/>
          <p:cNvSpPr/>
          <p:nvPr/>
        </p:nvSpPr>
        <p:spPr>
          <a:xfrm>
            <a:off x="2819520" y="2085840"/>
            <a:ext cx="139680" cy="3108600"/>
          </a:xfrm>
          <a:custGeom>
            <a:avLst/>
            <a:gdLst>
              <a:gd name="textAreaLeft" fmla="*/ 41040 w 139680"/>
              <a:gd name="textAreaRight" fmla="*/ 140040 w 139680"/>
              <a:gd name="textAreaTop" fmla="*/ 5400 h 3108600"/>
              <a:gd name="textAreaBottom" fmla="*/ 31032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0"/>
                  <a:pt x="0" y="80"/>
                </a:cubicBezTo>
                <a:lnTo>
                  <a:pt x="0" y="21520"/>
                </a:lnTo>
                <a:cubicBezTo>
                  <a:pt x="0" y="2156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9"/>
          <p:cNvSpPr/>
          <p:nvPr/>
        </p:nvSpPr>
        <p:spPr>
          <a:xfrm>
            <a:off x="3200400" y="1905120"/>
            <a:ext cx="50324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①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实时远程桌面监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宋体"/>
                <a:ea typeface="宋体"/>
              </a:rPr>
              <a:t>管理者及时了解所有员工动向，可通过实时桌面监控，或者多画面桌面监控可以了解员工当前的电脑桌面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10"/>
          <p:cNvSpPr/>
          <p:nvPr/>
        </p:nvSpPr>
        <p:spPr>
          <a:xfrm>
            <a:off x="3200400" y="3429000"/>
            <a:ext cx="510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②</a:t>
            </a: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实时远程摄像头监控</a:t>
            </a:r>
            <a:r>
              <a:rPr b="1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实时查看被监控计算机摄像头的画面，可多画面实时监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11"/>
          <p:cNvSpPr/>
          <p:nvPr/>
        </p:nvSpPr>
        <p:spPr>
          <a:xfrm>
            <a:off x="3200400" y="4952880"/>
            <a:ext cx="25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③</a:t>
            </a: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实时流量监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2"/>
          <p:cNvSpPr/>
          <p:nvPr/>
        </p:nvSpPr>
        <p:spPr>
          <a:xfrm>
            <a:off x="3124080" y="5257800"/>
            <a:ext cx="52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可对员工计算机的流量进行实时监控，及时发现流量的异常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12"/>
          <p:cNvSpPr/>
          <p:nvPr/>
        </p:nvSpPr>
        <p:spPr>
          <a:xfrm>
            <a:off x="27432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2"/>
          <p:cNvSpPr/>
          <p:nvPr/>
        </p:nvSpPr>
        <p:spPr>
          <a:xfrm>
            <a:off x="4267080" y="685800"/>
            <a:ext cx="46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了解员工使用电脑时正在做什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右弧形箭头 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历史记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流程图: 可选过程 4"/>
          <p:cNvSpPr/>
          <p:nvPr/>
        </p:nvSpPr>
        <p:spPr>
          <a:xfrm>
            <a:off x="1946160" y="2773440"/>
            <a:ext cx="384120" cy="18921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5"/>
          <p:cNvSpPr/>
          <p:nvPr/>
        </p:nvSpPr>
        <p:spPr>
          <a:xfrm>
            <a:off x="1913400" y="2640960"/>
            <a:ext cx="48528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历史监控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左中括号 6"/>
          <p:cNvSpPr/>
          <p:nvPr/>
        </p:nvSpPr>
        <p:spPr>
          <a:xfrm>
            <a:off x="2514600" y="1676520"/>
            <a:ext cx="76320" cy="449568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4495680"/>
              <a:gd name="textAreaBottom" fmla="*/ 449280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"/>
                  <a:pt x="0" y="30"/>
                </a:cubicBezTo>
                <a:lnTo>
                  <a:pt x="0" y="21570"/>
                </a:lnTo>
                <a:cubicBezTo>
                  <a:pt x="0" y="2158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直接连接符 10"/>
          <p:cNvSpPr/>
          <p:nvPr/>
        </p:nvSpPr>
        <p:spPr>
          <a:xfrm>
            <a:off x="2514600" y="16765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直接连接符 11"/>
          <p:cNvSpPr/>
          <p:nvPr/>
        </p:nvSpPr>
        <p:spPr>
          <a:xfrm>
            <a:off x="2514600" y="61722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直接连接符 12"/>
          <p:cNvSpPr/>
          <p:nvPr/>
        </p:nvSpPr>
        <p:spPr>
          <a:xfrm>
            <a:off x="2516040" y="342900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13"/>
          <p:cNvSpPr/>
          <p:nvPr/>
        </p:nvSpPr>
        <p:spPr>
          <a:xfrm>
            <a:off x="2516040" y="22096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14"/>
          <p:cNvSpPr/>
          <p:nvPr/>
        </p:nvSpPr>
        <p:spPr>
          <a:xfrm>
            <a:off x="2516040" y="281952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直接连接符 15"/>
          <p:cNvSpPr/>
          <p:nvPr/>
        </p:nvSpPr>
        <p:spPr>
          <a:xfrm>
            <a:off x="2514600" y="41911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直接连接符 16"/>
          <p:cNvSpPr/>
          <p:nvPr/>
        </p:nvSpPr>
        <p:spPr>
          <a:xfrm>
            <a:off x="2516040" y="47242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直接连接符 17"/>
          <p:cNvSpPr/>
          <p:nvPr/>
        </p:nvSpPr>
        <p:spPr>
          <a:xfrm>
            <a:off x="2514600" y="541008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18"/>
          <p:cNvSpPr/>
          <p:nvPr/>
        </p:nvSpPr>
        <p:spPr>
          <a:xfrm>
            <a:off x="2819520" y="1523880"/>
            <a:ext cx="5478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①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聊天监控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可以查看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、旺旺、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SKYPE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等常用聊天软件的聊天记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19"/>
          <p:cNvSpPr/>
          <p:nvPr/>
        </p:nvSpPr>
        <p:spPr>
          <a:xfrm>
            <a:off x="2820960" y="2057400"/>
            <a:ext cx="5357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②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程序运行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详细记录用户电脑上软件的使用时间，包括启动与结束时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21"/>
          <p:cNvSpPr/>
          <p:nvPr/>
        </p:nvSpPr>
        <p:spPr>
          <a:xfrm>
            <a:off x="2820960" y="2666880"/>
            <a:ext cx="5415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③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屏幕监控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对员工计算机屏幕画面进行记录，再现员工之前在计算机上的一举一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22"/>
          <p:cNvSpPr/>
          <p:nvPr/>
        </p:nvSpPr>
        <p:spPr>
          <a:xfrm>
            <a:off x="2820960" y="3276720"/>
            <a:ext cx="5446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④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网址访问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详细记录各种浏览器的网页访问记录，自动记下网页的标题，网址以及访问   时间，方便管理者考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3"/>
          <p:cNvSpPr/>
          <p:nvPr/>
        </p:nvSpPr>
        <p:spPr>
          <a:xfrm>
            <a:off x="2820960" y="4038480"/>
            <a:ext cx="5443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⑤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文件操作记录</a:t>
            </a: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记录被控端所有的文件操作，包括创建，删除或复制文件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24"/>
          <p:cNvSpPr/>
          <p:nvPr/>
        </p:nvSpPr>
        <p:spPr>
          <a:xfrm>
            <a:off x="2820960" y="4572000"/>
            <a:ext cx="5472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宋体"/>
              </a:rPr>
              <a:t>⑥ </a:t>
            </a:r>
            <a:r>
              <a:rPr b="1" lang="en-US" sz="1400" spc="-1" strike="noStrike">
                <a:solidFill>
                  <a:srgbClr val="262626"/>
                </a:solidFill>
                <a:latin typeface="宋体"/>
              </a:rPr>
              <a:t>U</a:t>
            </a:r>
            <a:r>
              <a:rPr b="1" lang="zh-CN" sz="1400" spc="-1" strike="noStrike">
                <a:solidFill>
                  <a:srgbClr val="262626"/>
                </a:solidFill>
                <a:latin typeface="宋体"/>
              </a:rPr>
              <a:t>盘使用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清晰记录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U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盘和光盘的使用记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25"/>
          <p:cNvSpPr/>
          <p:nvPr/>
        </p:nvSpPr>
        <p:spPr>
          <a:xfrm>
            <a:off x="2819520" y="5280120"/>
            <a:ext cx="55101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⑦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邮件收发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记录员工计算机所有收发的邮件，记录包括收发时间、收件人、发件人、标题和内容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26"/>
          <p:cNvSpPr/>
          <p:nvPr/>
        </p:nvSpPr>
        <p:spPr>
          <a:xfrm>
            <a:off x="2819520" y="6006960"/>
            <a:ext cx="545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⑧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其他：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开关机记录、键盘记录、剪贴板记录、报警记录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2"/>
          <p:cNvSpPr/>
          <p:nvPr/>
        </p:nvSpPr>
        <p:spPr>
          <a:xfrm>
            <a:off x="4343400" y="685800"/>
            <a:ext cx="45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了解员工做过什么，以便考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2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限制功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流程图: 可选过程 5"/>
          <p:cNvSpPr/>
          <p:nvPr/>
        </p:nvSpPr>
        <p:spPr>
          <a:xfrm>
            <a:off x="1817640" y="3071880"/>
            <a:ext cx="38412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6"/>
          <p:cNvSpPr/>
          <p:nvPr/>
        </p:nvSpPr>
        <p:spPr>
          <a:xfrm>
            <a:off x="1767240" y="3057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限制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左中括号 8"/>
          <p:cNvSpPr/>
          <p:nvPr/>
        </p:nvSpPr>
        <p:spPr>
          <a:xfrm>
            <a:off x="2286000" y="2209680"/>
            <a:ext cx="76320" cy="358164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3581640"/>
              <a:gd name="textAreaBottom" fmla="*/ 357876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"/>
                  <a:pt x="0" y="38"/>
                </a:cubicBezTo>
                <a:lnTo>
                  <a:pt x="0" y="21562"/>
                </a:lnTo>
                <a:cubicBezTo>
                  <a:pt x="0" y="2158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2"/>
          <p:cNvSpPr/>
          <p:nvPr/>
        </p:nvSpPr>
        <p:spPr>
          <a:xfrm>
            <a:off x="2514600" y="2133720"/>
            <a:ext cx="33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软件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3"/>
          <p:cNvSpPr/>
          <p:nvPr/>
        </p:nvSpPr>
        <p:spPr>
          <a:xfrm>
            <a:off x="2517840" y="4929120"/>
            <a:ext cx="2361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硬件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可对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U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盘、光驱进行禁用，以避免员工使用与工作无关的计算机设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6"/>
          <p:cNvSpPr/>
          <p:nvPr/>
        </p:nvSpPr>
        <p:spPr>
          <a:xfrm>
            <a:off x="3124080" y="191772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程序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7"/>
          <p:cNvSpPr/>
          <p:nvPr/>
        </p:nvSpPr>
        <p:spPr>
          <a:xfrm>
            <a:off x="3124080" y="2422440"/>
            <a:ext cx="15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网页访问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文件操作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图片 -2147482613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3645000" cy="247968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-2147482614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641760" cy="2503440"/>
          </a:xfrm>
          <a:prstGeom prst="rect">
            <a:avLst/>
          </a:prstGeom>
          <a:ln w="0">
            <a:noFill/>
          </a:ln>
        </p:spPr>
      </p:pic>
      <p:sp>
        <p:nvSpPr>
          <p:cNvPr id="646" name="文本框 9"/>
          <p:cNvSpPr/>
          <p:nvPr/>
        </p:nvSpPr>
        <p:spPr>
          <a:xfrm>
            <a:off x="4038480" y="762120"/>
            <a:ext cx="50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让员工上班时间只能做与工作相关的事情，提高工作效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11"/>
          <p:cNvGrpSpPr/>
          <p:nvPr/>
        </p:nvGrpSpPr>
        <p:grpSpPr>
          <a:xfrm>
            <a:off x="2876400" y="2057400"/>
            <a:ext cx="247680" cy="1136520"/>
            <a:chOff x="2876400" y="2057400"/>
            <a:chExt cx="247680" cy="1136520"/>
          </a:xfrm>
        </p:grpSpPr>
        <p:sp>
          <p:nvSpPr>
            <p:cNvPr id="648" name="左中括号 4"/>
            <p:cNvSpPr/>
            <p:nvPr/>
          </p:nvSpPr>
          <p:spPr>
            <a:xfrm>
              <a:off x="3028680" y="2057400"/>
              <a:ext cx="75960" cy="113652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2880 h 1136520"/>
                <a:gd name="textAreaBottom" fmla="*/ 1133640 h 11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60"/>
                    <a:pt x="0" y="120"/>
                  </a:cubicBezTo>
                  <a:lnTo>
                    <a:pt x="0" y="21480"/>
                  </a:lnTo>
                  <a:cubicBezTo>
                    <a:pt x="0" y="2154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直接连接符 14"/>
            <p:cNvSpPr/>
            <p:nvPr/>
          </p:nvSpPr>
          <p:spPr>
            <a:xfrm>
              <a:off x="2876400" y="25905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右弧形箭头 12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远程管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流程图: 可选过程 5"/>
          <p:cNvSpPr/>
          <p:nvPr/>
        </p:nvSpPr>
        <p:spPr>
          <a:xfrm>
            <a:off x="2514600" y="2971800"/>
            <a:ext cx="384120" cy="12063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3"/>
          <p:cNvSpPr/>
          <p:nvPr/>
        </p:nvSpPr>
        <p:spPr>
          <a:xfrm>
            <a:off x="2170440" y="3048120"/>
            <a:ext cx="7902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远程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组合 11"/>
          <p:cNvGrpSpPr/>
          <p:nvPr/>
        </p:nvGrpSpPr>
        <p:grpSpPr>
          <a:xfrm>
            <a:off x="2971800" y="2209680"/>
            <a:ext cx="247680" cy="2714760"/>
            <a:chOff x="2971800" y="2209680"/>
            <a:chExt cx="247680" cy="2714760"/>
          </a:xfrm>
        </p:grpSpPr>
        <p:sp>
          <p:nvSpPr>
            <p:cNvPr id="655" name="左中括号 4"/>
            <p:cNvSpPr/>
            <p:nvPr/>
          </p:nvSpPr>
          <p:spPr>
            <a:xfrm>
              <a:off x="3124080" y="2209680"/>
              <a:ext cx="76320" cy="27147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880 h 2714760"/>
                <a:gd name="textAreaBottom" fmla="*/ 2711880 h 271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5"/>
                    <a:pt x="0" y="50"/>
                  </a:cubicBezTo>
                  <a:lnTo>
                    <a:pt x="0" y="21550"/>
                  </a:lnTo>
                  <a:cubicBezTo>
                    <a:pt x="0" y="2157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直接连接符 14"/>
            <p:cNvSpPr/>
            <p:nvPr/>
          </p:nvSpPr>
          <p:spPr>
            <a:xfrm>
              <a:off x="2971800" y="358092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文本框 6"/>
          <p:cNvSpPr/>
          <p:nvPr/>
        </p:nvSpPr>
        <p:spPr>
          <a:xfrm>
            <a:off x="3200400" y="2057400"/>
            <a:ext cx="5560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远程文件管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超级眼的文件管理功能，不仅可对员工文件进行远程复制、删除、删除、重命名等操作，还可以上传、下载，为批量下载员工端文件到管理端提供便利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7"/>
          <p:cNvSpPr/>
          <p:nvPr/>
        </p:nvSpPr>
        <p:spPr>
          <a:xfrm>
            <a:off x="4419720" y="762120"/>
            <a:ext cx="44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轻松远程管理员工的计算机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8"/>
          <p:cNvSpPr/>
          <p:nvPr/>
        </p:nvSpPr>
        <p:spPr>
          <a:xfrm>
            <a:off x="3276720" y="3352680"/>
            <a:ext cx="5329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进程管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在进程列表查看员工当前正在运行的进程，并可以结束选中的进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9"/>
          <p:cNvSpPr/>
          <p:nvPr/>
        </p:nvSpPr>
        <p:spPr>
          <a:xfrm>
            <a:off x="3276720" y="4572000"/>
            <a:ext cx="5235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系统命令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远程对员工端进行关机、重启、注销等操作；向选中员工端发送广播消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右弧形箭头 12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-2147482609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784840" cy="39924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11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实时报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2"/>
          <p:cNvSpPr/>
          <p:nvPr/>
        </p:nvSpPr>
        <p:spPr>
          <a:xfrm>
            <a:off x="4343400" y="609480"/>
            <a:ext cx="44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全力保护企业利益：对员工的敏感操作实时报警、防泄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1"/>
          <p:cNvSpPr/>
          <p:nvPr/>
        </p:nvSpPr>
        <p:spPr>
          <a:xfrm>
            <a:off x="2286000" y="5791320"/>
            <a:ext cx="16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插入</a:t>
            </a:r>
            <a:r>
              <a:rPr b="1" lang="en-US" sz="1400" spc="-1" strike="noStrike">
                <a:solidFill>
                  <a:srgbClr val="7f7f7f"/>
                </a:solidFill>
                <a:latin typeface="宋体"/>
              </a:rPr>
              <a:t>U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盘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2"/>
          <p:cNvSpPr/>
          <p:nvPr/>
        </p:nvSpPr>
        <p:spPr>
          <a:xfrm>
            <a:off x="3809880" y="5791320"/>
            <a:ext cx="15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拷贝带走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13"/>
          <p:cNvSpPr/>
          <p:nvPr/>
        </p:nvSpPr>
        <p:spPr>
          <a:xfrm>
            <a:off x="5181480" y="5791320"/>
            <a:ext cx="20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硬件变动自动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5"/>
          <p:cNvSpPr/>
          <p:nvPr/>
        </p:nvSpPr>
        <p:spPr>
          <a:xfrm>
            <a:off x="6858000" y="5791320"/>
            <a:ext cx="182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自定义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右弧形箭头 17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7:22:00Z</dcterms:created>
  <dc:creator/>
  <dc:description/>
  <dc:language>en-US</dc:language>
  <cp:lastModifiedBy>hopo</cp:lastModifiedBy>
  <dcterms:modified xsi:type="dcterms:W3CDTF">2016-06-21T10:19:08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  <property fmtid="{D5CDD505-2E9C-101B-9397-08002B2CF9AE}" pid="3" name="Version">
    <vt:r8>1</vt:r8>
  </property>
</Properties>
</file>