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96B2-36D8-4288-9E2A-D073B7A84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C113-FCC5-4640-85F7-2FD5F894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BE21-465A-43DF-AA01-C552F3AEF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6894-25D1-4522-A646-999C44269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322D-F1E4-4F37-8F02-FC9092960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C0FD-1D8A-4251-A018-A062E0B4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62AA-9CE5-4BE9-8712-F9954B34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CCE3B-489B-4A36-AC93-528867CF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6E7A-7A0E-40AD-AC99-EB086F44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2CC2-C1DF-49BE-A91B-BBADF160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8D29-F12F-4D5B-8844-7E472B57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7E1F-89B5-4F65-BFFE-325157D0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E73DC-8112-46B3-BB2C-D2602EF0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668F-ED03-4363-9643-4857D1B3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7A8F-911B-43B8-95B2-6429B7EF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B283-FC55-4B41-A060-B33006D9E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AABF-6D46-48B7-9087-DA286CB6B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4083-FFCB-4DD8-AEB3-7D5C7A18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CFC1-973B-4738-9AC4-F262AF5B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4D89-6DF0-4487-9B66-C11A21FF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530F-F7FA-4D42-86DD-9471BFBA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9CE4-B9DC-4652-897D-C5CE7CEF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6225-AEE1-4B17-B8D0-D4AD8553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B426-AADB-4454-B60F-A6382F3C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BB16-9986-477A-91CB-E1F89F3C82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BD87-C870-4387-8E12-C15C196FD2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1.xml"/><Relationship Id="rId3" Type="http://schemas.openxmlformats.org/officeDocument/2006/relationships/slide" Target="slide10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22.xml"/><Relationship Id="rId7" Type="http://schemas.openxmlformats.org/officeDocument/2006/relationships/slide" Target="slide24.xml"/><Relationship Id="rId8" Type="http://schemas.openxmlformats.org/officeDocument/2006/relationships/slide" Target="slide18.xml"/><Relationship Id="rId9" Type="http://schemas.openxmlformats.org/officeDocument/2006/relationships/slide" Target="slide16.xm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43000" y="17524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6699"/>
                </a:solidFill>
                <a:latin typeface="Times New Roman"/>
              </a:rPr>
              <a:t>江苏省大学生计算机等级考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62320" y="28195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一级考试系统培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48769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江苏省大学生计算机等级考试中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87E3-1AB5-40DF-B1F8-88B38DDB99F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21304"/>
                </a:solidFill>
                <a:latin typeface="隶书"/>
                <a:ea typeface="隶书"/>
              </a:rPr>
              <a:t>五、监考机主要功能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95280" y="205704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参数设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功能：设置学校名称、考场名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注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初始化后，导入试卷之前可以修改，考试过程中不允许更改（应用到上报压缩文件中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rId1" action="ppaction://hlinksldjump"/>
          </p:cNvPr>
          <p:cNvSpPr/>
          <p:nvPr/>
        </p:nvSpPr>
        <p:spPr>
          <a:xfrm>
            <a:off x="6934320" y="5791320"/>
            <a:ext cx="609480" cy="30456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72CA-81FE-4ECC-A066-F4628EA3946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21304"/>
                </a:solidFill>
                <a:latin typeface="隶书"/>
                <a:ea typeface="隶书"/>
              </a:rPr>
              <a:t>五、监考机主要功能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95280" y="205704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机器清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设置监考机所管辖的考试机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IP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地址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使用固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地址，自动获取机器名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地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注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地址与考试机实际位置的关系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考试过程中，可以添加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地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rId1" action="ppaction://hlinksldjump"/>
          </p:cNvPr>
          <p:cNvSpPr/>
          <p:nvPr/>
        </p:nvSpPr>
        <p:spPr>
          <a:xfrm>
            <a:off x="6934320" y="594360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4BB1-73A2-4DD8-A31A-68129AF641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21304"/>
                </a:solidFill>
                <a:latin typeface="隶书"/>
                <a:ea typeface="隶书"/>
              </a:rPr>
              <a:t>五、监考机主要功能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95280" y="205704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导入试卷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功能：将考试中心下发的试卷包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包含报名库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导入监考机，以备分发各考试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试卷包是加密的，包含一届考试的多套试卷以及各校的报名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不允许重复导入试卷包，若需再次导入必须进行初始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提供的模拟试卷包的导入密码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he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rId1" action="ppaction://hlinksldjump"/>
          </p:cNvPr>
          <p:cNvSpPr/>
          <p:nvPr/>
        </p:nvSpPr>
        <p:spPr>
          <a:xfrm>
            <a:off x="6934320" y="5791320"/>
            <a:ext cx="609480" cy="30456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50B9-5EC4-419C-A475-D9BDF2423E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21304"/>
                </a:solidFill>
                <a:latin typeface="隶书"/>
                <a:ea typeface="隶书"/>
              </a:rPr>
              <a:t>五、监考机主要功能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3911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导入报名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导入考试中心报名系统提供的报名库，以便分发至考试机，用于登录时校验。</a:t>
            </a:r>
            <a:r>
              <a:rPr b="1" i="1" lang="zh-CN" sz="2400" spc="-1" strike="noStrike">
                <a:solidFill>
                  <a:srgbClr val="ff0000"/>
                </a:solidFill>
                <a:latin typeface="宋体"/>
              </a:rPr>
              <a:t>V6.x</a:t>
            </a:r>
            <a:r>
              <a:rPr b="1" i="1" lang="zh-CN" sz="2400" spc="-1" strike="noStrike">
                <a:solidFill>
                  <a:srgbClr val="ff0000"/>
                </a:solidFill>
                <a:latin typeface="宋体"/>
              </a:rPr>
              <a:t>版中报名库随试卷包一道导入，一般情况下，无须此操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考试机在没有报名库时（清空名单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报名库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，考试登录时不实行校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各监考机建议导入所有一级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报名信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新版报名库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b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结构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ZKZ C(10),NAME C(10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见光盘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报名样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.dbf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rId1" action="ppaction://hlinksldjump"/>
          </p:cNvPr>
          <p:cNvSpPr/>
          <p:nvPr/>
        </p:nvSpPr>
        <p:spPr>
          <a:xfrm>
            <a:off x="7620120" y="6019920"/>
            <a:ext cx="609480" cy="30456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C442-30DA-4C1E-B27A-D5589DB56D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21304"/>
                </a:solidFill>
                <a:latin typeface="隶书"/>
                <a:ea typeface="隶书"/>
              </a:rPr>
              <a:t>五、监考机主要功能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95280" y="205704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分发试卷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功能：将监考机的试卷包分发到选定的考试机（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V6.x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版包含报名库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注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发的是一届考试的所有试卷及报名库，因此，每届考试只需在考前分发一次，除非个别考试机故障或误删，此时，可在考试过程中个别分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rId1" action="ppaction://hlinksldjump"/>
          </p:cNvPr>
          <p:cNvSpPr/>
          <p:nvPr/>
        </p:nvSpPr>
        <p:spPr>
          <a:xfrm>
            <a:off x="6934320" y="5791320"/>
            <a:ext cx="609480" cy="30456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BF75-4FD9-470E-931D-75EFAABFE9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21304"/>
                </a:solidFill>
                <a:latin typeface="隶书"/>
                <a:ea typeface="隶书"/>
              </a:rPr>
              <a:t>五、监考机主要功能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95280" y="205704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发报名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功能：将监考机的报名库分发到选定的考试机， </a:t>
            </a:r>
            <a:r>
              <a:rPr b="1" i="1" lang="zh-CN" sz="2800" spc="-1" strike="noStrike">
                <a:solidFill>
                  <a:srgbClr val="ff0000"/>
                </a:solidFill>
                <a:latin typeface="宋体"/>
              </a:rPr>
              <a:t>V6.x</a:t>
            </a:r>
            <a:r>
              <a:rPr b="1" i="1" lang="zh-CN" sz="2800" spc="-1" strike="noStrike">
                <a:solidFill>
                  <a:srgbClr val="ff0000"/>
                </a:solidFill>
                <a:latin typeface="宋体"/>
              </a:rPr>
              <a:t>版中报名库随试卷包一道分发，一般情况下，无须此操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每届考试只需在考前分发一次，除非个别考试机故障或误删，此时，可在考试过程中个别分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清空名单功能，可实现考试机报名库清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>
            <a:hlinkClick r:id="rId1" action="ppaction://hlinksldjump"/>
          </p:cNvPr>
          <p:cNvSpPr/>
          <p:nvPr/>
        </p:nvSpPr>
        <p:spPr>
          <a:xfrm>
            <a:off x="6934320" y="5791320"/>
            <a:ext cx="609480" cy="30456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678B-56D1-48BA-AC77-4609B86D13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21304"/>
                </a:solidFill>
                <a:latin typeface="隶书"/>
                <a:ea typeface="隶书"/>
              </a:rPr>
              <a:t>五、监考机主要功能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3911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8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清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功能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在一场考试结束（或基本结束）时执行。此功能将初始化所有在线已交卷考试机，为下一批次考生登录做好准备，同时刷新监考机主界面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清场是不可逆的！！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考生的场次有登录的试卷密码决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场次信息作为考生答案文件名的一部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别考生在考时，也可清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rId1" action="ppaction://hlinksldjump"/>
          </p:cNvPr>
          <p:cNvSpPr/>
          <p:nvPr/>
        </p:nvSpPr>
        <p:spPr>
          <a:xfrm flipV="1">
            <a:off x="7848720" y="59428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EB28-69F0-4B1A-841D-1DE090603B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21304"/>
                </a:solidFill>
                <a:latin typeface="隶书"/>
                <a:ea typeface="隶书"/>
              </a:rPr>
              <a:t>五、监考机主要功能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收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功能：强制收取选定考试机试卷，并中止相应考生考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一般用于网络交卷失败时（考试机已退出考试，无收卷状态），补收考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若多次收卷，则以最后一次交卷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新版对收到的包，进行检测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“交卷”列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显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红色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×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示错包 ，可再次收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文件格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准考证号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场次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机房名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_IP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地址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生成日期时间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_net.z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rId1" action="ppaction://hlinksldjump"/>
          </p:cNvPr>
          <p:cNvSpPr/>
          <p:nvPr/>
        </p:nvSpPr>
        <p:spPr>
          <a:xfrm>
            <a:off x="7086600" y="617220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E2CA-34C9-429C-8B90-426EA13F8A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21304"/>
                </a:solidFill>
                <a:latin typeface="隶书"/>
                <a:ea typeface="隶书"/>
              </a:rPr>
              <a:t>五、监考机主要功能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95280" y="175212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查询答卷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功能：检查每场考试收包情况，并提供答卷包的导入导出。确保每位考生都有正确的答卷包（新版不再按场次打包生成上报文件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注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导入导出答卷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考试信息（日志）维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rId1" action="ppaction://hlinksldjump"/>
          </p:cNvPr>
          <p:cNvSpPr/>
          <p:nvPr/>
        </p:nvSpPr>
        <p:spPr>
          <a:xfrm>
            <a:off x="6934320" y="5791320"/>
            <a:ext cx="609480" cy="30456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90AE-3283-4B47-9681-C702EE82D0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21304"/>
                </a:solidFill>
                <a:latin typeface="隶书"/>
                <a:ea typeface="隶书"/>
              </a:rPr>
              <a:t>五、监考机主要功能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95280" y="175212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1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上报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考试结果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功能：将本机所有场次的考生答卷包导出到指定位置，以便与其他考场卷包合并刻录光盘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34320" y="5791320"/>
            <a:ext cx="609480" cy="30456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C9B2-76F7-4E8B-BA38-3A194D4F1BF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21304"/>
                </a:solidFill>
                <a:latin typeface="隶书"/>
                <a:ea typeface="隶书"/>
              </a:rPr>
              <a:t>一、考试系统简介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467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系统基于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WINDOWS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平台，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C/S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结构，分监考机和考试机两部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主要特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保密性好：试卷、答卷加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容错性强：联网考试、离线考试；防误操作；异常处理功能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操作直观：界面友好，与考试过程一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通用性强：兼顾考试与练习；可指定考卷也可随机出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38EE-90F8-4920-B116-D2765386EE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21304"/>
                </a:solidFill>
                <a:latin typeface="隶书"/>
                <a:ea typeface="隶书"/>
              </a:rPr>
              <a:t>五、监考机主要功能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95280" y="175212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2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验证上报光盘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功能：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验证光盘介质的完好性，与报名库比较检测无考生答案（缺考）和错误准考证号，并生成报告文件（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EXCEL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文件格式，输出存放在“等级考试目录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\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临时目录”中）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注：修改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报告文件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形成缺考记录汇总表，标注“缺考”、“错号”、“丢包”等标志，签字报考试中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934320" y="5791320"/>
            <a:ext cx="609480" cy="30456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3B41-EF5C-40E7-A0A3-F9CC049CEED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21304"/>
                </a:solidFill>
                <a:latin typeface="隶书"/>
                <a:ea typeface="隶书"/>
              </a:rPr>
              <a:t>五、监考机主要功能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95280" y="175212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2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其它辅助功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刷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发送消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时间管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换机考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远程控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934320" y="5791320"/>
            <a:ext cx="609480" cy="30456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22EA-5E70-4BE0-A7DC-DE1B2161051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93356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21304"/>
                </a:solidFill>
                <a:latin typeface="隶书"/>
                <a:ea typeface="隶书"/>
              </a:rPr>
              <a:t>六、考试机主要功能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1948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47920" y="1752480"/>
            <a:ext cx="4114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登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功能：校验准考证，试卷密码，进入考试系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>
            <a:hlinkClick r:id="rId1" action="ppaction://hlinksldjump"/>
          </p:cNvPr>
          <p:cNvSpPr/>
          <p:nvPr/>
        </p:nvSpPr>
        <p:spPr>
          <a:xfrm>
            <a:off x="7010280" y="6019920"/>
            <a:ext cx="609840" cy="30456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26" h="21600">
                <a:moveTo>
                  <a:pt x="0" y="0"/>
                </a:moveTo>
                <a:lnTo>
                  <a:pt x="43226" y="0"/>
                </a:lnTo>
                <a:lnTo>
                  <a:pt x="43226" y="21600"/>
                </a:lnTo>
                <a:lnTo>
                  <a:pt x="0" y="21600"/>
                </a:lnTo>
                <a:close/>
              </a:path>
              <a:path fill="lightenLess" w="43226" h="21600">
                <a:moveTo>
                  <a:pt x="0" y="0"/>
                </a:moveTo>
                <a:lnTo>
                  <a:pt x="43226" y="0"/>
                </a:lnTo>
                <a:lnTo>
                  <a:pt x="41826" y="1400"/>
                </a:lnTo>
                <a:lnTo>
                  <a:pt x="1400" y="1400"/>
                </a:lnTo>
                <a:close/>
              </a:path>
              <a:path fill="darken" w="43226" h="21600">
                <a:moveTo>
                  <a:pt x="43226" y="0"/>
                </a:moveTo>
                <a:lnTo>
                  <a:pt x="43226" y="21600"/>
                </a:lnTo>
                <a:lnTo>
                  <a:pt x="41826" y="20200"/>
                </a:lnTo>
                <a:lnTo>
                  <a:pt x="41826" y="1400"/>
                </a:lnTo>
                <a:close/>
              </a:path>
              <a:path fill="darkenLess" w="43226" h="21600">
                <a:moveTo>
                  <a:pt x="432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26" y="20200"/>
                </a:lnTo>
                <a:close/>
              </a:path>
              <a:path fill="lighten" w="432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26" h="21600">
                <a:moveTo>
                  <a:pt x="14606" y="3794"/>
                </a:moveTo>
                <a:lnTo>
                  <a:pt x="28619" y="10800"/>
                </a:lnTo>
                <a:lnTo>
                  <a:pt x="14606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1464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34120" y="1981080"/>
            <a:ext cx="3419280" cy="19558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295280" y="3809880"/>
            <a:ext cx="7162920" cy="20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报名库为空时，准考证、姓名由考生输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限制交卷后，考生自行登录考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限制同一准考证，多考试机登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网络故障时，也可考试（脱机考试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ACE3-8F08-417A-95EB-28F53544B4C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93356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21304"/>
                </a:solidFill>
                <a:latin typeface="隶书"/>
                <a:ea typeface="隶书"/>
              </a:rPr>
              <a:t>六、考试机主要功能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1948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276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考试界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隐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查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提供“疑问”、放弃答案功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选答题应答满规定的题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操作题自行启动相应软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双击“考生文件夹”打开素材文件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34320" y="5791320"/>
            <a:ext cx="609480" cy="30456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40048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114800" y="1828800"/>
            <a:ext cx="472428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5B76-6DE4-4786-838D-A1F18A3B73F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93356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21304"/>
                </a:solidFill>
                <a:latin typeface="隶书"/>
                <a:ea typeface="隶书"/>
              </a:rPr>
              <a:t>六、考试机主要功能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31948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239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交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功能：实现网络交卷、软盘交卷及本地备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考试时间剩余两分钟时，提示考生保存文件交卷。时间到，考试系统最后再给两分钟，时间到，将自动交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应保存并退出相应软件后交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答卷包不完整（无理论题、理论题库坏），则不进行上传，并在考试机、监考机显示“生成答卷包失败”信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网络故障时，将放弃网络交卷，事后可通过考试机“监考”的导出功能交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文件格式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准考证号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单机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机房名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_IP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地址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生成日期时间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_net.zi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准考证号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场次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机房名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_IP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地址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生成日期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间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_disk.zip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20120" y="5791320"/>
            <a:ext cx="609480" cy="30456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BB5D-3361-44C6-B5A1-06CF5532DB1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93356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21304"/>
                </a:solidFill>
                <a:latin typeface="隶书"/>
                <a:ea typeface="隶书"/>
              </a:rPr>
              <a:t>六、考试机主要功能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1948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447920" y="17524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监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清空环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导入素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延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换机导入、导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续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交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导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934320" y="5791320"/>
            <a:ext cx="609480" cy="30456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9FE1-12D0-4EB4-97DE-15EEA3BDB32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21304"/>
                </a:solidFill>
                <a:latin typeface="隶书"/>
                <a:ea typeface="隶书"/>
              </a:rPr>
              <a:t>七、异常处理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7920" y="17524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联网失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登录失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死机恢复考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同考场换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跨考场换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单机考试，答卷汇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跨场次考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文件打开为只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F85D-E73B-4B91-81F5-8137F8B0A6A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320" y="838080"/>
            <a:ext cx="2133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隶书"/>
                <a:ea typeface="隶书"/>
              </a:rPr>
              <a:t>结束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65" name="handshake" descr=""/>
          <p:cNvPicPr/>
          <p:nvPr/>
        </p:nvPicPr>
        <p:blipFill>
          <a:blip r:embed="rId1"/>
          <a:stretch/>
        </p:blipFill>
        <p:spPr>
          <a:xfrm>
            <a:off x="3505320" y="3200400"/>
            <a:ext cx="1904760" cy="14288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6006240" y="4343400"/>
            <a:ext cx="188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谢谢　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00200" y="1905120"/>
            <a:ext cx="655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系统中难免存在不足之处，望提出宝贵意见，以便更好地为您服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4A3C-CB8D-4780-AFF1-AE06575DDC3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21304"/>
                </a:solidFill>
                <a:latin typeface="隶书"/>
                <a:ea typeface="隶书"/>
              </a:rPr>
              <a:t>一、考试系统简介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支持平台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硬件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PII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以上，内存建议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28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以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软件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windows2000/XP,Office2000/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A783-7798-4E8D-A7F1-F408D31BCE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21304"/>
                </a:solidFill>
                <a:latin typeface="隶书"/>
                <a:ea typeface="隶书"/>
              </a:rPr>
              <a:t>二、考试工作流程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95280" y="2286000"/>
            <a:ext cx="6782040" cy="3733920"/>
            <a:chOff x="1295280" y="2286000"/>
            <a:chExt cx="6782040" cy="3733920"/>
          </a:xfrm>
        </p:grpSpPr>
        <p:sp>
          <p:nvSpPr>
            <p:cNvPr id="98" name=""/>
            <p:cNvSpPr/>
            <p:nvPr/>
          </p:nvSpPr>
          <p:spPr>
            <a:xfrm>
              <a:off x="4114800" y="2286000"/>
              <a:ext cx="3886200" cy="3733920"/>
            </a:xfrm>
            <a:prstGeom prst="rect">
              <a:avLst/>
            </a:prstGeom>
            <a:solidFill>
              <a:srgbClr val="eeeeee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5280" y="2819520"/>
              <a:ext cx="914400" cy="198108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考试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中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67080" y="2895480"/>
              <a:ext cx="990720" cy="182880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监考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0800" y="2895480"/>
              <a:ext cx="990720" cy="182880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考试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86000" y="312408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362320" y="2743200"/>
              <a:ext cx="1523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试卷包（密码）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86000" y="358128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362320" y="3276720"/>
              <a:ext cx="1523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考试卷（试卷密码）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86000" y="396252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62320" y="3657600"/>
              <a:ext cx="1523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空光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2209320" y="457200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62320" y="4191120"/>
              <a:ext cx="1523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上报答案光盘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考场缺考记录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57800" y="32767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57800" y="43434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5257440" y="38862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10080" y="2971800"/>
              <a:ext cx="83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分发试卷包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10080" y="4419720"/>
              <a:ext cx="8384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分发报名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10080" y="3505320"/>
              <a:ext cx="8384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交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67080" y="5181480"/>
              <a:ext cx="99072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报名系统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4724280" y="47242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00600" y="4800600"/>
              <a:ext cx="838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报名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038480" y="4191120"/>
              <a:ext cx="2895840" cy="17524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86600" y="5410080"/>
              <a:ext cx="990720" cy="533520"/>
            </a:xfrm>
            <a:prstGeom prst="cloudCallout">
              <a:avLst>
                <a:gd name="adj1" fmla="val -64263"/>
                <a:gd name="adj2" fmla="val -9672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选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8569-FB62-48E2-8619-FFC86517A7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21304"/>
                </a:solidFill>
                <a:latin typeface="隶书"/>
                <a:ea typeface="隶书"/>
              </a:rPr>
              <a:t>三、系统安装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注意事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使用固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IP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地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一般一台监考机管理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台考试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对于硬盘保护的，需指定可写逻辑硬盘（参数文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ath.ini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自启动安装光盘上的自述中，提供了安装文件的路径（可网络传输、自行安装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防火墙、杀毒软件要正确设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05AF-8B4E-477A-8BC0-490F469CC3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66680" y="1676520"/>
            <a:ext cx="7010640" cy="144756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3356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6094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21304"/>
                </a:solidFill>
                <a:latin typeface="隶书"/>
                <a:ea typeface="隶书"/>
              </a:rPr>
              <a:t>四、考试系统操作流程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2209680"/>
            <a:ext cx="990360" cy="3812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初始化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2438280"/>
            <a:ext cx="1295280" cy="3812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机器清单设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90920" y="1905120"/>
            <a:ext cx="129528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参数设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43400" y="2209680"/>
            <a:ext cx="1143000" cy="3812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导入试卷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43400" y="2743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60066"/>
                </a:solidFill>
                <a:uFillTx/>
                <a:latin typeface="Times New Roman"/>
                <a:hlinkClick r:id="rId4" action="ppaction://hlinksldjump"/>
              </a:rPr>
              <a:t>导入报名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943600" y="2743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60066"/>
                </a:solidFill>
                <a:uFillTx/>
                <a:latin typeface="Times New Roman"/>
                <a:hlinkClick r:id="rId5" action="ppaction://hlinksldjump"/>
              </a:rPr>
              <a:t>分发报名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943600" y="2209680"/>
            <a:ext cx="1143000" cy="3812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分发试卷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943600" y="3581280"/>
            <a:ext cx="1143000" cy="3812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换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4114800"/>
            <a:ext cx="114300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延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4648320"/>
            <a:ext cx="114300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其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67480" y="4114800"/>
            <a:ext cx="99072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60066"/>
                </a:solidFill>
                <a:uFillTx/>
                <a:latin typeface="Times New Roman"/>
                <a:hlinkClick r:id="rId6" action="ppaction://hlinksldjump"/>
              </a:rPr>
              <a:t>登录考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33720" y="3581280"/>
            <a:ext cx="1295280" cy="3812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导出答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4114800"/>
            <a:ext cx="129528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导入答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33720" y="4648320"/>
            <a:ext cx="129528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考试信息维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00600" y="4114800"/>
            <a:ext cx="76212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0066"/>
                </a:solidFill>
                <a:uFillTx/>
                <a:latin typeface="Times New Roman"/>
                <a:hlinkClick r:id="rId7" action="ppaction://hlinksldjump"/>
              </a:rPr>
              <a:t>交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5638680"/>
            <a:ext cx="990720" cy="3812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0066"/>
                </a:solidFill>
                <a:uFillTx/>
                <a:latin typeface="Times New Roman"/>
                <a:hlinkClick r:id="rId8" action="ppaction://hlinksldjump"/>
              </a:rPr>
              <a:t>上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5486400"/>
            <a:ext cx="1371600" cy="6094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刻录光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3828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21337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38280" y="2666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03848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86200" y="2133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86200" y="2666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09680" y="2362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86600" y="2362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077320" y="23623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38880" y="37339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86600" y="3733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86600" y="4267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86600" y="4800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3888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4343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91320" y="4800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6272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81280" y="38098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267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4876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9568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81080" y="38098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81080" y="3809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81080" y="43434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81080" y="4876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7180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9880" y="4114800"/>
            <a:ext cx="76212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0066"/>
                </a:solidFill>
                <a:uFillTx/>
                <a:latin typeface="Times New Roman"/>
                <a:hlinkClick r:id="rId9" action="ppaction://hlinksldjump"/>
              </a:rPr>
              <a:t>清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76520" y="43434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4343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5791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91120" y="3352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91120" y="335268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72400" y="3352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33920" y="3048120"/>
            <a:ext cx="4952880" cy="2438280"/>
          </a:xfrm>
          <a:prstGeom prst="ellipse">
            <a:avLst/>
          </a:prstGeom>
          <a:noFill/>
          <a:ln w="9360">
            <a:solidFill>
              <a:srgbClr val="000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71600" y="3048120"/>
            <a:ext cx="2362320" cy="3352680"/>
          </a:xfrm>
          <a:prstGeom prst="ellipse">
            <a:avLst/>
          </a:prstGeom>
          <a:noFill/>
          <a:ln w="9360">
            <a:solidFill>
              <a:srgbClr val="00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5638680"/>
            <a:ext cx="1828800" cy="381240"/>
          </a:xfrm>
          <a:prstGeom prst="wedgeRectCallout">
            <a:avLst>
              <a:gd name="adj1" fmla="val -39148"/>
              <a:gd name="adj2" fmla="val -9208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考试过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1219320"/>
            <a:ext cx="1752840" cy="533160"/>
          </a:xfrm>
          <a:prstGeom prst="wedgeRectCallout">
            <a:avLst>
              <a:gd name="adj1" fmla="val -37861"/>
              <a:gd name="adj2" fmla="val 785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考前准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3048120"/>
            <a:ext cx="1218960" cy="457200"/>
          </a:xfrm>
          <a:prstGeom prst="wedgeRectCallout">
            <a:avLst>
              <a:gd name="adj1" fmla="val -3643"/>
              <a:gd name="adj2" fmla="val 1090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查询上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67480" y="4648320"/>
            <a:ext cx="1067040" cy="3373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考试界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9880" y="4648320"/>
            <a:ext cx="1067040" cy="3373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收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52880" y="5562720"/>
            <a:ext cx="1219320" cy="53316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校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48320" y="57913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864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FDA8-FF2E-48B5-AF36-5F8854A73C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21304"/>
                </a:solidFill>
                <a:latin typeface="隶书"/>
                <a:ea typeface="隶书"/>
              </a:rPr>
              <a:t>四、考试系统操作流程－交卷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104920" y="1752480"/>
          <a:ext cx="55422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4920" y="1752480"/>
                    <a:ext cx="55422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9E0A-4E59-4A11-B9E1-040FF16D70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21304"/>
                </a:solidFill>
                <a:latin typeface="隶书"/>
                <a:ea typeface="隶书"/>
              </a:rPr>
              <a:t>五、监考机主要功能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5" name="">
            <a:hlinkClick r:id="rId1" action="ppaction://hlinksldjump"/>
          </p:cNvPr>
          <p:cNvSpPr/>
          <p:nvPr/>
        </p:nvSpPr>
        <p:spPr>
          <a:xfrm>
            <a:off x="7086600" y="60958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386080" y="19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600200" y="1676520"/>
            <a:ext cx="6629400" cy="39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46D8-3815-40BF-A024-7AD4279961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21304"/>
                </a:solidFill>
                <a:latin typeface="隶书"/>
                <a:ea typeface="隶书"/>
              </a:rPr>
              <a:t>五、监考机主要功能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95280" y="205704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初始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功能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清空监考机、考试机考试环境（包括试卷、报名库、考生答案等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准备工作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打开监考机及所有考试机，并处于联机状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调整好监考机时间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时间同步功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初始化密码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34320" y="5791320"/>
            <a:ext cx="609480" cy="30456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6D0D-58C0-4658-9DA0-2C1B4C9FA6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0:58:15Z</dcterms:created>
  <dc:creator>user2</dc:creator>
  <dc:description/>
  <dc:language>en-US</dc:language>
  <cp:lastModifiedBy>User</cp:lastModifiedBy>
  <dcterms:modified xsi:type="dcterms:W3CDTF">2010-06-20T10:08:37Z</dcterms:modified>
  <cp:revision>57</cp:revision>
  <dc:subject/>
  <dc:title>PowerPoint 演示文稿</dc:title>
</cp:coreProperties>
</file>