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AD18-9320-4A22-98F8-F4838DE8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A62-B55F-45D3-A801-5A38A378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5F8F-C06B-44F6-AB08-149645AA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5DAE-51D8-415E-A4EE-F76DA605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79B7-93A7-4F40-98CF-AE5416F1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CC3F-77C6-419C-9546-7A5EA6C0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9A63B-6233-4460-81CE-26F28A2AE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8ADB6-AB96-43F3-B958-D065582A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55B8-67C1-4FAE-971F-3050837EB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C1BC-E41C-4C70-BB2B-4AF74E1C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02960-7B8D-449D-A69E-7CDEB8D6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C52-296A-40C8-8D40-48303438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BD8BB-F4DC-4BB7-B095-0B1E08D78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F602-4AEF-44A0-BF36-E50D0625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814F-570E-4A6B-B3B4-15C53E9B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6843-F7CF-4759-AE43-97DEE60A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8972-CD36-499A-B368-6086A8CE9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06A25-F778-48A7-85D4-6487417EB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76FC-758A-4AD8-9E73-3F25A761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86725-C979-4EBD-B56E-27933AA8F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5EC10-6115-4642-9651-3DD16585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5DCA-4726-4647-8EC2-B90F8C958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B37-60DB-4B02-B700-46AB6EC7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CDB02-E9C4-47EF-80DE-BEEE7D75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B5EC-11A6-4449-A4BD-63520923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4A893-46FA-423D-B022-0B0631B4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134E-B211-4139-A007-FD6E9C6F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3616-C82B-4B3A-A2FE-DE2CA2AE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4BBC0-51DF-4B39-95C3-D530E9E97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11D2-1466-48F3-90D4-30021638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B383-622E-46EA-8F04-EF3D557DE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5603-8195-4230-9611-C3EE63D0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673-082C-4352-B3F8-EB4108E8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BC75-B328-4D8D-A93F-A8634F5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A4F-192A-47F9-BFE2-FAC76D16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11DA-3E9B-4064-B3D7-12ECA0D1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804B-0221-4120-A599-6BA77C9CC9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E54A-918F-4565-8941-1EC33056D3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88F0-A46C-441D-B23C-112F10FCE35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5" descr="F:\360同步盘\新云盘\工作文件（勿删）\A  我的工作台\PS插件\PS率剪\设计\安装教程图\p1.jpgp1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图片 5" descr="F:\360同步盘\新云盘\工作文件（勿删）\A  我的工作台\PS插件\PS率剪\设计\安装教程图\p10.jpgp10"/>
          <p:cNvPicPr/>
          <p:nvPr/>
        </p:nvPicPr>
        <p:blipFill>
          <a:blip r:embed="rId1"/>
          <a:stretch/>
        </p:blipFill>
        <p:spPr>
          <a:xfrm>
            <a:off x="-14400" y="-7920"/>
            <a:ext cx="1220796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5" descr="F:\360同步盘\新云盘\工作文件（勿删）\A  我的工作台\PS插件\PS率剪\设计\安装教程图\p10-1.jpgp10-1"/>
          <p:cNvPicPr/>
          <p:nvPr/>
        </p:nvPicPr>
        <p:blipFill>
          <a:blip r:embed="rId1"/>
          <a:stretch/>
        </p:blipFill>
        <p:spPr>
          <a:xfrm>
            <a:off x="-14400" y="-7920"/>
            <a:ext cx="1220796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图片 5" descr="F:\360同步盘\新云盘\工作文件（勿删）\A  我的工作台\PS插件\PS率剪\设计\安装教程图\p11-使用教程.jpgp11-使用教程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5" descr="F:\360同步盘\新云盘\工作文件（勿删）\A  我的工作台\PS插件\PS率剪\设计\安装教程图\p12.jpgp12"/>
          <p:cNvPicPr/>
          <p:nvPr/>
        </p:nvPicPr>
        <p:blipFill>
          <a:blip r:embed="rId1"/>
          <a:stretch/>
        </p:blipFill>
        <p:spPr>
          <a:xfrm>
            <a:off x="-9360" y="-468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5" descr="F:\360同步盘\新云盘\工作文件（勿删）\A  我的工作台\PS插件\PS率剪\设计\安装教程图\p13.jpgp13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图片 5" descr="F:\360同步盘\新云盘\工作文件（勿删）\A  我的工作台\PS插件\PS率剪\设计\安装教程图\p14.jpgp14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5" descr="F:\360同步盘\新云盘\工作文件（勿删）\A  我的工作台\PS插件\PS率剪\设计\安装教程图\p15.jpgp15"/>
          <p:cNvPicPr/>
          <p:nvPr/>
        </p:nvPicPr>
        <p:blipFill>
          <a:blip r:embed="rId1"/>
          <a:stretch/>
        </p:blipFill>
        <p:spPr>
          <a:xfrm>
            <a:off x="-14400" y="-7920"/>
            <a:ext cx="1220796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5" descr="F:\360同步盘\新云盘\工作文件（勿删）\A  我的工作台\PS插件\PS率剪\设计\安装教程图\p16.jpgp16"/>
          <p:cNvPicPr/>
          <p:nvPr/>
        </p:nvPicPr>
        <p:blipFill>
          <a:blip r:embed="rId1"/>
          <a:stretch/>
        </p:blipFill>
        <p:spPr>
          <a:xfrm>
            <a:off x="-15840" y="-7920"/>
            <a:ext cx="1220940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5" descr="F:\360同步盘\新云盘\工作文件（勿删）\A  我的工作台\PS插件\PS率剪\设计\安装教程图\p2.jpgp2"/>
          <p:cNvPicPr/>
          <p:nvPr/>
        </p:nvPicPr>
        <p:blipFill>
          <a:blip r:embed="rId1"/>
          <a:stretch/>
        </p:blipFill>
        <p:spPr>
          <a:xfrm>
            <a:off x="-9360" y="-468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5" descr="F:\360同步盘\新云盘\工作文件（勿删）\A  我的工作台\PS插件\PS率剪\设计\安装教程图\p3-安装教程.jpgp3-安装教程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图片 5" descr="F:\360同步盘\新云盘\工作文件（勿删）\A  我的工作台\PS插件\PS率剪\设计\安装教程图\p4.jpgp4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5" descr="F:\360同步盘\新云盘\工作文件（勿删）\A  我的工作台\PS插件\PS率剪\设计\安装教程图\p5.jpgp5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5" descr="F:\360同步盘\新云盘\工作文件（勿删）\A  我的工作台\PS插件\PS率剪\设计\安装教程图\p6.jpgp6"/>
          <p:cNvPicPr/>
          <p:nvPr/>
        </p:nvPicPr>
        <p:blipFill>
          <a:blip r:embed="rId1"/>
          <a:stretch/>
        </p:blipFill>
        <p:spPr>
          <a:xfrm>
            <a:off x="-9360" y="-468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5" descr="F:\360同步盘\新云盘\工作文件（勿删）\A  我的工作台\PS插件\PS率剪\设计\安装教程图\p7.jpgp7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图片 5" descr="F:\360同步盘\新云盘\工作文件（勿删）\A  我的工作台\PS插件\PS率剪\设计\安装教程图\p8.jpgp8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5" descr="F:\360同步盘\新云盘\工作文件（勿删）\A  我的工作台\PS插件\PS率剪\设计\安装教程图\p9.jpgp9"/>
          <p:cNvPicPr/>
          <p:nvPr/>
        </p:nvPicPr>
        <p:blipFill>
          <a:blip r:embed="rId1"/>
          <a:stretch/>
        </p:blipFill>
        <p:spPr>
          <a:xfrm>
            <a:off x="-15840" y="-7920"/>
            <a:ext cx="12210840" cy="6867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1T16:31:26Z</dcterms:created>
  <dc:creator>afu iam</dc:creator>
  <dc:description/>
  <dc:language>en-US</dc:language>
  <cp:lastModifiedBy>Administrator</cp:lastModifiedBy>
  <dcterms:modified xsi:type="dcterms:W3CDTF">2020-03-01T19:16:44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141</vt:lpwstr>
  </property>
</Properties>
</file>