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861840" y="441000"/>
            <a:ext cx="5275440" cy="395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82320" y="8871120"/>
            <a:ext cx="878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EB0E5-32A3-4196-8212-A9F6C28D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83720" y="4768560"/>
            <a:ext cx="5480280" cy="39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61840" y="441360"/>
            <a:ext cx="5275440" cy="39560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82280" y="4768560"/>
            <a:ext cx="5481720" cy="39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58760" y="4403880"/>
            <a:ext cx="6984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1400" bIns="414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53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00000" y="151416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06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53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00000" y="4099680"/>
            <a:ext cx="242532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880" y="0"/>
            <a:ext cx="50832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6280" y="409968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6280" y="1514160"/>
            <a:ext cx="367596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06000" y="4099680"/>
            <a:ext cx="7533000" cy="2360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4920" indent="-35244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7360" indent="-2383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43200" indent="-17172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9000" y="1165320"/>
            <a:ext cx="636480" cy="5325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58760" y="141120"/>
            <a:ext cx="12556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779040" y="6416640"/>
            <a:ext cx="7061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07 CPAC Straw Poll Result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ch 1-3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05000" y="6607800"/>
            <a:ext cx="914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09D51AD5-8C3B-4513-8395-6E2B2AF12DE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485120" y="181080"/>
          <a:ext cx="1380960" cy="112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85120" y="181080"/>
                    <a:ext cx="13809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9880" y="254160"/>
            <a:ext cx="744840" cy="6292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86640" y="6410160"/>
            <a:ext cx="6418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b">
            <a:spAutoFit/>
          </a:bodyPr>
          <a:p>
            <a:pPr algn="r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495CB07C-8AAF-4E10-BAB9-653AAC28D40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330200" y="173160"/>
            <a:ext cx="2435400" cy="201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02200" y="888480"/>
            <a:ext cx="49276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lnSpc>
                <a:spcPct val="90000"/>
              </a:lnSpc>
              <a:spcBef>
                <a:spcPts val="2024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4001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363680" y="3019320"/>
          <a:ext cx="7418520" cy="81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3680" y="3019320"/>
                    <a:ext cx="74185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01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40014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57240" algn="ctr">
              <a:lnSpc>
                <a:spcPct val="92000"/>
              </a:lnSpc>
              <a:spcAft>
                <a:spcPts val="901"/>
              </a:spcAft>
              <a:buClr>
                <a:srgbClr val="a4001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1080" indent="237960" algn="ctr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3520" indent="237960" algn="ctr">
              <a:lnSpc>
                <a:spcPct val="90000"/>
              </a:lnSpc>
              <a:spcAft>
                <a:spcPts val="901"/>
              </a:spcAft>
              <a:buClr>
                <a:srgbClr val="0023a0"/>
              </a:buClr>
              <a:buSzPct val="9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5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  <a:p>
            <a:pPr lvl="6" marL="1433520" indent="2379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3a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23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45680" y="4406760"/>
            <a:ext cx="7410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14"/>
                </a:solidFill>
                <a:latin typeface="Baskerville Old Face"/>
              </a:rPr>
              <a:t>March 1-3, 2007</a:t>
            </a:r>
            <a:endParaRPr b="0" lang="en-US" sz="32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8080" y="4992840"/>
            <a:ext cx="7449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0" bIns="46080" anchor="t">
            <a:sp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9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40014"/>
                </a:solidFill>
                <a:latin typeface="Baskerville Old Face"/>
              </a:rPr>
              <a:t>N =  1,705 CPAC Registra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459240" y="759960"/>
            <a:ext cx="4927680" cy="128124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2526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a40014"/>
                </a:solidFill>
                <a:latin typeface="Baskerville Old Face"/>
              </a:rPr>
              <a:t>CPAC Straw Poll Results</a:t>
            </a:r>
            <a:endParaRPr b="1" lang="en-US" sz="45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94720" y="6313320"/>
            <a:ext cx="44928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8480" y="129240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INDIVIDUAL FREEDOM AND REDUCE SIZE OF GOV’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8480" y="1407960"/>
            <a:ext cx="63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TRADITION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41320" y="2192400"/>
          <a:ext cx="8898120" cy="41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2192400"/>
                    <a:ext cx="88981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2360" y="140796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NG SECURE AND GUARANTE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96800" y="15192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Now from the same list – who would be your SECOND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776200" y="6149880"/>
            <a:ext cx="329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less than 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COMBO 1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st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and 2</a:t>
            </a:r>
            <a:r>
              <a:rPr b="1" lang="en-US" sz="2400" spc="-1" strike="noStrike" baseline="30000">
                <a:solidFill>
                  <a:srgbClr val="a40014"/>
                </a:solidFill>
                <a:latin typeface="Baskerville Old Face"/>
              </a:rPr>
              <a:t>nd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Choice – </a:t>
            </a:r>
            <a:br>
              <a:rPr sz="2400"/>
            </a:b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Republican Nominee for President in 2000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6000" y="1481040"/>
          <a:ext cx="808992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81040"/>
                    <a:ext cx="808992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5160" y="58341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&amp; 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hoice Comb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35240" y="1030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Type of Registrant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4760" y="450720"/>
          <a:ext cx="9855360" cy="664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" y="450720"/>
                    <a:ext cx="9855360" cy="664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Age</a:t>
            </a: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46000" y="1407960"/>
          <a:ext cx="8205840" cy="474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6000" y="1407960"/>
                    <a:ext cx="820584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2520" y="252000"/>
            <a:ext cx="6008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a40014"/>
                </a:solidFill>
                <a:uFillTx/>
                <a:latin typeface="Baskerville Old Face"/>
              </a:rPr>
              <a:t>Gender</a:t>
            </a:r>
            <a:endParaRPr b="1" lang="en-US" sz="35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-517680" y="162000"/>
          <a:ext cx="10623600" cy="66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17680" y="162000"/>
                    <a:ext cx="1062360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53248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40014"/>
                </a:solidFill>
                <a:latin typeface="Arial"/>
              </a:rPr>
              <a:t>Key Points About Straw Poll</a:t>
            </a:r>
            <a:endParaRPr b="1" lang="en-US" sz="30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06000" y="1514160"/>
            <a:ext cx="75330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s collected from Thursday morning through Friday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registrants could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05 ballots represents the largest straw poll in CPAC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36% increase in ballots from CPAC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751"/>
              </a:spcAft>
              <a:buClr>
                <a:srgbClr val="a400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 States plus DC represented in the 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6800" y="252000"/>
            <a:ext cx="609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In your opinion, why did the Republicans suffer the losses they did in last November’s elections? Was it because of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73000" y="1582560"/>
          <a:ext cx="808056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3000" y="1582560"/>
                    <a:ext cx="80805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50832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Do you favor or oppose sending an additional 20,000 troops to Iraq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214488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ongly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820960"/>
            <a:ext cx="31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what F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25640" y="19573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19573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f the following comes closest to your opinion regarding America's foreign polic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200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074600" y="1363680"/>
          <a:ext cx="931716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600" y="1363680"/>
                    <a:ext cx="931716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704960" y="200160"/>
            <a:ext cx="54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How important is it for the next Republican nominee to focus on each of the following issu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All things being equal, would you be MOST likely to support a Republican candidate for President who called themselves a…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90440" y="1692360"/>
          <a:ext cx="8082000" cy="45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0440" y="1692360"/>
                    <a:ext cx="8082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543040" y="2593800"/>
            <a:ext cx="34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nald Reagan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75080" y="4083120"/>
            <a:ext cx="35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W. Bush Republ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7480" y="137880"/>
            <a:ext cx="6141960" cy="129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Which ONE of the following comes closest to your core beliefs and ideology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089000" y="1436760"/>
          <a:ext cx="8128080" cy="507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9000" y="1436760"/>
                    <a:ext cx="81280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2760" y="151920"/>
            <a:ext cx="609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0014"/>
                </a:solidFill>
                <a:latin typeface="Baskerville Old Face"/>
              </a:rPr>
              <a:t>From the following list – who would be your FIRST choice to be the Republican Nominee for President in 2008? </a:t>
            </a:r>
            <a:endParaRPr b="1" lang="en-US" sz="2400" spc="-1" strike="noStrike">
              <a:solidFill>
                <a:srgbClr val="a40014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41320" y="1481040"/>
          <a:ext cx="8898120" cy="483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320" y="1481040"/>
                    <a:ext cx="88981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864760" y="614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*All others tested received 5% or 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7T14:40:52Z</dcterms:created>
  <dc:creator> </dc:creator>
  <dc:description/>
  <cp:keywords/>
  <dc:language>en-US</dc:language>
  <cp:lastModifiedBy>davidl</cp:lastModifiedBy>
  <cp:lastPrinted>2000-03-26T19:33:06Z</cp:lastPrinted>
  <dcterms:modified xsi:type="dcterms:W3CDTF">2007-03-03T18:07:31Z</dcterms:modified>
  <cp:revision>532</cp:revision>
  <dc:subject/>
  <dc:title>Presentation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