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D722-B209-48D5-9517-F46EC7AE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purpose was to support the development of the PHIA program, practical not research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reated the questions, modified them based on feedback from the ACHD Training committee and the PHIA steer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t it relatively short, aiming for 5-10 minutes to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D6F-CD6E-416E-96D2-D81473D2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000-37B4-4BF3-B7B1-BACC2BB9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C5A-40A8-43A9-8686-014A448E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5AE-91D5-4D1B-899E-ED0428D5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01EA-8949-48A8-B735-1D033686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2699-94C3-4A64-BB41-14C6907D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0A94-D7BD-4834-BAFF-93DE20FA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B399-AB51-4D3D-B113-94047104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C233-3BDE-4878-BCB1-15A89DB5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F35E-355E-47D6-B5F4-931D2E2A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AB75-F6F6-4B5B-9ECF-7133E0F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98E-D423-48AD-B6CE-EF61BFD2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951D-8316-404B-9F57-B4BE70FC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DF77-9F11-4A1D-A470-C85A842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5AC4-6A5C-4942-BB8C-61F6C0D7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68F3-DA5F-4424-86BE-B014B4C9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5716-E465-43DC-AE84-AD978021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8C9-8AC2-44E1-B78E-7616CD73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4E3-1752-44C8-A65D-59197AD4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E21-9874-4C16-84C4-B2785DA6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80A-83D7-4F89-9A7C-E9573E40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340-ADDC-421A-AFF4-A87BEFF2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9EA-0E66-47C2-8E15-C7D2758C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2DC-BF46-46F6-95D8-F8569A70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4852-F8DE-42EB-879D-AC62FE6753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B643-0E6E-4C6C-A027-363C88872F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hsls.pitt.edu/phia/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folb@pitt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valuating and Addressing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e Information Needs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of an Urban Public Health Department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Through an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Academic Health Sciences Library Health Department Partnership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:  Barbara Folb, ML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ciences Library System, University of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235080"/>
          <a:ext cx="867420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86742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4876920" y="5181480"/>
            <a:ext cx="3809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U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1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use (1-10)     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 (11- )         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60280" y="149400"/>
          <a:ext cx="628668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9400"/>
                    <a:ext cx="628668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1" name=""/>
          <p:cNvGrpSpPr/>
          <p:nvPr/>
        </p:nvGrpSpPr>
        <p:grpSpPr>
          <a:xfrm>
            <a:off x="6781680" y="914400"/>
            <a:ext cx="2362320" cy="1572120"/>
            <a:chOff x="6781680" y="914400"/>
            <a:chExt cx="2362320" cy="1572120"/>
          </a:xfrm>
        </p:grpSpPr>
        <p:sp>
          <p:nvSpPr>
            <p:cNvPr id="242" name=""/>
            <p:cNvSpPr/>
            <p:nvPr/>
          </p:nvSpPr>
          <p:spPr>
            <a:xfrm>
              <a:off x="6781680" y="914400"/>
              <a:ext cx="23623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Maj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Subdivi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6781680" y="914400"/>
              <a:ext cx="492120" cy="1552680"/>
              <a:chOff x="6781680" y="914400"/>
              <a:chExt cx="492120" cy="1552680"/>
            </a:xfrm>
          </p:grpSpPr>
          <p:sp>
            <p:nvSpPr>
              <p:cNvPr id="244" name=""/>
              <p:cNvSpPr/>
              <p:nvPr/>
            </p:nvSpPr>
            <p:spPr>
              <a:xfrm>
                <a:off x="6781680" y="914400"/>
                <a:ext cx="457200" cy="3808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816600" y="2085840"/>
                <a:ext cx="457200" cy="3812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0"/>
          <a:ext cx="739152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7391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019920" y="5181480"/>
            <a:ext cx="2666880" cy="1326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confidence        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ate confidence 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onfidence        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b Sites Us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92120"/>
            <a:ext cx="403380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ies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/State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2640" y="3276360"/>
            <a:ext cx="40338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er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C Wo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47880" y="1981080"/>
            <a:ext cx="5448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number of web sites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umber of users per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228600" y="166680"/>
          <a:ext cx="5638680" cy="5943600"/>
        </p:xfrm>
        <a:graphic>
          <a:graphicData uri="http://schemas.openxmlformats.org/drawingml/2006/table">
            <a:tbl>
              <a:tblPr/>
              <a:tblGrid>
                <a:gridCol w="3382920"/>
                <a:gridCol w="2255760"/>
              </a:tblGrid>
              <a:tr h="614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s used more than 1/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TE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PON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95880" y="876240"/>
            <a:ext cx="2819520" cy="324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Gov A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Reg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Lit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Phone B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Data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72280" y="1438200"/>
            <a:ext cx="4111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2280" y="2038320"/>
            <a:ext cx="411120" cy="3524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72280" y="2597040"/>
            <a:ext cx="411120" cy="352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72280" y="3138480"/>
            <a:ext cx="411120" cy="352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72280" y="933480"/>
            <a:ext cx="411120" cy="35244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72280" y="3643200"/>
            <a:ext cx="41112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2496960" y="252360"/>
          <a:ext cx="6494760" cy="6386400"/>
        </p:xfrm>
        <a:graphic>
          <a:graphicData uri="http://schemas.openxmlformats.org/drawingml/2006/table">
            <a:tbl>
              <a:tblPr/>
              <a:tblGrid>
                <a:gridCol w="4832640"/>
                <a:gridCol w="16621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209520" y="766800"/>
            <a:ext cx="22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6-25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6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8120" y="142920"/>
          <a:ext cx="5486400" cy="6324480"/>
        </p:xfrm>
        <a:graphic>
          <a:graphicData uri="http://schemas.openxmlformats.org/drawingml/2006/table">
            <a:tbl>
              <a:tblPr/>
              <a:tblGrid>
                <a:gridCol w="4313160"/>
                <a:gridCol w="1173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457200" y="1222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s used 1-5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6320" y="2273400"/>
            <a:ext cx="2354040" cy="3241800"/>
            <a:chOff x="76320" y="2273400"/>
            <a:chExt cx="2354040" cy="3241800"/>
          </a:xfrm>
        </p:grpSpPr>
        <p:sp>
          <p:nvSpPr>
            <p:cNvPr id="279" name=""/>
            <p:cNvSpPr/>
            <p:nvPr/>
          </p:nvSpPr>
          <p:spPr>
            <a:xfrm>
              <a:off x="76320" y="22734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040" y="27957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040" y="32432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5040" y="37846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040" y="42386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040" y="22953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040" y="46623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3581280" y="176040"/>
          <a:ext cx="5257800" cy="6600960"/>
        </p:xfrm>
        <a:graphic>
          <a:graphicData uri="http://schemas.openxmlformats.org/drawingml/2006/table">
            <a:tbl>
              <a:tblPr/>
              <a:tblGrid>
                <a:gridCol w="4118040"/>
                <a:gridCol w="11397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>
            <a:off x="685800" y="115884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es Used 0/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8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CHD Information Environmen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00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ersed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 Room in one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20 print journal sub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es on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library privileges for ACHD/GSPH adjunct faculty (1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733920" y="103320"/>
          <a:ext cx="5029200" cy="6324480"/>
        </p:xfrm>
        <a:graphic>
          <a:graphicData uri="http://schemas.openxmlformats.org/drawingml/2006/table">
            <a:tbl>
              <a:tblPr/>
              <a:tblGrid>
                <a:gridCol w="3639960"/>
                <a:gridCol w="13892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Health Dep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ne Director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not 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l Regis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Bulle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C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 State Data Cen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x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b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 Cens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C Wo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F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ttC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685800" y="159696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tal, Any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20560" y="2784600"/>
            <a:ext cx="2354040" cy="3241800"/>
            <a:chOff x="520560" y="2784600"/>
            <a:chExt cx="2354040" cy="3241800"/>
          </a:xfrm>
        </p:grpSpPr>
        <p:sp>
          <p:nvSpPr>
            <p:cNvPr id="299" name=""/>
            <p:cNvSpPr/>
            <p:nvPr/>
          </p:nvSpPr>
          <p:spPr>
            <a:xfrm>
              <a:off x="520560" y="2784600"/>
              <a:ext cx="2354040" cy="324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th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Gov Agen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Reg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Lit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Phone B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Data Sour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9280" y="3306960"/>
              <a:ext cx="311400" cy="295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9280" y="3754440"/>
              <a:ext cx="311400" cy="293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280" y="4295880"/>
              <a:ext cx="311400" cy="2952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9280" y="4749840"/>
              <a:ext cx="311400" cy="295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9280" y="2806560"/>
              <a:ext cx="311400" cy="2955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9280" y="5173560"/>
              <a:ext cx="311400" cy="2955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arch Skill Self Rating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Selected web si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1523880"/>
                <a:gridCol w="838440"/>
                <a:gridCol w="990360"/>
                <a:gridCol w="1386000"/>
                <a:gridCol w="1103400"/>
                <a:gridCol w="1168200"/>
                <a:gridCol w="1219320"/>
              </a:tblGrid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D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nder (18)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med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ttcat (1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xnet (2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1066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Total who used the site, any amount/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et Content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772400" cy="3684600"/>
        </p:xfrm>
        <a:graphic>
          <a:graphicData uri="http://schemas.openxmlformats.org/drawingml/2006/table">
            <a:tbl>
              <a:tblPr/>
              <a:tblGrid>
                <a:gridCol w="216000"/>
                <a:gridCol w="1651680"/>
                <a:gridCol w="2865600"/>
                <a:gridCol w="2794320"/>
                <a:gridCol w="244800"/>
              </a:tblGrid>
              <a:tr h="1191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there information you wish to access via the Internet that you have not been able to locate or use?  n=1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, What They Couldn’t Fi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who gave text answers: 27 out of 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needs PHIA can’t address: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s PHIA can addres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urnal articles (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chem/engineering info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y info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er Health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oratory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457200" y="762120"/>
          <a:ext cx="8381880" cy="5533920"/>
        </p:xfrm>
        <a:graphic>
          <a:graphicData uri="http://schemas.openxmlformats.org/drawingml/2006/table">
            <a:tbl>
              <a:tblPr/>
              <a:tblGrid>
                <a:gridCol w="264960"/>
                <a:gridCol w="1721160"/>
                <a:gridCol w="3103560"/>
                <a:gridCol w="3027240"/>
                <a:gridCol w="264960"/>
              </a:tblGrid>
              <a:tr h="22269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nking back on the past work week, were there any times when you needed information (in any format) to accomplish a job-related task, but were unable to obtain the information? n=1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0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04920" y="304920"/>
          <a:ext cx="8613720" cy="6659280"/>
        </p:xfrm>
        <a:graphic>
          <a:graphicData uri="http://schemas.openxmlformats.org/drawingml/2006/table">
            <a:tbl>
              <a:tblPr/>
              <a:tblGrid>
                <a:gridCol w="1590840"/>
                <a:gridCol w="3342600"/>
                <a:gridCol w="1442520"/>
                <a:gridCol w="2022480"/>
                <a:gridCol w="216000"/>
              </a:tblGrid>
              <a:tr h="1329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barriers did you encounter to obtaining the information? Please check all that apply.</a:t>
                      </a:r>
                      <a:br>
                        <a:rPr sz="2400"/>
                      </a:br>
                      <a:br>
                        <a:rPr sz="1000"/>
                      </a:b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=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(x/18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unable to locate a source for the information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as able to locate a source, but not able to obtain the sourc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did not have time to complete the tas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source was too expensiv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problems. Please list below.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was not sure of where to look.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experienced in where and how to locate programs offering data (1)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Information was too generic/ consumer oriented (1)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ronic Tutorial Inte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7772400" cy="4172040"/>
        </p:xfrm>
        <a:graphic>
          <a:graphicData uri="http://schemas.openxmlformats.org/drawingml/2006/table">
            <a:tbl>
              <a:tblPr/>
              <a:tblGrid>
                <a:gridCol w="4541760"/>
                <a:gridCol w="1614600"/>
                <a:gridCol w="1616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=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refresher after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 a substitute to attending a live c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or training demonstra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employees are highly skilled and  confident using the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 resources underuti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librarian and library collections needed to overcome information barrier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time to se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knowing where to l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money for fee bas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SLS  200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U of Pittsburgh and UP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– 25 professional librarians, 36 support and technical staff, plus student assis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– app. 200,000 books, 2,600 journal subscriptions, 2,000 Audiovisuals, 1,700 educational softwar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8 (99%) of core PH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9 PH specialty journ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Training Nee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s on classes– 7 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Med - Internet I  &amp; 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sources -Evidence Based Public Health – Consumer Health – Grant Funding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il – Tuesday Info Ti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Internet search tips, sent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purpose: increase program vi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ressing Information Barri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 search requests/year, 30 other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article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0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 bor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 use, stats not retriev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IA web 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hsls.pitt.edu/phi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homepage" descr=""/>
          <p:cNvPicPr/>
          <p:nvPr/>
        </p:nvPicPr>
        <p:blipFill>
          <a:blip r:embed="rId1"/>
          <a:stretch/>
        </p:blipFill>
        <p:spPr>
          <a:xfrm>
            <a:off x="866880" y="152280"/>
            <a:ext cx="74102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Links%20Page" descr=""/>
          <p:cNvPicPr/>
          <p:nvPr/>
        </p:nvPicPr>
        <p:blipFill>
          <a:blip r:embed="rId1"/>
          <a:stretch/>
        </p:blipFill>
        <p:spPr>
          <a:xfrm>
            <a:off x="866880" y="-9360"/>
            <a:ext cx="741024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Injury%20Prevention" descr=""/>
          <p:cNvPicPr/>
          <p:nvPr/>
        </p:nvPicPr>
        <p:blipFill>
          <a:blip r:embed="rId1"/>
          <a:stretch/>
        </p:blipFill>
        <p:spPr>
          <a:xfrm>
            <a:off x="990720" y="285840"/>
            <a:ext cx="70866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Contin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contract for document delivery cover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 funded through the  Center for Public Health Practice, GSPH, University of Pittsbur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going Goals of PH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nhanced library services to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the academic/practitioner partnership model for library servi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 findings to other health departments and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has been funded with Federal funds from the National Library of Medicine, National Institutes of Health, under Contract No. N01-LM-352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s:  Barbara Folb, MLS,  Barbara Epstein, M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further information contact Barbara Folb,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folb@pitt.ed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IA Steering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ce Kindling, Trai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Schwartz, Policy Development and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S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Epstein,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y Tannery, Associate Director for Inform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bara Folb, Public Health Libr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ccessful Program Characterist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name recognition at AC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potential access to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use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t Funding Al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LM 18 month grant, March 1, 2003- August 31, 20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rarian/Project Manager 2 days/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, training, 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copy service support (journal articles, book chapter cop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itial PHIA Surv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it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/August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ublicity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1 responses  from a possible 350 (ap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rvey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ce in Internet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use of specific web resources and search eng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informa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urvey Result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et 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9:33:21Z</dcterms:created>
  <dc:creator>techuser</dc:creator>
  <dc:description/>
  <dc:language>en-US</dc:language>
  <cp:lastModifiedBy>techuser</cp:lastModifiedBy>
  <dcterms:modified xsi:type="dcterms:W3CDTF">2004-11-04T20:31:50Z</dcterms:modified>
  <cp:revision>18</cp:revision>
  <dc:subject/>
  <dc:title>PowerPoint Presentation</dc:title>
</cp:coreProperties>
</file>