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FC2-071C-41C4-95DD-841B4810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B50-3B32-4330-9EF4-1614EB29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9723-101D-4751-AB75-F9BEFEAA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31E-B159-4854-B010-92212329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3B18-09DD-44B2-9399-078ACF13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DCC-4C7E-4571-958F-D4B66CFC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68B-C449-4AEF-AAF3-C9952824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3FF1-B1E1-4B20-861D-FB78A3CC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164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A3E-EC43-4D10-8D55-B86FC74E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3311-D81A-4E2A-81BB-683DAC21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83A-34BE-481A-8469-38091874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BC20-02D1-4D15-BB8E-D4E2DFD0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000" y="5165280"/>
            <a:ext cx="23482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360" y="5165280"/>
            <a:ext cx="319500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5165280"/>
            <a:ext cx="23482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E52735-4713-4667-A604-5F3B9A3C2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Normal.eit</Template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2T07:18:23Z</dcterms:created>
  <dc:creator>Cynthia</dc:creator>
  <dc:description/>
  <dc:language>en-US</dc:language>
  <cp:lastModifiedBy>Cynthia</cp:lastModifiedBy>
  <dcterms:modified xsi:type="dcterms:W3CDTF">2019-04-02T07:18:47Z</dcterms:modified>
  <cp:revision>0</cp:revision>
  <dc:subject/>
  <dc:title/>
</cp:coreProperties>
</file>